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523520" y="609120"/>
            <a:ext cx="39625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CF46BDC9-AB0E-4DF1-B057-409D1CEE9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280" y="8818560"/>
            <a:ext cx="6715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stics for Managers Using Microsoft Excel, 4/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Prentice 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7630-37A2-4CA5-8F79-FD9D88528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47D4-2367-402E-95EC-DDC11F8B9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20B5-74F4-4022-A1E8-0406DCEC3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EEC9-469F-4B33-ABB1-173A416C1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88E78-1E74-4A14-85DC-3153FE4616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FD865-CE28-4053-B134-61E0656F04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22963-8668-4363-8D0A-FAD090119F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E3FBB-FAFA-4F35-B98D-672F1008D4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24876-A17E-4879-A17D-AE4C19FC3A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93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42577-F2B1-4847-9239-592F1FDD2C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A1E67-35B9-4181-8635-2162FDBA12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A960-4132-4ED8-BFE9-2E936F812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C1F08-D34C-47A6-A176-27E9006239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AF6F1-9D81-438D-99D1-939E65F496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2D6DC-3DB6-4BA0-A5F2-0E1070FC61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F717E-C247-44F3-9F97-97F435E24C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EA0B5-D748-4B75-8364-A11486813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4E2D-5D2A-4447-8FCE-AD1BC5D46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F742-039C-4698-89D0-01797FE7B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557C-D019-4D36-8280-DE95933B2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93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627C-BA56-4309-B24A-712E1A59C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184B-A853-4B9E-9510-E2140302C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6661-CDC3-4C44-9EA8-9D09FB522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7FEE-DB26-4CE3-8634-7FD0FE8F6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3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4-</a:t>
            </a:r>
            <a:fld id="{07C9C219-56C7-4027-808B-7861233A51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2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4-</a:t>
            </a:r>
            <a:fld id="{5B222C61-1960-425A-9497-33E9A8FE03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600200" y="3505320"/>
            <a:ext cx="6477120" cy="2442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asic Probabilit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1EF0E-925E-414D-BA88-67016CD630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219320" y="5486400"/>
            <a:ext cx="4343400" cy="1066680"/>
          </a:xfrm>
          <a:prstGeom prst="rect">
            <a:avLst/>
          </a:prstGeom>
          <a:solidFill>
            <a:srgbClr val="cbd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abilit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5627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is the numerical measure of the likelihood that an event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any event must be between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probabilities of all mutually exclusive and collectively exhaustive events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1976400"/>
            <a:ext cx="1076400" cy="3938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5786280"/>
            <a:ext cx="1523880" cy="3938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3805200"/>
            <a:ext cx="466560" cy="4546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1976400"/>
            <a:ext cx="381240" cy="4546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15120" y="5786280"/>
            <a:ext cx="390600" cy="4546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2209680"/>
            <a:ext cx="0" cy="381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2209680"/>
            <a:ext cx="59040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60199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7080" y="4038480"/>
            <a:ext cx="590400" cy="0"/>
          </a:xfrm>
          <a:prstGeom prst="line">
            <a:avLst/>
          </a:prstGeom>
          <a:ln w="38160">
            <a:solidFill>
              <a:srgbClr val="c6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2209680"/>
            <a:ext cx="304920" cy="38102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755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3733920"/>
            <a:ext cx="4267080" cy="459720"/>
          </a:xfrm>
          <a:prstGeom prst="rect">
            <a:avLst/>
          </a:prstGeom>
          <a:solidFill>
            <a:srgbClr val="cbd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P(A) ≤ 1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any even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76520" y="5791320"/>
                <a:ext cx="2808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6317-878D-465A-A37F-89ECAA2AEE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71600" y="2511360"/>
            <a:ext cx="7391520" cy="9176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ing Joint and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rginal Probabil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86804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of a joint event, A and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ing a marginal prob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k mutually exclusive and collectively exhaustiv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523880" y="2590920"/>
                <a:ext cx="70502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tisfying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mentar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371600" y="4944960"/>
                <a:ext cx="7346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8155-392E-49DD-B489-3C1E80AD94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505320" y="3581280"/>
            <a:ext cx="2514600" cy="914400"/>
          </a:xfrm>
          <a:prstGeom prst="rect">
            <a:avLst/>
          </a:prstGeom>
          <a:solidFill>
            <a:srgbClr val="cbdd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3581280"/>
            <a:ext cx="1752840" cy="198144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4419720"/>
            <a:ext cx="68580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95680" y="2971800"/>
            <a:ext cx="1981440" cy="1676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Joint Probability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1828800"/>
            <a:ext cx="251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01320" y="403848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5029200"/>
            <a:ext cx="120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581280"/>
            <a:ext cx="1076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4080" y="3886200"/>
            <a:ext cx="979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4280" y="403848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86440" y="391968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06480" y="4530600"/>
            <a:ext cx="8092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e4a8"/>
                </a:solidFill>
                <a:latin typeface="Arial"/>
              </a:rPr>
              <a:t>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46320" y="45194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61000" y="4502160"/>
            <a:ext cx="1206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76800" y="45194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23040" y="45194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07920" y="5087880"/>
            <a:ext cx="158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n-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49840" y="50767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9960" y="50767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27640" y="50767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06480" y="564660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49840" y="56358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9960" y="56358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56358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24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44956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358128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40384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05320" y="358128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52480" y="556272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52480" y="502920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3581280"/>
            <a:ext cx="533412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5638680"/>
            <a:ext cx="6098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3581280"/>
            <a:ext cx="25146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3880" y="2341440"/>
                <a:ext cx="5410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cards that are red and a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car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219320" y="16765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9E8B-BF2D-47A7-9F82-5869913E25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505320" y="3581280"/>
            <a:ext cx="2514600" cy="9144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3581280"/>
            <a:ext cx="1752840" cy="198144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72200" y="4419720"/>
            <a:ext cx="68580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781320" y="3048120"/>
            <a:ext cx="762120" cy="1447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arginal Probability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1828800"/>
            <a:ext cx="251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01320" y="403848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5029200"/>
            <a:ext cx="120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3581280"/>
            <a:ext cx="1076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4080" y="3886200"/>
            <a:ext cx="979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34280" y="403848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86440" y="391968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806480" y="4530600"/>
            <a:ext cx="8092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e4a8"/>
                </a:solidFill>
                <a:latin typeface="Arial"/>
              </a:rPr>
              <a:t>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46320" y="45194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61000" y="4502160"/>
            <a:ext cx="1206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76800" y="45194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23040" y="45194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07920" y="5087880"/>
            <a:ext cx="158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n-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49840" y="50767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9960" y="50767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27640" y="50767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06480" y="564660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56358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79960" y="56358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7640" y="56358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24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4495680"/>
            <a:ext cx="531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3606840"/>
            <a:ext cx="0" cy="25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40384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358128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556272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52480" y="502920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52480" y="3581280"/>
            <a:ext cx="533412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5638680"/>
            <a:ext cx="6098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3581280"/>
            <a:ext cx="25146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457280" y="2341440"/>
                <a:ext cx="64674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c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c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lac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1219320" y="1676520"/>
            <a:ext cx="67816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C0CA2-8872-4ACD-9D49-202EF9EB75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523880" y="2133720"/>
            <a:ext cx="6172200" cy="28191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90920" y="4343400"/>
            <a:ext cx="3962160" cy="609480"/>
          </a:xfrm>
          <a:prstGeom prst="rect">
            <a:avLst/>
          </a:prstGeom>
          <a:solidFill>
            <a:srgbClr val="85e5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3048120"/>
            <a:ext cx="1143000" cy="1295280"/>
          </a:xfrm>
          <a:prstGeom prst="rect">
            <a:avLst/>
          </a:prstGeom>
          <a:solidFill>
            <a:srgbClr val="85e5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3048120"/>
            <a:ext cx="3962160" cy="1295280"/>
          </a:xfrm>
          <a:prstGeom prst="rect">
            <a:avLst/>
          </a:prstGeom>
          <a:solidFill>
            <a:srgbClr val="cbd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3201840"/>
            <a:ext cx="2057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05720" y="3201840"/>
            <a:ext cx="99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23640" y="2584440"/>
            <a:ext cx="1030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50520" y="2611440"/>
            <a:ext cx="1045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Joint Probabilities Using Contingency Tab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8680" y="3813120"/>
            <a:ext cx="2054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68680" y="3201840"/>
            <a:ext cx="213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02840" y="2143080"/>
            <a:ext cx="1149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19920" y="4405320"/>
            <a:ext cx="1030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99400" y="439416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5562720"/>
            <a:ext cx="289548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t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57640" y="5479920"/>
            <a:ext cx="4761000" cy="454680"/>
          </a:xfrm>
          <a:prstGeom prst="rect">
            <a:avLst/>
          </a:prstGeom>
          <a:solidFill>
            <a:srgbClr val="85e5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ginal (Simple)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01640" y="3201840"/>
            <a:ext cx="911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1640" y="3811680"/>
            <a:ext cx="835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2590920"/>
            <a:ext cx="1140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5560" y="2592360"/>
            <a:ext cx="1139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4421160"/>
            <a:ext cx="1903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4421160"/>
            <a:ext cx="1827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49760" y="3809880"/>
            <a:ext cx="2284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05720" y="3811680"/>
            <a:ext cx="1066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133360" y="3581280"/>
            <a:ext cx="685800" cy="198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14680" y="4724280"/>
            <a:ext cx="614520" cy="30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4800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213372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2590920"/>
            <a:ext cx="396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434340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3733920"/>
            <a:ext cx="6172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304812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495288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21337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90920" y="21337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2133720"/>
            <a:ext cx="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2590920"/>
            <a:ext cx="0" cy="23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5410080" y="41911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133720" y="4114800"/>
            <a:ext cx="259056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957F-24A4-4166-9771-F3B23D6367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eneral Addition Ru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23880" y="2514600"/>
            <a:ext cx="6248520" cy="5155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A or B) = P(A) + P(B) - P(A and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14400" y="1828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al Addi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3706920"/>
            <a:ext cx="723924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 A and B are mutually exclu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A and B) = 0, so the rule can be simpl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4925880"/>
            <a:ext cx="6248520" cy="5155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(A or B) = P(A) + P(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A344-5784-4402-AEEA-FC466C4EB3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eneral Addition Rule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05320" y="3352680"/>
            <a:ext cx="2514600" cy="9144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52480" y="3352680"/>
            <a:ext cx="1752840" cy="198144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4191120"/>
            <a:ext cx="685800" cy="1218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09880" y="4267080"/>
            <a:ext cx="1981440" cy="609840"/>
          </a:xfrm>
          <a:prstGeom prst="ellipse">
            <a:avLst/>
          </a:prstGeom>
          <a:noFill/>
          <a:ln w="25560">
            <a:solidFill>
              <a:srgbClr val="04e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2971800"/>
            <a:ext cx="457200" cy="1295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2971800"/>
            <a:ext cx="152640" cy="1295280"/>
          </a:xfrm>
          <a:prstGeom prst="line">
            <a:avLst/>
          </a:prstGeom>
          <a:ln w="19080">
            <a:solidFill>
              <a:srgbClr val="04e05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1908000"/>
            <a:ext cx="762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P(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2590920"/>
            <a:ext cx="670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+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-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52  =  28/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15200" y="2971800"/>
            <a:ext cx="1523880" cy="100368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n’t count the two red aces twi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190760" y="3048120"/>
            <a:ext cx="1143000" cy="1371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01320" y="380988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724280" y="4800600"/>
            <a:ext cx="120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91120" y="3352680"/>
            <a:ext cx="10760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34080" y="3657600"/>
            <a:ext cx="979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34280" y="3809880"/>
            <a:ext cx="75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86440" y="369108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06480" y="4302000"/>
            <a:ext cx="8092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46320" y="42908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61000" y="4273560"/>
            <a:ext cx="1206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76800" y="42908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23040" y="429084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07920" y="4859280"/>
            <a:ext cx="1587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n-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49840" y="48481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79960" y="48481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27640" y="484812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06480" y="541800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54072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79960" y="54072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27640" y="5407200"/>
            <a:ext cx="562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24280" y="38098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4267080"/>
            <a:ext cx="531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9920" y="3378240"/>
            <a:ext cx="0" cy="2546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380988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335268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52480" y="533412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480060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52480" y="3352680"/>
            <a:ext cx="533412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09880" y="5410080"/>
            <a:ext cx="6098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57800" y="2590920"/>
            <a:ext cx="762120" cy="457200"/>
          </a:xfrm>
          <a:prstGeom prst="rect">
            <a:avLst/>
          </a:prstGeom>
          <a:noFill/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3352680"/>
            <a:ext cx="2514600" cy="91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6019920" y="2971440"/>
            <a:ext cx="1295280" cy="3049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F623-294B-46BD-891B-E42F6DB414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uting Conditional Probabilit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ditional 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bability of one event, given that another event has occur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724120" y="2666880"/>
                <a:ext cx="33717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705040" y="4038480"/>
                <a:ext cx="33717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1676520" y="5334120"/>
            <a:ext cx="65530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P(A and B) = joint probability of A and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) = marginal probability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B) = marginal probability of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372C-C401-4213-B013-10503CB1FA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33520" y="358092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probability that a car has a CD player, given that it has AC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we want to find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(CD | 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ditional Probability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828800"/>
            <a:ext cx="8077320" cy="12952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cars on a used car lot, 70% have air conditioning (AC) and 40% have a CD player (CD).  20% of the cars have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6D176-4EE5-4010-BBBA-114E3709D6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581280" y="3200400"/>
            <a:ext cx="2514600" cy="10666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81280" y="2743200"/>
            <a:ext cx="3581640" cy="457200"/>
          </a:xfrm>
          <a:prstGeom prst="rect">
            <a:avLst/>
          </a:prstGeom>
          <a:solidFill>
            <a:srgbClr val="c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3200400"/>
            <a:ext cx="1752480" cy="1676520"/>
          </a:xfrm>
          <a:prstGeom prst="rect">
            <a:avLst/>
          </a:prstGeom>
          <a:solidFill>
            <a:srgbClr val="c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ditional Probability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77640" y="2743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00600" y="3733920"/>
            <a:ext cx="120636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10960" y="274320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1120" y="2743200"/>
            <a:ext cx="91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883160" y="3235320"/>
            <a:ext cx="675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180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36960" y="3206880"/>
            <a:ext cx="1206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8112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00080" y="32004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83520" y="3792600"/>
            <a:ext cx="1226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 A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25440" y="378144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155560" y="378144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00080" y="3809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82800" y="435132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25440" y="4340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55560" y="4340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03600" y="4340160"/>
            <a:ext cx="658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00600" y="2743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28800" y="3200400"/>
            <a:ext cx="531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95880" y="2743200"/>
            <a:ext cx="0" cy="211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2743200"/>
            <a:ext cx="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42670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28800" y="37339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828800" y="2743200"/>
            <a:ext cx="5334120" cy="213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86200" y="43434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1523880"/>
            <a:ext cx="807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cars on a used car lot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ir conditioning (AC) and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CD player (CD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ars have bo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0400" y="2209680"/>
            <a:ext cx="914400" cy="2286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638680" y="1905120"/>
            <a:ext cx="914400" cy="1523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2590920"/>
            <a:ext cx="2133360" cy="838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046160" y="5181480"/>
                <a:ext cx="69771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3C532-A486-4095-BB8B-6CC32D26FE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basic probability concepts and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ntingency tables to view a sampl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common rules of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conditional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ether events are statistically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ayes’ Theorem for conditional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418B-19FB-47D4-B012-20D9520038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1828800" y="3048120"/>
            <a:ext cx="5334120" cy="53316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ditional Probability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77640" y="259092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581280"/>
            <a:ext cx="1206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10960" y="259092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71120" y="2590920"/>
            <a:ext cx="91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883160" y="3083040"/>
            <a:ext cx="675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6180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836960" y="3054240"/>
            <a:ext cx="120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8112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00080" y="304812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83520" y="3639960"/>
            <a:ext cx="1226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 A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25440" y="3629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55560" y="362916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00080" y="365760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82800" y="4199040"/>
            <a:ext cx="999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25440" y="4187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55560" y="4187880"/>
            <a:ext cx="468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324120" y="4191120"/>
            <a:ext cx="6584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25909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28800" y="3048120"/>
            <a:ext cx="5315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5880" y="2590920"/>
            <a:ext cx="0" cy="21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581280" y="2590920"/>
            <a:ext cx="0" cy="213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28800" y="411480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28800" y="35812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2590920"/>
            <a:ext cx="5334120" cy="2133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86200" y="4191120"/>
            <a:ext cx="6094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16765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iven 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 only consider the top row (70% of the cars). Of these, 20% have a CD player.  20% of 70% is about 28.57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046160" y="5029200"/>
                <a:ext cx="6977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3886200" y="3048120"/>
            <a:ext cx="609480" cy="5331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324480" y="3048120"/>
            <a:ext cx="609840" cy="5331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495680" y="3429000"/>
            <a:ext cx="1752840" cy="1600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3581280"/>
            <a:ext cx="0" cy="1447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5029200"/>
            <a:ext cx="761760" cy="11430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03DDF-5A6A-455A-8750-AF218818E4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867280" y="2743200"/>
            <a:ext cx="2438640" cy="609480"/>
          </a:xfrm>
          <a:prstGeom prst="rect">
            <a:avLst/>
          </a:prstGeom>
          <a:solidFill>
            <a:srgbClr val="cbd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4648320"/>
            <a:ext cx="2438640" cy="609480"/>
          </a:xfrm>
          <a:prstGeom prst="rect">
            <a:avLst/>
          </a:prstGeom>
          <a:solidFill>
            <a:srgbClr val="85e5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5791320"/>
            <a:ext cx="2438640" cy="609480"/>
          </a:xfrm>
          <a:prstGeom prst="rect">
            <a:avLst/>
          </a:prstGeom>
          <a:solidFill>
            <a:srgbClr val="85e5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67280" y="1752480"/>
            <a:ext cx="2438640" cy="609840"/>
          </a:xfrm>
          <a:prstGeom prst="rect">
            <a:avLst/>
          </a:prstGeom>
          <a:solidFill>
            <a:srgbClr val="cbd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Decision Tre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762120" y="2590560"/>
            <a:ext cx="32763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62120" y="4038480"/>
            <a:ext cx="32763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38480" y="2590920"/>
            <a:ext cx="17528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038480" y="548640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038480" y="495288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4038480" y="2041560"/>
            <a:ext cx="17528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20157000">
            <a:off x="1066680" y="3200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1382400">
            <a:off x="1065960" y="44953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have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20598000">
            <a:off x="4114800" y="1949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993000">
            <a:off x="4114440" y="28033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have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20598000">
            <a:off x="4114800" y="4844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993000">
            <a:off x="4114440" y="56988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have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20160000">
            <a:off x="2133720" y="2590560"/>
            <a:ext cx="1403280" cy="3988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C)= 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1460400">
            <a:off x="2285280" y="5105160"/>
            <a:ext cx="1371600" cy="3988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C’)= 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1828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C and CD) = 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867280" y="28954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C and CD’) = 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67280" y="58514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867280" y="47084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D) = 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5334120" y="3048120"/>
                <a:ext cx="369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5334120" y="4267080"/>
                <a:ext cx="369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345280" y="5943600"/>
                <a:ext cx="369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152280" y="3733920"/>
            <a:ext cx="7621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345280" y="1371600"/>
                <a:ext cx="369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22860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iven AC or no A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AECB-726A-4C0F-8C0D-1FADA90414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5867280" y="2743200"/>
            <a:ext cx="2438640" cy="6094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867280" y="4648320"/>
            <a:ext cx="2438640" cy="609480"/>
          </a:xfrm>
          <a:prstGeom prst="rect">
            <a:avLst/>
          </a:prstGeom>
          <a:solidFill>
            <a:srgbClr val="85e5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5791320"/>
            <a:ext cx="2438640" cy="609480"/>
          </a:xfrm>
          <a:prstGeom prst="rect">
            <a:avLst/>
          </a:prstGeom>
          <a:solidFill>
            <a:srgbClr val="85e5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67280" y="1752480"/>
            <a:ext cx="2438640" cy="60984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Decision Tre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762120" y="2590560"/>
            <a:ext cx="32763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4038480"/>
            <a:ext cx="32763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038480" y="2590920"/>
            <a:ext cx="17528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548640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038480" y="495288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038480" y="2041560"/>
            <a:ext cx="17528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20157000">
            <a:off x="1066680" y="3200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382400">
            <a:off x="1065960" y="44953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have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20598000">
            <a:off x="4114800" y="1949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993000">
            <a:off x="4114440" y="28033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have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20598000">
            <a:off x="4114800" y="4844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993000">
            <a:off x="4114440" y="56988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have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20160000">
            <a:off x="2133720" y="2590560"/>
            <a:ext cx="1403280" cy="3988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CD)= 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1460400">
            <a:off x="2279160" y="5133600"/>
            <a:ext cx="1511280" cy="3988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CD’)= 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1828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CD and AC) = 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867280" y="28954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CD and AC’) = 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58514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867280" y="470844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C) = 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5334120" y="3048120"/>
                <a:ext cx="369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334120" y="4267080"/>
                <a:ext cx="369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345280" y="5943600"/>
                <a:ext cx="369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152280" y="3733920"/>
            <a:ext cx="7621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345280" y="1371600"/>
                <a:ext cx="369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22860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iven CD or no C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5F0F-5056-4B92-A2F7-44A632F7AB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atistical Independe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vents ar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and only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 and B are independent when the probability of one event is not affected by the other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629080" y="2819520"/>
                <a:ext cx="2971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629080" y="4114800"/>
                <a:ext cx="3009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1705-A348-4398-A958-220C2B97DF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533520" y="4114800"/>
            <a:ext cx="8305560" cy="1828800"/>
          </a:xfrm>
          <a:prstGeom prst="rect">
            <a:avLst/>
          </a:prstGeom>
          <a:solidFill>
            <a:srgbClr val="cbd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ultiplication Ru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2120760"/>
            <a:ext cx="7696440" cy="587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 rule for two events A and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925640" y="2730600"/>
                <a:ext cx="5702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and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33960" y="4276800"/>
                <a:ext cx="2181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>
            <a:off x="609480" y="4191120"/>
            <a:ext cx="769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A and B are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457200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multiplication rule simplifie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2562120" y="5237280"/>
                <a:ext cx="4476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and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86FE-7EAD-44C5-9CC9-36FFF517A0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ayes’ Theore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nt of k mutually exclusive and collectiv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austiv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new event that might impact P(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380880" y="2133720"/>
                <a:ext cx="84819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75FB-A828-431D-9E30-7DD4A58BC2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ayes’ Theorem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illing company has estimated a 40% chance of striking oil for their new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tailed test has been scheduled for more information. Historically, 60% of successful wells have had detailed tests, and 20% of unsuccessful wells have had detailed tes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at this well has been scheduled for a detailed test, what is the prob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3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he well will be success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6934320" y="5486400"/>
            <a:ext cx="1371600" cy="12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50C8-6A81-439C-AECF-C6595FADD5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1142640" y="1952280"/>
            <a:ext cx="7620120" cy="4295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 = successful w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 = unsuccessful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S) = .4 , P(U) = .6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ior probab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detailed test event as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proba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1400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D|S) = .6          P(D|U) = 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al is to find   P(S|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43000" y="38088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ayes’ Theorem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7620120" y="1905120"/>
            <a:ext cx="1295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812AF-B4CB-43DD-8AB0-B617FB4E40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905120" y="2286000"/>
                <a:ext cx="567360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1143000" y="38088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ayes’ Theorem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14400" y="17445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Bayes’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837720" y="5638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 revised probability of success, given that this well has been scheduled for a detailed test, is .6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1219320" cy="10810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4952880" y="4495680"/>
            <a:ext cx="83844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DA40-A5EA-4912-806F-4CC2C1D7A8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1846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detailed test, the revised probability of a successful well has risen to .667 from the original estimate of 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43000" y="380880"/>
            <a:ext cx="779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ayes’ Theorem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33520" y="4038480"/>
          <a:ext cx="8305560" cy="1662120"/>
        </p:xfrm>
        <a:graphic>
          <a:graphicData uri="http://schemas.openxmlformats.org/drawingml/2006/table">
            <a:tbl>
              <a:tblPr/>
              <a:tblGrid>
                <a:gridCol w="1828800"/>
                <a:gridCol w="1295280"/>
                <a:gridCol w="1727280"/>
                <a:gridCol w="1625400"/>
                <a:gridCol w="1828800"/>
              </a:tblGrid>
              <a:tr h="7282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 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45072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ccessfu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*.6 = .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/.36 = .66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48312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successfu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*.2 = .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/.36 = .33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568" name=""/>
          <p:cNvSpPr/>
          <p:nvPr/>
        </p:nvSpPr>
        <p:spPr>
          <a:xfrm>
            <a:off x="5486400" y="5867280"/>
            <a:ext cx="228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 = .36 = P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40080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153280" y="4724280"/>
            <a:ext cx="609840" cy="5335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0" y="2819520"/>
            <a:ext cx="1447920" cy="19047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248520" y="2209680"/>
            <a:ext cx="761760" cy="6858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7696080" y="2844720"/>
            <a:ext cx="129564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185B-890C-435A-8491-1C2AAF21EF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mportant Term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chance that an uncertain event will occur (always between 0 and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ach possible type of occurrence or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mple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n event that can be described by a single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collection of all possibl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867D-E707-4B16-8A26-F47A53EA5DC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basic probabilit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paces and events, contingency tables, simple, joint, marginal and conditional probab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d basic probability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addition rule, addition rule for mutually exclusive events, rule for collectively exhaustiv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conditional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independence, marginal probability, decision trees, and the multiplicatio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Bayes’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6AE2-1049-4BB3-A164-0BD24EAF41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ssessing Probabilit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approaches to assessing the probability of an uncertain ev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a priori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classical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mpirical classical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bjective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ndividual judgment or opinion about the probability of occur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92400" y="3124080"/>
                <a:ext cx="65898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abilit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ccurrence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y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ccu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mentar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4495680"/>
                <a:ext cx="62755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abilit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ccurre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vorab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bserv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bserve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1905120" y="3048120"/>
            <a:ext cx="7086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4419720"/>
            <a:ext cx="7086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5638680"/>
            <a:ext cx="7086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8127-5FED-4893-BB70-B708875BDF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rot="18857400">
            <a:off x="5976000" y="507240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5328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3200400"/>
            <a:ext cx="68580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350532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67520" y="33591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36576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18360" y="33465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8012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3900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992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152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10480" y="3352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152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104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152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104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35053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e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8857400">
            <a:off x="6051960" y="4996080"/>
            <a:ext cx="685800" cy="1513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3080"/>
              <a:gd name="textAreaBottom" fmla="*/ 1479600 h 1513080"/>
            </a:gdLst>
            <a:ahLst/>
            <a:rect l="textAreaLeft" t="textAreaTop" r="textAreaRight" b="textAreaBottom"/>
            <a:pathLst>
              <a:path w="21600" h="47642">
                <a:moveTo>
                  <a:pt x="3600" y="0"/>
                </a:moveTo>
                <a:arcTo wR="3600" hR="3600" stAng="16200000" swAng="-5400000"/>
                <a:lnTo>
                  <a:pt x="0" y="44042"/>
                </a:lnTo>
                <a:arcTo wR="3600" hR="3600" stAng="10800000" swAng="-5400000"/>
                <a:lnTo>
                  <a:pt x="18000" y="4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8857400">
            <a:off x="6128280" y="492012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8857400">
            <a:off x="6128280" y="492012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857400">
            <a:off x="6204600" y="4843800"/>
            <a:ext cx="685800" cy="15127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512720"/>
              <a:gd name="textAreaBottom" fmla="*/ 1479240 h 1512720"/>
            </a:gdLst>
            <a:ahLst/>
            <a:rect l="textAreaLeft" t="textAreaTop" r="textAreaRight" b="textAreaBottom"/>
            <a:pathLst>
              <a:path w="21600" h="47631">
                <a:moveTo>
                  <a:pt x="3600" y="0"/>
                </a:moveTo>
                <a:arcTo wR="3600" hR="3600" stAng="16200000" swAng="-5400000"/>
                <a:lnTo>
                  <a:pt x="0" y="44031"/>
                </a:lnTo>
                <a:arcTo wR="3600" hR="3600" stAng="10800000" swAng="-5400000"/>
                <a:lnTo>
                  <a:pt x="18000" y="47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867280" y="4495680"/>
          <a:ext cx="26798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495680"/>
                    <a:ext cx="2679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143000" y="1600200"/>
            <a:ext cx="7772400" cy="31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lection of all    possibl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ll 6 faces of a d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ll 52 cards of a bridge de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D705-9631-450B-9CAA-16BD6781F58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ven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mple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utcome from a sample space with one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A red card from a deck of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plement of an event A  (denoted A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utcomes that are not part of even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All cards that are not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oint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two or more characteristic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An ace that is also red from a deck of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C0E9-8D65-4D0F-B9A6-E4E9B3D23B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724280" y="2209680"/>
            <a:ext cx="2438640" cy="5335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743200"/>
            <a:ext cx="1143000" cy="914400"/>
          </a:xfrm>
          <a:prstGeom prst="rect">
            <a:avLst/>
          </a:prstGeom>
          <a:solidFill>
            <a:srgbClr val="cbdd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095640" y="5181480"/>
            <a:ext cx="162864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5715000"/>
            <a:ext cx="1676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isualizing Even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gency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e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2209680"/>
            <a:ext cx="510552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1120" y="3117960"/>
            <a:ext cx="465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             2            24                26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1120" y="2736720"/>
            <a:ext cx="466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           2            24               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27432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365760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3657600"/>
            <a:ext cx="4889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otal             4            48                5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2209680"/>
            <a:ext cx="518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e        Not Ace      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5257800"/>
            <a:ext cx="1600200" cy="6436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ll De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f 52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663000">
            <a:off x="3276720" y="5943600"/>
            <a:ext cx="144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0814000">
            <a:off x="3123720" y="5029200"/>
            <a:ext cx="160020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952880" y="4723920"/>
            <a:ext cx="1600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5181480"/>
            <a:ext cx="16002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634200">
            <a:off x="4952880" y="6248160"/>
            <a:ext cx="167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an 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0792400">
            <a:off x="5105520" y="4572000"/>
            <a:ext cx="838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1247200">
            <a:off x="5105160" y="556272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91000">
            <a:off x="4875120" y="5181120"/>
            <a:ext cx="167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n 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952880" y="579096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6095880"/>
            <a:ext cx="1600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5943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22096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220968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22096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480060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5105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343400"/>
            <a:ext cx="914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358128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7848360" y="4114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32004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4419720"/>
            <a:ext cx="6094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8699-1D99-4839-A3FD-26B84B7D13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47920" y="3962520"/>
            <a:ext cx="6248160" cy="6094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pecial Even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utually exclu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that cannot occur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queen of diamonds;  B = queen of cl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 and B are mutually 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7B33-9AB4-4F2D-9BB8-3CBCEB0CF3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438280" y="3505320"/>
            <a:ext cx="396252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pecial Even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llectively exhaus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events must occ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events covers the entire sampl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aces; B = black card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diamonds; D = he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, B, C and D are collectively exhaustive (but not mutually exclusive – an ace may also be a he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B, C and D are collectively exhaustive and also mutually 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9963-9FE1-4DDF-88A5-D656A43070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16:24:06Z</dcterms:created>
  <dc:creator>Dirk Yandell</dc:creator>
  <dc:description/>
  <dc:language>en-US</dc:language>
  <cp:lastModifiedBy>HP Pavilion</cp:lastModifiedBy>
  <cp:lastPrinted>1998-11-22T23:37:53Z</cp:lastPrinted>
  <dcterms:modified xsi:type="dcterms:W3CDTF">2004-09-18T04:06:34Z</dcterms:modified>
  <cp:revision>56</cp:revision>
  <dc:subject>Chapter 4</dc:subject>
  <dc:title>Statistics for Managers Using Microsoft Excel, 4/e</dc:title>
</cp:coreProperties>
</file>