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523880" y="609120"/>
            <a:ext cx="38102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fld id="{45A9C7A2-A58D-4E71-B4CC-313E24C88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280" y="8818560"/>
            <a:ext cx="6715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stics for Managers Using Microsoft Excel, 4/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Prentice 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E45F-6655-462F-AA9D-EF9DDD732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9A18-A75E-45A9-841B-09D3726F5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0381-52BA-4ED7-BE4D-081B9FD63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DEBC-86A0-46B3-B689-30F694DE7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CFEEF-E5B8-4F1E-BC7B-54928F5A2F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B1123-CE9A-42BB-A53A-F6F972A1DA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23048-CD4E-45B6-B05F-6923AD15AB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8C20D-38EB-4D7B-A977-4F6D9E4218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41FDB-0F7C-4C5B-9734-B619492FED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920" y="228600"/>
            <a:ext cx="7383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28767-9A13-472D-B693-0BAAECE062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01273-08FA-4706-B495-B475121C38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EB6E-A359-44E5-B436-4F62E3100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9366D-D78E-46CB-B62C-50F97FA5D8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D0B6D-64D8-47FB-8117-0B9BB1D75D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818E4-A265-488B-ABEA-F05389DCB7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43E1C-ACFC-4F01-8EE0-518E56188E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CCCE7-519E-4796-A5EE-A85C5D353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76A3-045A-4443-8A97-4922498CF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4E8E-466F-4D6F-9795-FA9664FF9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60FF-8CF5-4697-A178-A100B5DAD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920" y="228600"/>
            <a:ext cx="7383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2D4A7-2CD0-473C-9E3A-636EC53FE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9B62-CBE3-48A0-8840-454FE9A14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2D50-4558-4460-AC34-7502FAC73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0C2B-D9B3-42D9-A7D3-BCD1E434C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3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6-</a:t>
            </a:r>
            <a:fld id="{41483AC0-4029-4F3C-B974-40351CEA0B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2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52280" y="653724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685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6-</a:t>
            </a:r>
            <a:fld id="{072AD43B-7D9D-4D88-A3C5-972831DA2A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934320" cy="2367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Normal Distribution and Other Continuous Distribu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A97F8-56B7-408B-90E0-CA1703E64E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0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Finding Normal Probabilities</a:t>
            </a: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6960" y="1798560"/>
            <a:ext cx="2805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 is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 under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94280" y="3610080"/>
            <a:ext cx="869760" cy="2041560"/>
          </a:xfrm>
          <a:custGeom>
            <a:avLst/>
            <a:gdLst/>
            <a:ahLst/>
            <a:rect l="l" t="t" r="r" b="b"/>
            <a:pathLst>
              <a:path w="548" h="1286">
                <a:moveTo>
                  <a:pt x="87" y="27"/>
                </a:moveTo>
                <a:lnTo>
                  <a:pt x="150" y="60"/>
                </a:lnTo>
                <a:lnTo>
                  <a:pt x="243" y="174"/>
                </a:lnTo>
                <a:lnTo>
                  <a:pt x="318" y="288"/>
                </a:lnTo>
                <a:lnTo>
                  <a:pt x="408" y="447"/>
                </a:lnTo>
                <a:lnTo>
                  <a:pt x="483" y="585"/>
                </a:lnTo>
                <a:lnTo>
                  <a:pt x="543" y="678"/>
                </a:lnTo>
                <a:lnTo>
                  <a:pt x="548" y="1286"/>
                </a:lnTo>
                <a:lnTo>
                  <a:pt x="0" y="1286"/>
                </a:lnTo>
                <a:lnTo>
                  <a:pt x="0" y="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41640" y="557676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13360" y="3606840"/>
            <a:ext cx="322200" cy="209520"/>
          </a:xfrm>
          <a:custGeom>
            <a:avLst/>
            <a:gdLst/>
            <a:ahLst/>
            <a:rect l="l" t="t" r="r" b="b"/>
            <a:pathLst>
              <a:path w="203" h="132">
                <a:moveTo>
                  <a:pt x="0" y="2"/>
                </a:moveTo>
                <a:lnTo>
                  <a:pt x="27" y="0"/>
                </a:lnTo>
                <a:lnTo>
                  <a:pt x="54" y="3"/>
                </a:lnTo>
                <a:lnTo>
                  <a:pt x="79" y="14"/>
                </a:lnTo>
                <a:lnTo>
                  <a:pt x="101" y="28"/>
                </a:lnTo>
                <a:lnTo>
                  <a:pt x="121" y="45"/>
                </a:lnTo>
                <a:lnTo>
                  <a:pt x="135" y="67"/>
                </a:lnTo>
                <a:lnTo>
                  <a:pt x="202" y="1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80080" y="5576760"/>
            <a:ext cx="390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45240" y="55627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13360" y="3610080"/>
            <a:ext cx="2154240" cy="1981080"/>
          </a:xfrm>
          <a:custGeom>
            <a:avLst/>
            <a:gdLst/>
            <a:ahLst/>
            <a:rect l="l" t="t" r="r" b="b"/>
            <a:pathLst>
              <a:path w="1357" h="1248">
                <a:moveTo>
                  <a:pt x="1356" y="1247"/>
                </a:moveTo>
                <a:lnTo>
                  <a:pt x="1213" y="1232"/>
                </a:lnTo>
                <a:lnTo>
                  <a:pt x="1141" y="1218"/>
                </a:lnTo>
                <a:lnTo>
                  <a:pt x="1070" y="1199"/>
                </a:lnTo>
                <a:lnTo>
                  <a:pt x="1000" y="1170"/>
                </a:lnTo>
                <a:lnTo>
                  <a:pt x="927" y="1132"/>
                </a:lnTo>
                <a:lnTo>
                  <a:pt x="857" y="1080"/>
                </a:lnTo>
                <a:lnTo>
                  <a:pt x="714" y="935"/>
                </a:lnTo>
                <a:lnTo>
                  <a:pt x="571" y="731"/>
                </a:lnTo>
                <a:lnTo>
                  <a:pt x="428" y="487"/>
                </a:lnTo>
                <a:lnTo>
                  <a:pt x="356" y="363"/>
                </a:lnTo>
                <a:lnTo>
                  <a:pt x="286" y="247"/>
                </a:lnTo>
                <a:lnTo>
                  <a:pt x="213" y="145"/>
                </a:lnTo>
                <a:lnTo>
                  <a:pt x="143" y="67"/>
                </a:lnTo>
                <a:lnTo>
                  <a:pt x="70" y="1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60560" y="3610080"/>
            <a:ext cx="2138400" cy="1965240"/>
          </a:xfrm>
          <a:custGeom>
            <a:avLst/>
            <a:gdLst/>
            <a:ahLst/>
            <a:rect l="l" t="t" r="r" b="b"/>
            <a:pathLst>
              <a:path w="1347" h="1238">
                <a:moveTo>
                  <a:pt x="0" y="1238"/>
                </a:moveTo>
                <a:lnTo>
                  <a:pt x="143" y="1223"/>
                </a:lnTo>
                <a:lnTo>
                  <a:pt x="213" y="1209"/>
                </a:lnTo>
                <a:lnTo>
                  <a:pt x="285" y="1190"/>
                </a:lnTo>
                <a:lnTo>
                  <a:pt x="356" y="1161"/>
                </a:lnTo>
                <a:lnTo>
                  <a:pt x="428" y="1123"/>
                </a:lnTo>
                <a:lnTo>
                  <a:pt x="499" y="1071"/>
                </a:lnTo>
                <a:lnTo>
                  <a:pt x="642" y="926"/>
                </a:lnTo>
                <a:lnTo>
                  <a:pt x="784" y="722"/>
                </a:lnTo>
                <a:lnTo>
                  <a:pt x="927" y="478"/>
                </a:lnTo>
                <a:lnTo>
                  <a:pt x="1000" y="354"/>
                </a:lnTo>
                <a:lnTo>
                  <a:pt x="1070" y="238"/>
                </a:lnTo>
                <a:lnTo>
                  <a:pt x="1141" y="136"/>
                </a:lnTo>
                <a:lnTo>
                  <a:pt x="1213" y="58"/>
                </a:lnTo>
                <a:lnTo>
                  <a:pt x="1284" y="8"/>
                </a:lnTo>
                <a:lnTo>
                  <a:pt x="1347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16040" y="3657600"/>
            <a:ext cx="5181480" cy="1981080"/>
          </a:xfrm>
          <a:custGeom>
            <a:avLst/>
            <a:gdLst/>
            <a:ahLst/>
            <a:rect l="l" t="t" r="r" b="b"/>
            <a:pathLst>
              <a:path w="2764" h="1245">
                <a:moveTo>
                  <a:pt x="0" y="0"/>
                </a:moveTo>
                <a:lnTo>
                  <a:pt x="0" y="1244"/>
                </a:lnTo>
                <a:lnTo>
                  <a:pt x="2763" y="1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33560" y="361008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33560" y="38070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33560" y="400356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33560" y="420228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33560" y="43988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33560" y="459756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33560" y="479412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33560" y="49928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33560" y="51894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33560" y="538632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4680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72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673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306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925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529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148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49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3860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9868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89040" y="450540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54640" y="57848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58120" y="312408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84640" y="3214800"/>
            <a:ext cx="4269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41120" y="321480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27640" y="3214800"/>
            <a:ext cx="4269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13080" y="3214800"/>
            <a:ext cx="4071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88840" y="321480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73360" y="317016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08160" y="3200400"/>
            <a:ext cx="384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≤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1905120"/>
            <a:ext cx="67816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Probability is measured by the area under the cur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551120" y="3519360"/>
            <a:ext cx="5331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74480" y="3200400"/>
            <a:ext cx="384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≤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41840" y="3813120"/>
            <a:ext cx="4269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98320" y="381312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84840" y="3813120"/>
            <a:ext cx="4269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370280" y="3813120"/>
            <a:ext cx="4071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46040" y="381312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30560" y="376884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65360" y="3798720"/>
            <a:ext cx="3916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32040" y="3798720"/>
            <a:ext cx="39168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0840" y="3809880"/>
            <a:ext cx="396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24480" y="44197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e that the probability of any individual value is z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EDA3-A812-4359-808E-496D7639E8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29200" y="3924360"/>
            <a:ext cx="385920" cy="1652400"/>
          </a:xfrm>
          <a:custGeom>
            <a:avLst/>
            <a:gdLst/>
            <a:ahLst/>
            <a:rect l="l" t="t" r="r" b="b"/>
            <a:pathLst>
              <a:path w="243" h="1041">
                <a:moveTo>
                  <a:pt x="6" y="0"/>
                </a:moveTo>
                <a:lnTo>
                  <a:pt x="0" y="1038"/>
                </a:lnTo>
                <a:lnTo>
                  <a:pt x="243" y="1041"/>
                </a:lnTo>
                <a:lnTo>
                  <a:pt x="237" y="201"/>
                </a:lnTo>
                <a:lnTo>
                  <a:pt x="204" y="144"/>
                </a:lnTo>
                <a:lnTo>
                  <a:pt x="174" y="102"/>
                </a:lnTo>
                <a:lnTo>
                  <a:pt x="102" y="2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inding Normal Probabilit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5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he normal curve for the problem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d P(X &lt; 8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se the Normal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unction in Excel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r PhS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67160" y="3905280"/>
            <a:ext cx="1600200" cy="1676520"/>
          </a:xfrm>
          <a:custGeom>
            <a:avLst/>
            <a:gdLst/>
            <a:ahLst/>
            <a:rect l="l" t="t" r="r" b="b"/>
            <a:pathLst>
              <a:path w="1008" h="1056">
                <a:moveTo>
                  <a:pt x="984" y="1044"/>
                </a:moveTo>
                <a:lnTo>
                  <a:pt x="1008" y="0"/>
                </a:lnTo>
                <a:lnTo>
                  <a:pt x="846" y="72"/>
                </a:lnTo>
                <a:lnTo>
                  <a:pt x="753" y="201"/>
                </a:lnTo>
                <a:lnTo>
                  <a:pt x="678" y="327"/>
                </a:lnTo>
                <a:lnTo>
                  <a:pt x="606" y="471"/>
                </a:lnTo>
                <a:lnTo>
                  <a:pt x="546" y="567"/>
                </a:lnTo>
                <a:lnTo>
                  <a:pt x="471" y="681"/>
                </a:lnTo>
                <a:lnTo>
                  <a:pt x="423" y="753"/>
                </a:lnTo>
                <a:lnTo>
                  <a:pt x="333" y="837"/>
                </a:lnTo>
                <a:lnTo>
                  <a:pt x="204" y="960"/>
                </a:lnTo>
                <a:lnTo>
                  <a:pt x="0" y="996"/>
                </a:lnTo>
                <a:lnTo>
                  <a:pt x="3" y="1056"/>
                </a:lnTo>
                <a:lnTo>
                  <a:pt x="984" y="1044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3932280"/>
            <a:ext cx="6480" cy="1630440"/>
          </a:xfrm>
          <a:custGeom>
            <a:avLst/>
            <a:gdLst/>
            <a:ahLst/>
            <a:rect l="l" t="t" r="r" b="b"/>
            <a:pathLst>
              <a:path w="4" h="1027">
                <a:moveTo>
                  <a:pt x="0" y="0"/>
                </a:moveTo>
                <a:lnTo>
                  <a:pt x="4" y="102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48280" y="3914640"/>
            <a:ext cx="1649520" cy="1575000"/>
          </a:xfrm>
          <a:custGeom>
            <a:avLst/>
            <a:gdLst/>
            <a:ahLst/>
            <a:rect l="l" t="t" r="r" b="b"/>
            <a:pathLst>
              <a:path w="1039" h="992">
                <a:moveTo>
                  <a:pt x="1039" y="992"/>
                </a:moveTo>
                <a:lnTo>
                  <a:pt x="931" y="982"/>
                </a:lnTo>
                <a:lnTo>
                  <a:pt x="876" y="969"/>
                </a:lnTo>
                <a:lnTo>
                  <a:pt x="823" y="954"/>
                </a:lnTo>
                <a:lnTo>
                  <a:pt x="768" y="931"/>
                </a:lnTo>
                <a:lnTo>
                  <a:pt x="713" y="899"/>
                </a:lnTo>
                <a:lnTo>
                  <a:pt x="661" y="859"/>
                </a:lnTo>
                <a:lnTo>
                  <a:pt x="551" y="745"/>
                </a:lnTo>
                <a:lnTo>
                  <a:pt x="443" y="583"/>
                </a:lnTo>
                <a:lnTo>
                  <a:pt x="335" y="388"/>
                </a:lnTo>
                <a:lnTo>
                  <a:pt x="280" y="289"/>
                </a:lnTo>
                <a:lnTo>
                  <a:pt x="225" y="198"/>
                </a:lnTo>
                <a:lnTo>
                  <a:pt x="173" y="118"/>
                </a:lnTo>
                <a:lnTo>
                  <a:pt x="118" y="55"/>
                </a:lnTo>
                <a:lnTo>
                  <a:pt x="63" y="15"/>
                </a:lnTo>
                <a:lnTo>
                  <a:pt x="38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919680"/>
            <a:ext cx="1676520" cy="1569960"/>
          </a:xfrm>
          <a:custGeom>
            <a:avLst/>
            <a:gdLst/>
            <a:ahLst/>
            <a:rect l="l" t="t" r="r" b="b"/>
            <a:pathLst>
              <a:path w="1056" h="989">
                <a:moveTo>
                  <a:pt x="0" y="989"/>
                </a:moveTo>
                <a:lnTo>
                  <a:pt x="108" y="979"/>
                </a:lnTo>
                <a:lnTo>
                  <a:pt x="163" y="966"/>
                </a:lnTo>
                <a:lnTo>
                  <a:pt x="218" y="951"/>
                </a:lnTo>
                <a:lnTo>
                  <a:pt x="271" y="928"/>
                </a:lnTo>
                <a:lnTo>
                  <a:pt x="326" y="896"/>
                </a:lnTo>
                <a:lnTo>
                  <a:pt x="381" y="856"/>
                </a:lnTo>
                <a:lnTo>
                  <a:pt x="488" y="742"/>
                </a:lnTo>
                <a:lnTo>
                  <a:pt x="596" y="580"/>
                </a:lnTo>
                <a:lnTo>
                  <a:pt x="706" y="385"/>
                </a:lnTo>
                <a:lnTo>
                  <a:pt x="759" y="286"/>
                </a:lnTo>
                <a:lnTo>
                  <a:pt x="814" y="195"/>
                </a:lnTo>
                <a:lnTo>
                  <a:pt x="868" y="115"/>
                </a:lnTo>
                <a:lnTo>
                  <a:pt x="909" y="72"/>
                </a:lnTo>
                <a:lnTo>
                  <a:pt x="969" y="18"/>
                </a:lnTo>
                <a:lnTo>
                  <a:pt x="1056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76440" y="5575320"/>
            <a:ext cx="3395880" cy="6480"/>
          </a:xfrm>
          <a:custGeom>
            <a:avLst/>
            <a:gdLst/>
            <a:ahLst/>
            <a:rect l="l" t="t" r="r" b="b"/>
            <a:pathLst>
              <a:path w="2139" h="4">
                <a:moveTo>
                  <a:pt x="0" y="0"/>
                </a:moveTo>
                <a:lnTo>
                  <a:pt x="0" y="0"/>
                </a:lnTo>
                <a:lnTo>
                  <a:pt x="2139" y="4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05720" y="5562720"/>
            <a:ext cx="38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67480" y="3821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617220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8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579132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029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5562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C41D8-6B66-41B3-99A4-C4A15E1FC5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br>
              <a:rPr sz="3600"/>
            </a:b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Upper Tail Probabilities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1905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w Find P(X &gt; 8.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(X &gt; 8.6)=1- P(X &lt; 8.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1000" y="4176720"/>
            <a:ext cx="1314720" cy="1405080"/>
          </a:xfrm>
          <a:custGeom>
            <a:avLst/>
            <a:gdLst/>
            <a:ahLst/>
            <a:rect l="l" t="t" r="r" b="b"/>
            <a:pathLst>
              <a:path w="828" h="885">
                <a:moveTo>
                  <a:pt x="3" y="882"/>
                </a:moveTo>
                <a:lnTo>
                  <a:pt x="0" y="0"/>
                </a:lnTo>
                <a:lnTo>
                  <a:pt x="27" y="72"/>
                </a:lnTo>
                <a:lnTo>
                  <a:pt x="81" y="159"/>
                </a:lnTo>
                <a:lnTo>
                  <a:pt x="117" y="237"/>
                </a:lnTo>
                <a:lnTo>
                  <a:pt x="156" y="297"/>
                </a:lnTo>
                <a:lnTo>
                  <a:pt x="201" y="384"/>
                </a:lnTo>
                <a:lnTo>
                  <a:pt x="273" y="495"/>
                </a:lnTo>
                <a:lnTo>
                  <a:pt x="339" y="585"/>
                </a:lnTo>
                <a:lnTo>
                  <a:pt x="442" y="693"/>
                </a:lnTo>
                <a:lnTo>
                  <a:pt x="609" y="789"/>
                </a:lnTo>
                <a:lnTo>
                  <a:pt x="828" y="825"/>
                </a:lnTo>
                <a:lnTo>
                  <a:pt x="825" y="885"/>
                </a:lnTo>
                <a:lnTo>
                  <a:pt x="3" y="88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64120" y="3917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7560" y="3917880"/>
            <a:ext cx="16380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09920" y="5573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05720" y="5562720"/>
            <a:ext cx="38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67480" y="38210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617220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8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579132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410080" y="5562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3962520"/>
            <a:ext cx="0" cy="16002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3EE1-525E-40A2-89C9-D8219CDB2A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505560" y="2892600"/>
            <a:ext cx="311040" cy="1653840"/>
          </a:xfrm>
          <a:custGeom>
            <a:avLst/>
            <a:gdLst/>
            <a:ahLst/>
            <a:rect l="l" t="t" r="r" b="b"/>
            <a:pathLst>
              <a:path w="196" h="1042">
                <a:moveTo>
                  <a:pt x="2" y="1040"/>
                </a:moveTo>
                <a:lnTo>
                  <a:pt x="0" y="0"/>
                </a:lnTo>
                <a:lnTo>
                  <a:pt x="30" y="2"/>
                </a:lnTo>
                <a:lnTo>
                  <a:pt x="66" y="18"/>
                </a:lnTo>
                <a:lnTo>
                  <a:pt x="102" y="51"/>
                </a:lnTo>
                <a:lnTo>
                  <a:pt x="138" y="85"/>
                </a:lnTo>
                <a:lnTo>
                  <a:pt x="174" y="136"/>
                </a:lnTo>
                <a:lnTo>
                  <a:pt x="196" y="158"/>
                </a:lnTo>
                <a:lnTo>
                  <a:pt x="196" y="1042"/>
                </a:lnTo>
                <a:lnTo>
                  <a:pt x="2" y="104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62720" y="5334120"/>
            <a:ext cx="2590560" cy="685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obability Between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 Val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 X  is normal with mean 8.0 and standard deviation 5.0.  Find P(8 &lt; X &lt; 8.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(X &lt; 8.6)- P(X &lt;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5410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P(8 &lt; X &lt; 8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99080" y="2895480"/>
            <a:ext cx="6480" cy="1644840"/>
          </a:xfrm>
          <a:custGeom>
            <a:avLst/>
            <a:gdLst/>
            <a:ahLst/>
            <a:rect l="l" t="t" r="r" b="b"/>
            <a:pathLst>
              <a:path w="4" h="1036">
                <a:moveTo>
                  <a:pt x="0" y="0"/>
                </a:moveTo>
                <a:lnTo>
                  <a:pt x="4" y="103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13480" y="28954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28954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45514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62520" y="29322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62520" y="30830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11360" y="325908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26080" y="484344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48160" y="495288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05720" y="4876920"/>
            <a:ext cx="38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9400" y="457200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248520" y="457200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6B38-F376-4371-88FE-D262A5F256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hStat - Normal Probabilit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Stat | Probability &amp; Prob. Distributions | Norma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2255-6F27-47EE-9261-88AE8AABF3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ssessing Normalit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continuous random variables are normally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evaluate how well the data set is approximated by a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F02F8-C91E-40BE-8138-6D9A361F1E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ssessing Normalit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arts or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, or moderate sized data sets - do a stem-and-leaf display and box-and-whisker plot look symmetr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data sets, does the histogram or polygon appear bell-shap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criptive summar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mean, median and mode have similar val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quartile range approximately 1.3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range approximatel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rmal probability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D79B-27E4-4CED-A0CE-A3A84B532D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447920" y="1752480"/>
            <a:ext cx="6019560" cy="1368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rmal probability plot for data from a normal distribution will b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proximately lin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79920" y="47800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79920" y="416232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79920" y="354636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54100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971800" y="38095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809880" y="5333760"/>
            <a:ext cx="0" cy="26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419720" y="5333760"/>
            <a:ext cx="0" cy="26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029200" y="5333760"/>
            <a:ext cx="0" cy="26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15000" y="5333760"/>
            <a:ext cx="0" cy="26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65400" y="4307040"/>
            <a:ext cx="2801880" cy="699840"/>
          </a:xfrm>
          <a:custGeom>
            <a:avLst/>
            <a:gdLst/>
            <a:ahLst/>
            <a:rect l="l" t="t" r="r" b="b"/>
            <a:pathLst>
              <a:path w="1765" h="441">
                <a:moveTo>
                  <a:pt x="0" y="441"/>
                </a:moveTo>
                <a:lnTo>
                  <a:pt x="189" y="377"/>
                </a:lnTo>
                <a:lnTo>
                  <a:pt x="333" y="365"/>
                </a:lnTo>
                <a:lnTo>
                  <a:pt x="433" y="324"/>
                </a:lnTo>
                <a:lnTo>
                  <a:pt x="526" y="312"/>
                </a:lnTo>
                <a:lnTo>
                  <a:pt x="604" y="285"/>
                </a:lnTo>
                <a:lnTo>
                  <a:pt x="672" y="273"/>
                </a:lnTo>
                <a:lnTo>
                  <a:pt x="741" y="269"/>
                </a:lnTo>
                <a:lnTo>
                  <a:pt x="811" y="233"/>
                </a:lnTo>
                <a:lnTo>
                  <a:pt x="884" y="221"/>
                </a:lnTo>
                <a:lnTo>
                  <a:pt x="954" y="209"/>
                </a:lnTo>
                <a:lnTo>
                  <a:pt x="1015" y="182"/>
                </a:lnTo>
                <a:lnTo>
                  <a:pt x="1093" y="168"/>
                </a:lnTo>
                <a:lnTo>
                  <a:pt x="1155" y="131"/>
                </a:lnTo>
                <a:lnTo>
                  <a:pt x="1239" y="130"/>
                </a:lnTo>
                <a:lnTo>
                  <a:pt x="1332" y="118"/>
                </a:lnTo>
                <a:lnTo>
                  <a:pt x="1439" y="91"/>
                </a:lnTo>
                <a:lnTo>
                  <a:pt x="1570" y="53"/>
                </a:lnTo>
                <a:lnTo>
                  <a:pt x="1765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51600" y="489096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51600" y="4275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51600" y="36576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87560" y="565632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39880" y="565632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54480" y="56563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78360" y="56563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64160" y="56563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95880" y="5562720"/>
            <a:ext cx="4143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33360" y="3352680"/>
            <a:ext cx="435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Normal Probability Plo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43800" y="1219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00400" y="5333760"/>
            <a:ext cx="0" cy="26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2F0F6-151C-4C27-82DA-B4A74DC764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486400" y="2286000"/>
            <a:ext cx="2971800" cy="1752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4876920"/>
            <a:ext cx="2971800" cy="1752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9320" y="2286000"/>
            <a:ext cx="2971800" cy="1752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ormal Probability Plo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19160" y="1690560"/>
            <a:ext cx="3324240" cy="5155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86240" y="1690560"/>
            <a:ext cx="3324240" cy="5155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19160" y="4272120"/>
            <a:ext cx="3324240" cy="5155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62000" y="35146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62000" y="309564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62000" y="267480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62000" y="34974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62000" y="250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11464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14640" y="2743200"/>
            <a:ext cx="1557360" cy="534960"/>
          </a:xfrm>
          <a:custGeom>
            <a:avLst/>
            <a:gdLst/>
            <a:ahLst/>
            <a:rect l="l" t="t" r="r" b="b"/>
            <a:pathLst>
              <a:path w="708" h="318">
                <a:moveTo>
                  <a:pt x="0" y="317"/>
                </a:moveTo>
                <a:lnTo>
                  <a:pt x="80" y="255"/>
                </a:lnTo>
                <a:lnTo>
                  <a:pt x="131" y="220"/>
                </a:lnTo>
                <a:lnTo>
                  <a:pt x="173" y="194"/>
                </a:lnTo>
                <a:lnTo>
                  <a:pt x="211" y="167"/>
                </a:lnTo>
                <a:lnTo>
                  <a:pt x="242" y="150"/>
                </a:lnTo>
                <a:lnTo>
                  <a:pt x="270" y="132"/>
                </a:lnTo>
                <a:lnTo>
                  <a:pt x="301" y="106"/>
                </a:lnTo>
                <a:lnTo>
                  <a:pt x="325" y="88"/>
                </a:lnTo>
                <a:lnTo>
                  <a:pt x="355" y="78"/>
                </a:lnTo>
                <a:lnTo>
                  <a:pt x="382" y="70"/>
                </a:lnTo>
                <a:lnTo>
                  <a:pt x="407" y="62"/>
                </a:lnTo>
                <a:lnTo>
                  <a:pt x="438" y="52"/>
                </a:lnTo>
                <a:lnTo>
                  <a:pt x="466" y="52"/>
                </a:lnTo>
                <a:lnTo>
                  <a:pt x="497" y="44"/>
                </a:lnTo>
                <a:lnTo>
                  <a:pt x="534" y="34"/>
                </a:lnTo>
                <a:lnTo>
                  <a:pt x="577" y="26"/>
                </a:lnTo>
                <a:lnTo>
                  <a:pt x="629" y="8"/>
                </a:lnTo>
                <a:lnTo>
                  <a:pt x="707" y="0"/>
                </a:lnTo>
              </a:path>
            </a:pathLst>
          </a:custGeom>
          <a:noFill/>
          <a:ln cap="rnd" w="255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11640" y="319392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11640" y="277344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11640" y="235440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3660840"/>
            <a:ext cx="3963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27400" y="3649680"/>
            <a:ext cx="3963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12960" y="3660840"/>
            <a:ext cx="315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94200" y="3660840"/>
            <a:ext cx="315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75080" y="3660840"/>
            <a:ext cx="315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14840" y="3573360"/>
            <a:ext cx="33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3360" y="22860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24480" y="2743200"/>
            <a:ext cx="1524240" cy="504720"/>
          </a:xfrm>
          <a:custGeom>
            <a:avLst/>
            <a:gdLst/>
            <a:ahLst/>
            <a:rect l="l" t="t" r="r" b="b"/>
            <a:pathLst>
              <a:path w="707" h="318">
                <a:moveTo>
                  <a:pt x="0" y="317"/>
                </a:moveTo>
                <a:lnTo>
                  <a:pt x="80" y="309"/>
                </a:lnTo>
                <a:lnTo>
                  <a:pt x="131" y="291"/>
                </a:lnTo>
                <a:lnTo>
                  <a:pt x="173" y="282"/>
                </a:lnTo>
                <a:lnTo>
                  <a:pt x="211" y="273"/>
                </a:lnTo>
                <a:lnTo>
                  <a:pt x="242" y="265"/>
                </a:lnTo>
                <a:lnTo>
                  <a:pt x="269" y="265"/>
                </a:lnTo>
                <a:lnTo>
                  <a:pt x="300" y="255"/>
                </a:lnTo>
                <a:lnTo>
                  <a:pt x="325" y="247"/>
                </a:lnTo>
                <a:lnTo>
                  <a:pt x="354" y="238"/>
                </a:lnTo>
                <a:lnTo>
                  <a:pt x="382" y="229"/>
                </a:lnTo>
                <a:lnTo>
                  <a:pt x="406" y="211"/>
                </a:lnTo>
                <a:lnTo>
                  <a:pt x="437" y="185"/>
                </a:lnTo>
                <a:lnTo>
                  <a:pt x="465" y="167"/>
                </a:lnTo>
                <a:lnTo>
                  <a:pt x="496" y="150"/>
                </a:lnTo>
                <a:lnTo>
                  <a:pt x="534" y="123"/>
                </a:lnTo>
                <a:lnTo>
                  <a:pt x="576" y="96"/>
                </a:lnTo>
                <a:lnTo>
                  <a:pt x="628" y="62"/>
                </a:lnTo>
                <a:lnTo>
                  <a:pt x="706" y="0"/>
                </a:lnTo>
              </a:path>
            </a:pathLst>
          </a:custGeom>
          <a:noFill/>
          <a:ln cap="rnd" w="255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1800" y="5257800"/>
            <a:ext cx="1523880" cy="676440"/>
          </a:xfrm>
          <a:custGeom>
            <a:avLst/>
            <a:gdLst/>
            <a:ahLst/>
            <a:rect l="l" t="t" r="r" b="b"/>
            <a:pathLst>
              <a:path w="707" h="426">
                <a:moveTo>
                  <a:pt x="0" y="425"/>
                </a:moveTo>
                <a:lnTo>
                  <a:pt x="80" y="415"/>
                </a:lnTo>
                <a:lnTo>
                  <a:pt x="131" y="407"/>
                </a:lnTo>
                <a:lnTo>
                  <a:pt x="173" y="389"/>
                </a:lnTo>
                <a:lnTo>
                  <a:pt x="211" y="371"/>
                </a:lnTo>
                <a:lnTo>
                  <a:pt x="242" y="353"/>
                </a:lnTo>
                <a:lnTo>
                  <a:pt x="269" y="327"/>
                </a:lnTo>
                <a:lnTo>
                  <a:pt x="300" y="301"/>
                </a:lnTo>
                <a:lnTo>
                  <a:pt x="325" y="265"/>
                </a:lnTo>
                <a:lnTo>
                  <a:pt x="354" y="212"/>
                </a:lnTo>
                <a:lnTo>
                  <a:pt x="382" y="160"/>
                </a:lnTo>
                <a:lnTo>
                  <a:pt x="406" y="124"/>
                </a:lnTo>
                <a:lnTo>
                  <a:pt x="437" y="98"/>
                </a:lnTo>
                <a:lnTo>
                  <a:pt x="465" y="72"/>
                </a:lnTo>
                <a:lnTo>
                  <a:pt x="496" y="54"/>
                </a:lnTo>
                <a:lnTo>
                  <a:pt x="534" y="36"/>
                </a:lnTo>
                <a:lnTo>
                  <a:pt x="576" y="18"/>
                </a:lnTo>
                <a:lnTo>
                  <a:pt x="628" y="10"/>
                </a:lnTo>
                <a:lnTo>
                  <a:pt x="706" y="0"/>
                </a:lnTo>
              </a:path>
            </a:pathLst>
          </a:custGeom>
          <a:noFill/>
          <a:ln cap="rnd" w="255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552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87640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5764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63852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1219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15040" y="3514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15040" y="3095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15040" y="26748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15040" y="34974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215040" y="250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36732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64680" y="319392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64680" y="277344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64680" y="235440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74000" y="3660840"/>
            <a:ext cx="3963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80440" y="3649680"/>
            <a:ext cx="3963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66000" y="3660840"/>
            <a:ext cx="315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46880" y="3660840"/>
            <a:ext cx="315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728120" y="3660840"/>
            <a:ext cx="315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967520" y="3573360"/>
            <a:ext cx="33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86400" y="22860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74856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12944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751032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789156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62000" y="610560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62000" y="568656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62000" y="52657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62000" y="608796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1962000" y="509724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114640" y="601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11640" y="578484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11640" y="536400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11640" y="494496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20960" y="6251400"/>
            <a:ext cx="3963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27400" y="6240600"/>
            <a:ext cx="3963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12960" y="6251400"/>
            <a:ext cx="315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94200" y="6251400"/>
            <a:ext cx="315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75080" y="6251400"/>
            <a:ext cx="315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14840" y="6164280"/>
            <a:ext cx="33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33360" y="487692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495520" y="601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876400" y="601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257640" y="601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638520" y="601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4724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linear plots indicate a deviation from norm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4B7D-7665-4ADA-9360-1ACCDCA137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rmal Probability Plot in PHSt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Stat | Probability &amp; Prob. Distributions | Normal Probability Plo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ctu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98A6-21F7-420B-8F40-D6AA402A2C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haracteristics of the normal, uniform and exponential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when to apply the normal, uniform and exponential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normal, uniform and exponential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normality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E9CA-2A70-448A-A972-6101DA3952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2578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2574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Uniform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DA4F-34CF-4C4F-ACA8-89A7635B93A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Uniform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niform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robability distribution that h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qual proba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l possible outcomes of the random variable (a die - P(X)=1/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ctangular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898E-C1BF-4823-BDA0-398BEFC17F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224720" y="167652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inuous Uniform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724280"/>
            <a:ext cx="5334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(X) = value of the density function at any X val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= minimum value of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 maximum value of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Uniform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14600" y="2765520"/>
                <a:ext cx="609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477120" y="3068640"/>
                <a:ext cx="1714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-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477120" y="1941480"/>
                <a:ext cx="167616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2438280"/>
            <a:ext cx="4724280" cy="2210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3352680"/>
            <a:ext cx="2438640" cy="76212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055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638680" y="4038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057400" y="4114800"/>
            <a:ext cx="380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57400" y="2971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29400" y="426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90720" y="1397160"/>
                <a:ext cx="5486400" cy="34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6705720" y="4842000"/>
                <a:ext cx="20574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324480" y="5695920"/>
                <a:ext cx="25146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589B-24F0-47FF-AFA3-8AA8BD99B5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80880" y="3962520"/>
            <a:ext cx="4724640" cy="2209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2819520"/>
            <a:ext cx="541008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niform Distribution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1676520"/>
            <a:ext cx="69343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 Probabilit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range   2 ≤ X ≤ 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441972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5638680"/>
            <a:ext cx="380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4876920"/>
            <a:ext cx="2438280" cy="76176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4572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14400" y="4876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57400" y="3048120"/>
            <a:ext cx="64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          = .25   for 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X ≤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3200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281952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080" y="3276720"/>
            <a:ext cx="72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638680" y="4317840"/>
                <a:ext cx="25146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181480" y="5181480"/>
                <a:ext cx="38102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-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-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4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BC57-CDAB-4F28-AEE7-5DE6A866DF8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52578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2574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Exponenti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5BB45-A4E2-4C30-8A64-B000B87F292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Exponential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odel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ngth of time between two occur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event (the time between arriv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tween trucks arriving at an unloading d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tween transactions at an ATM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tween phone calls to the main ope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454D-2D81-45FA-88B0-754B46EFAC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onential Distribu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ime or distance between ev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inverse of the Poiss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y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18040" y="2743200"/>
            <a:ext cx="4865760" cy="2514600"/>
          </a:xfrm>
          <a:prstGeom prst="rect">
            <a:avLst/>
          </a:prstGeom>
          <a:solidFill>
            <a:srgbClr val="ffff99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5529240" y="3809880"/>
            <a:ext cx="1778040" cy="79560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097600" y="3200040"/>
            <a:ext cx="838080" cy="95076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760000">
            <a:off x="6369480" y="1480680"/>
            <a:ext cx="1549080" cy="492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01" y="7892"/>
                </a:moveTo>
                <a:arcTo wR="10800" hR="10800" stAng="-937115" swAng="5955690"/>
                <a:lnTo>
                  <a:pt x="10800" y="10800"/>
                </a:lnTo>
                <a:close/>
              </a:path>
              <a:path fill="none" w="21600" h="21600">
                <a:moveTo>
                  <a:pt x="21201" y="7892"/>
                </a:moveTo>
                <a:arcTo wR="10800" hR="10800" stAng="-937115" swAng="5955690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0400" y="3376440"/>
            <a:ext cx="0" cy="146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06920" y="4876920"/>
            <a:ext cx="354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78160" y="2738520"/>
            <a:ext cx="84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445600" y="47196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931000" y="2975040"/>
            <a:ext cx="1147680" cy="454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531200" y="3432240"/>
            <a:ext cx="1071360" cy="454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906480" y="3276720"/>
          <a:ext cx="3124080" cy="15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3276720"/>
                    <a:ext cx="312408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1135080" y="5410080"/>
          <a:ext cx="350532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5080" y="5410080"/>
                    <a:ext cx="35053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 rot="5400000">
            <a:off x="8855640" y="-419040"/>
            <a:ext cx="1017000" cy="937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246" y="13541"/>
                </a:moveTo>
                <a:arcTo wR="10800" hR="10800" stAng="882202" swAng="4281185"/>
                <a:lnTo>
                  <a:pt x="10800" y="10800"/>
                </a:lnTo>
                <a:close/>
              </a:path>
              <a:path fill="none" w="21600" h="21600">
                <a:moveTo>
                  <a:pt x="21246" y="13541"/>
                </a:moveTo>
                <a:arcTo wR="10800" hR="10800" stAng="882202" swAng="4281185"/>
              </a:path>
            </a:pathLst>
          </a:custGeom>
          <a:noFill/>
          <a:ln cap="rnd"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066680" y="335232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AD29-4FCC-4B88-892D-3DE1C042A9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315200" y="4572000"/>
            <a:ext cx="1066680" cy="5335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920" y="38088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ponential Distribution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38080" y="17524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stomers arrive at the service counter at the rate of 15 per hour.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is the probability that the arrival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time betwee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consecutive customers is less than three minu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3505320"/>
            <a:ext cx="8077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 number of arrivals per hour is 15, so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inutes is .05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(arrival time &lt; .0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(15)(.0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52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re is a 52.76% probability that the arrival time between successive customers is less than three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DBE2-1F64-4E56-A813-1888C47393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onential Distribution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 PHSt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2325600"/>
            <a:ext cx="8077320" cy="232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Stat | Probability &amp; Prob. Distributions | Exponentia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5B2D-06A1-40EA-B66B-3287E3A6B8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274320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ing Distribu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2286000"/>
            <a:ext cx="2514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23880" y="4038480"/>
            <a:ext cx="2514600" cy="180036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Distribution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00600" y="4038480"/>
            <a:ext cx="251460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Distributions of the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38098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419720" y="32763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A963-80BE-40E3-B9E0-360CA047AF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concept of a sampling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mean and standard deviation for the sampling distribution of the mean,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mean and standard deviation for the sampling distribution of the proportion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entral Limit Theorem and its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sampling distributions for bot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nd 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320040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4277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6FAF3-72E5-4B58-819B-8D018EA7FC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ing Distribu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86840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ing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istribution of all of the possible values for the mean or proportion from a given size sample selected from 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3697200" y="3929040"/>
                <a:ext cx="1736640" cy="22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ba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ba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yyyyy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zzzz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FE6A-F2A4-4C16-93E7-4F87379552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veloping 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there is a popul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siz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riable, X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of X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8, 20,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2, 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86400" y="243828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289560" y="250668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975360" y="243036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96080" y="2286000"/>
            <a:ext cx="64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5221440" y="2868480"/>
          <a:ext cx="298116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1440" y="2868480"/>
                    <a:ext cx="298116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7427880" y="2676600"/>
          <a:ext cx="1671840" cy="427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7880" y="2676600"/>
                    <a:ext cx="16718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5931000" y="2955960"/>
          <a:ext cx="1760400" cy="393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31000" y="2955960"/>
                    <a:ext cx="17604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9F74-5611-4C3F-9143-06EC2D7D3D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952880" y="2666880"/>
            <a:ext cx="3733920" cy="21337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64040" y="37339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64040" y="42670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64040" y="320040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34120" y="3505320"/>
            <a:ext cx="457200" cy="1295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3505320"/>
            <a:ext cx="457200" cy="1295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010280" y="3505320"/>
            <a:ext cx="457200" cy="1295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848720" y="3505320"/>
            <a:ext cx="457200" cy="1295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30481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43400" y="358128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325760" y="4021200"/>
            <a:ext cx="49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325760" y="4554360"/>
            <a:ext cx="49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164200" y="4782960"/>
            <a:ext cx="338760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        20          22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       B        C  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81480" y="5638680"/>
            <a:ext cx="335304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08320" y="2432160"/>
            <a:ext cx="949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34520" y="472428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1755720"/>
            <a:ext cx="85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Measures for the Population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veloping 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267080"/>
            <a:ext cx="373392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952880" y="3809880"/>
            <a:ext cx="373392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52880" y="3276720"/>
            <a:ext cx="373392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99880" y="2411280"/>
                <a:ext cx="366264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68280" y="4648320"/>
                <a:ext cx="3608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643D-EDE5-4AC7-BF7A-D5AC695BBE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523880" y="5181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0" y="2133720"/>
          <a:ext cx="7267680" cy="65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7267680" cy="65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1676520" y="5334120"/>
            <a:ext cx="2590560" cy="1003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possible samples (sampling with re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23880" y="5867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18960" y="15238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Now consider all possible samples of size n=2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638680" y="3352680"/>
          <a:ext cx="3505320" cy="335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52680"/>
                    <a:ext cx="350532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304920"/>
            <a:ext cx="7792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veloping 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934320" y="2362320"/>
            <a:ext cx="2003400" cy="8204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Sample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257800" y="4343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a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553080" y="28191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553080" y="28195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05120" y="2590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2590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590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2280" y="2514600"/>
            <a:ext cx="685800" cy="7632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9CD0-C2D6-457E-B135-DCADF1B6C5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"/>
          <p:cNvGraphicFramePr/>
          <p:nvPr/>
        </p:nvGraphicFramePr>
        <p:xfrm>
          <a:off x="228600" y="3130560"/>
          <a:ext cx="4184640" cy="38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130560"/>
                    <a:ext cx="418464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360" y="16002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ampling Distribution of All Sample Means</a:t>
            </a:r>
            <a:endParaRPr b="0" lang="en-US" sz="27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81480" y="4046400"/>
            <a:ext cx="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11880" y="5950080"/>
            <a:ext cx="339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5334120"/>
            <a:ext cx="3505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181480" y="4724280"/>
            <a:ext cx="3505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81480" y="4114800"/>
            <a:ext cx="3505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38680" y="5187960"/>
            <a:ext cx="38124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095880" y="4807080"/>
            <a:ext cx="38124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53080" y="4425840"/>
            <a:ext cx="381240" cy="1524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10280" y="4807080"/>
            <a:ext cx="38124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67480" y="5187960"/>
            <a:ext cx="38124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924680" y="5568840"/>
            <a:ext cx="38124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164200" y="5932440"/>
            <a:ext cx="354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  19    20   21   22   23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782960" y="5703840"/>
            <a:ext cx="41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707000" y="509436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707000" y="448452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81480" y="5568840"/>
            <a:ext cx="38124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07000" y="387504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648320" y="3505320"/>
            <a:ext cx="94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611680" y="343548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575560" y="594360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888400" y="602604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08520" y="2286000"/>
            <a:ext cx="2673360" cy="9421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ean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8440" y="2386080"/>
            <a:ext cx="3282840" cy="5155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Sample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601120" y="5580000"/>
            <a:ext cx="39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43000" y="152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veloping a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4876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ca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15000" y="6324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no longer uni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952880" y="3141720"/>
            <a:ext cx="39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AF5F-4DA3-4004-9BDC-CE633A3F14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57480" y="1599840"/>
            <a:ext cx="681984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mmary Measures of this Sampling Distribution: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43000" y="152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Developing 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Sampling Distribu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1020600" y="2438280"/>
                <a:ext cx="611208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052640" y="3857760"/>
                <a:ext cx="7724520" cy="23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-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-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-2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AE2D0-5405-4DF4-80D1-A6E11723CA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aring the Population with its Sampling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164200" y="3809880"/>
            <a:ext cx="0" cy="17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394240" y="5713560"/>
            <a:ext cx="339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94240" y="5103720"/>
            <a:ext cx="33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94240" y="4494240"/>
            <a:ext cx="33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94240" y="3884760"/>
            <a:ext cx="33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21400" y="4951440"/>
            <a:ext cx="38088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078600" y="4570560"/>
            <a:ext cx="38088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35800" y="4189320"/>
            <a:ext cx="380880" cy="152424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3000" y="4570560"/>
            <a:ext cx="380880" cy="11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450200" y="4951440"/>
            <a:ext cx="38088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907400" y="5332320"/>
            <a:ext cx="38088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46560" y="5695920"/>
            <a:ext cx="354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  19    20   21   22   23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65680" y="5467320"/>
            <a:ext cx="41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689360" y="485784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689360" y="424800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164200" y="5332320"/>
            <a:ext cx="38088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689360" y="363852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24560" y="3344760"/>
            <a:ext cx="94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518080" y="3351240"/>
            <a:ext cx="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629400" y="60199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8871120" y="5789520"/>
            <a:ext cx="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54000" y="5694480"/>
            <a:ext cx="338796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8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22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      </a:t>
            </a: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974880" y="5103720"/>
            <a:ext cx="33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974880" y="4494240"/>
            <a:ext cx="33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01680" y="4189320"/>
            <a:ext cx="380880" cy="152424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39760" y="4189320"/>
            <a:ext cx="381240" cy="152424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78200" y="4189320"/>
            <a:ext cx="380880" cy="152424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16280" y="4189320"/>
            <a:ext cx="380880" cy="1524240"/>
          </a:xfrm>
          <a:prstGeom prst="rect">
            <a:avLst/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74880" y="3960720"/>
            <a:ext cx="33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2120" y="38847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62120" y="5713560"/>
            <a:ext cx="36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5960" y="5467320"/>
            <a:ext cx="41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70000" y="4857840"/>
            <a:ext cx="56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70000" y="4248000"/>
            <a:ext cx="56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70000" y="3714840"/>
            <a:ext cx="56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8160" y="1905120"/>
            <a:ext cx="344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031760" y="1658880"/>
            <a:ext cx="2320920" cy="9082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7120" y="3344760"/>
            <a:ext cx="107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438280" y="62485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629400" y="5638680"/>
            <a:ext cx="39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4919760" y="2438280"/>
                <a:ext cx="3628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1     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49280" y="2514600"/>
                <a:ext cx="32846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     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4343400" y="1658880"/>
            <a:ext cx="4530600" cy="86544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Mean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43520" y="2989440"/>
            <a:ext cx="39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B8AA-DC5E-4863-A6A6-0B4EB047D9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andard Error of the Mea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17884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samples of the same size from the same population will yield different sample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the variability from sample to sample is given by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Error of the M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standard error of the mean decreases as the sample size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276720" y="3581280"/>
                <a:ext cx="202392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7C9E-E001-4EBE-9920-2A2B29AAAF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f the Population is Norma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opulation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r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mea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tandard deviatio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ampling distribution of       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so normally distribu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This assumes that sampling is with replacement o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mpling is without replacement from an infinite popul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447920" y="2743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752480" y="4029120"/>
                <a:ext cx="1425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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4741920" y="3733920"/>
                <a:ext cx="202392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9C41-7AF5-461B-BDDE-8C2C9177AE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295280" y="2895480"/>
            <a:ext cx="2362320" cy="10670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837720" y="1868400"/>
            <a:ext cx="39625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ampl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ith re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96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n  increases,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r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334120" y="27432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ampling Distribution Proper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62520" y="4572000"/>
            <a:ext cx="447480" cy="142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648400" y="2895480"/>
            <a:ext cx="828720" cy="7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477120" y="2590920"/>
            <a:ext cx="190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r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3962520"/>
            <a:ext cx="2003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maller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209680" y="5867280"/>
            <a:ext cx="653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00400" y="3581280"/>
            <a:ext cx="2133720" cy="2208240"/>
          </a:xfrm>
          <a:custGeom>
            <a:avLst/>
            <a:gdLst/>
            <a:ahLst/>
            <a:rect l="l" t="t" r="r" b="b"/>
            <a:pathLst>
              <a:path w="1344" h="1487">
                <a:moveTo>
                  <a:pt x="0" y="1486"/>
                </a:moveTo>
                <a:lnTo>
                  <a:pt x="141" y="1471"/>
                </a:lnTo>
                <a:lnTo>
                  <a:pt x="212" y="1452"/>
                </a:lnTo>
                <a:lnTo>
                  <a:pt x="284" y="1429"/>
                </a:lnTo>
                <a:lnTo>
                  <a:pt x="353" y="1395"/>
                </a:lnTo>
                <a:lnTo>
                  <a:pt x="425" y="1347"/>
                </a:lnTo>
                <a:lnTo>
                  <a:pt x="496" y="1287"/>
                </a:lnTo>
                <a:lnTo>
                  <a:pt x="636" y="1116"/>
                </a:lnTo>
                <a:lnTo>
                  <a:pt x="776" y="872"/>
                </a:lnTo>
                <a:lnTo>
                  <a:pt x="919" y="580"/>
                </a:lnTo>
                <a:lnTo>
                  <a:pt x="988" y="431"/>
                </a:lnTo>
                <a:lnTo>
                  <a:pt x="1060" y="294"/>
                </a:lnTo>
                <a:lnTo>
                  <a:pt x="1130" y="174"/>
                </a:lnTo>
                <a:lnTo>
                  <a:pt x="1199" y="80"/>
                </a:lnTo>
                <a:lnTo>
                  <a:pt x="1271" y="20"/>
                </a:lnTo>
                <a:lnTo>
                  <a:pt x="1343" y="0"/>
                </a:lnTo>
              </a:path>
            </a:pathLst>
          </a:custGeom>
          <a:noFill/>
          <a:ln cap="rnd"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34120" y="3581280"/>
            <a:ext cx="2512800" cy="2208240"/>
          </a:xfrm>
          <a:custGeom>
            <a:avLst/>
            <a:gdLst/>
            <a:ahLst/>
            <a:rect l="l" t="t" r="r" b="b"/>
            <a:pathLst>
              <a:path w="1583" h="1487">
                <a:moveTo>
                  <a:pt x="1582" y="1486"/>
                </a:moveTo>
                <a:lnTo>
                  <a:pt x="1416" y="1471"/>
                </a:lnTo>
                <a:lnTo>
                  <a:pt x="1332" y="1452"/>
                </a:lnTo>
                <a:lnTo>
                  <a:pt x="1250" y="1429"/>
                </a:lnTo>
                <a:lnTo>
                  <a:pt x="1166" y="1395"/>
                </a:lnTo>
                <a:lnTo>
                  <a:pt x="1081" y="1347"/>
                </a:lnTo>
                <a:lnTo>
                  <a:pt x="1001" y="1287"/>
                </a:lnTo>
                <a:lnTo>
                  <a:pt x="832" y="1116"/>
                </a:lnTo>
                <a:lnTo>
                  <a:pt x="666" y="872"/>
                </a:lnTo>
                <a:lnTo>
                  <a:pt x="500" y="580"/>
                </a:lnTo>
                <a:lnTo>
                  <a:pt x="415" y="431"/>
                </a:lnTo>
                <a:lnTo>
                  <a:pt x="331" y="294"/>
                </a:lnTo>
                <a:lnTo>
                  <a:pt x="251" y="174"/>
                </a:lnTo>
                <a:lnTo>
                  <a:pt x="166" y="80"/>
                </a:lnTo>
                <a:lnTo>
                  <a:pt x="82" y="20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267080" y="2743200"/>
            <a:ext cx="1067040" cy="3046320"/>
          </a:xfrm>
          <a:custGeom>
            <a:avLst/>
            <a:gdLst/>
            <a:ahLst/>
            <a:rect l="l" t="t" r="r" b="b"/>
            <a:pathLst>
              <a:path w="864" h="1919">
                <a:moveTo>
                  <a:pt x="0" y="1918"/>
                </a:moveTo>
                <a:lnTo>
                  <a:pt x="90" y="1899"/>
                </a:lnTo>
                <a:lnTo>
                  <a:pt x="136" y="1874"/>
                </a:lnTo>
                <a:lnTo>
                  <a:pt x="183" y="1844"/>
                </a:lnTo>
                <a:lnTo>
                  <a:pt x="227" y="1800"/>
                </a:lnTo>
                <a:lnTo>
                  <a:pt x="273" y="1738"/>
                </a:lnTo>
                <a:lnTo>
                  <a:pt x="319" y="1660"/>
                </a:lnTo>
                <a:lnTo>
                  <a:pt x="409" y="1440"/>
                </a:lnTo>
                <a:lnTo>
                  <a:pt x="499" y="1126"/>
                </a:lnTo>
                <a:lnTo>
                  <a:pt x="591" y="748"/>
                </a:lnTo>
                <a:lnTo>
                  <a:pt x="635" y="556"/>
                </a:lnTo>
                <a:lnTo>
                  <a:pt x="681" y="380"/>
                </a:lnTo>
                <a:lnTo>
                  <a:pt x="727" y="225"/>
                </a:lnTo>
                <a:lnTo>
                  <a:pt x="771" y="103"/>
                </a:lnTo>
                <a:lnTo>
                  <a:pt x="817" y="25"/>
                </a:lnTo>
                <a:lnTo>
                  <a:pt x="863" y="0"/>
                </a:ln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34120" y="2743200"/>
            <a:ext cx="1218960" cy="3046320"/>
          </a:xfrm>
          <a:custGeom>
            <a:avLst/>
            <a:gdLst/>
            <a:ahLst/>
            <a:rect l="l" t="t" r="r" b="b"/>
            <a:pathLst>
              <a:path w="960" h="1919">
                <a:moveTo>
                  <a:pt x="959" y="1918"/>
                </a:moveTo>
                <a:lnTo>
                  <a:pt x="858" y="1899"/>
                </a:lnTo>
                <a:lnTo>
                  <a:pt x="807" y="1874"/>
                </a:lnTo>
                <a:lnTo>
                  <a:pt x="758" y="1844"/>
                </a:lnTo>
                <a:lnTo>
                  <a:pt x="706" y="1800"/>
                </a:lnTo>
                <a:lnTo>
                  <a:pt x="655" y="1738"/>
                </a:lnTo>
                <a:lnTo>
                  <a:pt x="607" y="1660"/>
                </a:lnTo>
                <a:lnTo>
                  <a:pt x="504" y="1440"/>
                </a:lnTo>
                <a:lnTo>
                  <a:pt x="404" y="1126"/>
                </a:lnTo>
                <a:lnTo>
                  <a:pt x="303" y="748"/>
                </a:lnTo>
                <a:lnTo>
                  <a:pt x="252" y="556"/>
                </a:lnTo>
                <a:lnTo>
                  <a:pt x="200" y="380"/>
                </a:lnTo>
                <a:lnTo>
                  <a:pt x="152" y="225"/>
                </a:lnTo>
                <a:lnTo>
                  <a:pt x="101" y="103"/>
                </a:lnTo>
                <a:lnTo>
                  <a:pt x="49" y="25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8458200" y="5867280"/>
                <a:ext cx="41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1600200" y="3276720"/>
                <a:ext cx="460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5237280" y="5943600"/>
                <a:ext cx="325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762120" y="4376880"/>
                <a:ext cx="14475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2526-0844-4864-A5C4-2FC152F8A4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2578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2574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2574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998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998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5998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ability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5715000"/>
            <a:ext cx="25909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5029200"/>
            <a:ext cx="14479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2574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343400"/>
            <a:ext cx="327672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an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2743200"/>
            <a:ext cx="990720" cy="454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2743200"/>
            <a:ext cx="99072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3B20-EB3B-484B-89D5-D35413ABE74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334120" y="3809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pulation and Sampling Distribu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943600" y="5792760"/>
                <a:ext cx="1517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3657600" y="4495680"/>
            <a:ext cx="752400" cy="2192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2286000"/>
            <a:ext cx="12952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371600" y="1981080"/>
            <a:ext cx="1905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33720" y="3962520"/>
            <a:ext cx="2003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ll samples of size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09680" y="5867280"/>
            <a:ext cx="653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1447920"/>
            <a:ext cx="2133720" cy="2208240"/>
          </a:xfrm>
          <a:custGeom>
            <a:avLst/>
            <a:gdLst/>
            <a:ahLst/>
            <a:rect l="l" t="t" r="r" b="b"/>
            <a:pathLst>
              <a:path w="1344" h="1487">
                <a:moveTo>
                  <a:pt x="0" y="1486"/>
                </a:moveTo>
                <a:lnTo>
                  <a:pt x="141" y="1471"/>
                </a:lnTo>
                <a:lnTo>
                  <a:pt x="212" y="1452"/>
                </a:lnTo>
                <a:lnTo>
                  <a:pt x="284" y="1429"/>
                </a:lnTo>
                <a:lnTo>
                  <a:pt x="353" y="1395"/>
                </a:lnTo>
                <a:lnTo>
                  <a:pt x="425" y="1347"/>
                </a:lnTo>
                <a:lnTo>
                  <a:pt x="496" y="1287"/>
                </a:lnTo>
                <a:lnTo>
                  <a:pt x="636" y="1116"/>
                </a:lnTo>
                <a:lnTo>
                  <a:pt x="776" y="872"/>
                </a:lnTo>
                <a:lnTo>
                  <a:pt x="919" y="580"/>
                </a:lnTo>
                <a:lnTo>
                  <a:pt x="988" y="431"/>
                </a:lnTo>
                <a:lnTo>
                  <a:pt x="1060" y="294"/>
                </a:lnTo>
                <a:lnTo>
                  <a:pt x="1130" y="174"/>
                </a:lnTo>
                <a:lnTo>
                  <a:pt x="1199" y="80"/>
                </a:lnTo>
                <a:lnTo>
                  <a:pt x="1271" y="20"/>
                </a:lnTo>
                <a:lnTo>
                  <a:pt x="1343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34120" y="1447920"/>
            <a:ext cx="2512800" cy="2208240"/>
          </a:xfrm>
          <a:custGeom>
            <a:avLst/>
            <a:gdLst/>
            <a:ahLst/>
            <a:rect l="l" t="t" r="r" b="b"/>
            <a:pathLst>
              <a:path w="1583" h="1487">
                <a:moveTo>
                  <a:pt x="1582" y="1486"/>
                </a:moveTo>
                <a:lnTo>
                  <a:pt x="1416" y="1471"/>
                </a:lnTo>
                <a:lnTo>
                  <a:pt x="1332" y="1452"/>
                </a:lnTo>
                <a:lnTo>
                  <a:pt x="1250" y="1429"/>
                </a:lnTo>
                <a:lnTo>
                  <a:pt x="1166" y="1395"/>
                </a:lnTo>
                <a:lnTo>
                  <a:pt x="1081" y="1347"/>
                </a:lnTo>
                <a:lnTo>
                  <a:pt x="1001" y="1287"/>
                </a:lnTo>
                <a:lnTo>
                  <a:pt x="832" y="1116"/>
                </a:lnTo>
                <a:lnTo>
                  <a:pt x="666" y="872"/>
                </a:lnTo>
                <a:lnTo>
                  <a:pt x="500" y="580"/>
                </a:lnTo>
                <a:lnTo>
                  <a:pt x="415" y="431"/>
                </a:lnTo>
                <a:lnTo>
                  <a:pt x="331" y="294"/>
                </a:lnTo>
                <a:lnTo>
                  <a:pt x="251" y="174"/>
                </a:lnTo>
                <a:lnTo>
                  <a:pt x="166" y="80"/>
                </a:lnTo>
                <a:lnTo>
                  <a:pt x="82" y="20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267080" y="3809880"/>
            <a:ext cx="1067040" cy="1979640"/>
          </a:xfrm>
          <a:custGeom>
            <a:avLst/>
            <a:gdLst/>
            <a:ahLst/>
            <a:rect l="l" t="t" r="r" b="b"/>
            <a:pathLst>
              <a:path w="864" h="1919">
                <a:moveTo>
                  <a:pt x="0" y="1918"/>
                </a:moveTo>
                <a:lnTo>
                  <a:pt x="90" y="1899"/>
                </a:lnTo>
                <a:lnTo>
                  <a:pt x="136" y="1874"/>
                </a:lnTo>
                <a:lnTo>
                  <a:pt x="183" y="1844"/>
                </a:lnTo>
                <a:lnTo>
                  <a:pt x="227" y="1800"/>
                </a:lnTo>
                <a:lnTo>
                  <a:pt x="273" y="1738"/>
                </a:lnTo>
                <a:lnTo>
                  <a:pt x="319" y="1660"/>
                </a:lnTo>
                <a:lnTo>
                  <a:pt x="409" y="1440"/>
                </a:lnTo>
                <a:lnTo>
                  <a:pt x="499" y="1126"/>
                </a:lnTo>
                <a:lnTo>
                  <a:pt x="591" y="748"/>
                </a:lnTo>
                <a:lnTo>
                  <a:pt x="635" y="556"/>
                </a:lnTo>
                <a:lnTo>
                  <a:pt x="681" y="380"/>
                </a:lnTo>
                <a:lnTo>
                  <a:pt x="727" y="225"/>
                </a:lnTo>
                <a:lnTo>
                  <a:pt x="771" y="103"/>
                </a:lnTo>
                <a:lnTo>
                  <a:pt x="817" y="25"/>
                </a:lnTo>
                <a:lnTo>
                  <a:pt x="863" y="0"/>
                </a:ln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334120" y="3809880"/>
            <a:ext cx="1218960" cy="1979640"/>
          </a:xfrm>
          <a:custGeom>
            <a:avLst/>
            <a:gdLst/>
            <a:ahLst/>
            <a:rect l="l" t="t" r="r" b="b"/>
            <a:pathLst>
              <a:path w="960" h="1919">
                <a:moveTo>
                  <a:pt x="959" y="1918"/>
                </a:moveTo>
                <a:lnTo>
                  <a:pt x="858" y="1899"/>
                </a:lnTo>
                <a:lnTo>
                  <a:pt x="807" y="1874"/>
                </a:lnTo>
                <a:lnTo>
                  <a:pt x="758" y="1844"/>
                </a:lnTo>
                <a:lnTo>
                  <a:pt x="706" y="1800"/>
                </a:lnTo>
                <a:lnTo>
                  <a:pt x="655" y="1738"/>
                </a:lnTo>
                <a:lnTo>
                  <a:pt x="607" y="1660"/>
                </a:lnTo>
                <a:lnTo>
                  <a:pt x="504" y="1440"/>
                </a:lnTo>
                <a:lnTo>
                  <a:pt x="404" y="1126"/>
                </a:lnTo>
                <a:lnTo>
                  <a:pt x="303" y="748"/>
                </a:lnTo>
                <a:lnTo>
                  <a:pt x="252" y="556"/>
                </a:lnTo>
                <a:lnTo>
                  <a:pt x="200" y="380"/>
                </a:lnTo>
                <a:lnTo>
                  <a:pt x="152" y="225"/>
                </a:lnTo>
                <a:lnTo>
                  <a:pt x="101" y="103"/>
                </a:lnTo>
                <a:lnTo>
                  <a:pt x="49" y="25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5029200" y="320040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5867280" y="312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181480" y="59436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4952880" y="5867280"/>
                <a:ext cx="6922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5334120" y="1447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4876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pling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9CA7-2221-4A2F-B123-29420031BF0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f the Population is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Norma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pply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entral Limit 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the population i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 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means from the populatio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ill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pproximately 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long as the sample size is large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sampling distribution will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133720" y="5019840"/>
                <a:ext cx="1346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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5105520" y="4705200"/>
                <a:ext cx="19810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4A665-BD65-4881-80BA-22B5EF42D4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3276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1441440" y="2308320"/>
          <a:ext cx="7702560" cy="45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1440" y="2308320"/>
                    <a:ext cx="770256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entral Limit Theore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14600" y="2666880"/>
            <a:ext cx="2211480" cy="1449360"/>
          </a:xfrm>
          <a:custGeom>
            <a:avLst/>
            <a:gdLst/>
            <a:ahLst/>
            <a:rect l="l" t="t" r="r" b="b"/>
            <a:pathLst>
              <a:path w="1393" h="1249">
                <a:moveTo>
                  <a:pt x="527" y="1248"/>
                </a:moveTo>
                <a:lnTo>
                  <a:pt x="405" y="1173"/>
                </a:lnTo>
                <a:lnTo>
                  <a:pt x="365" y="1144"/>
                </a:lnTo>
                <a:lnTo>
                  <a:pt x="317" y="1105"/>
                </a:lnTo>
                <a:lnTo>
                  <a:pt x="282" y="1075"/>
                </a:lnTo>
                <a:lnTo>
                  <a:pt x="248" y="1040"/>
                </a:lnTo>
                <a:lnTo>
                  <a:pt x="215" y="1006"/>
                </a:lnTo>
                <a:lnTo>
                  <a:pt x="188" y="972"/>
                </a:lnTo>
                <a:lnTo>
                  <a:pt x="156" y="930"/>
                </a:lnTo>
                <a:lnTo>
                  <a:pt x="118" y="878"/>
                </a:lnTo>
                <a:lnTo>
                  <a:pt x="92" y="833"/>
                </a:lnTo>
                <a:lnTo>
                  <a:pt x="67" y="786"/>
                </a:lnTo>
                <a:lnTo>
                  <a:pt x="52" y="750"/>
                </a:lnTo>
                <a:lnTo>
                  <a:pt x="35" y="709"/>
                </a:lnTo>
                <a:lnTo>
                  <a:pt x="25" y="677"/>
                </a:lnTo>
                <a:lnTo>
                  <a:pt x="18" y="638"/>
                </a:lnTo>
                <a:lnTo>
                  <a:pt x="10" y="603"/>
                </a:lnTo>
                <a:lnTo>
                  <a:pt x="5" y="565"/>
                </a:lnTo>
                <a:lnTo>
                  <a:pt x="2" y="534"/>
                </a:lnTo>
                <a:lnTo>
                  <a:pt x="0" y="493"/>
                </a:lnTo>
                <a:lnTo>
                  <a:pt x="0" y="449"/>
                </a:lnTo>
                <a:lnTo>
                  <a:pt x="7" y="409"/>
                </a:lnTo>
                <a:lnTo>
                  <a:pt x="14" y="375"/>
                </a:lnTo>
                <a:lnTo>
                  <a:pt x="24" y="337"/>
                </a:lnTo>
                <a:lnTo>
                  <a:pt x="36" y="299"/>
                </a:lnTo>
                <a:lnTo>
                  <a:pt x="60" y="254"/>
                </a:lnTo>
                <a:lnTo>
                  <a:pt x="85" y="218"/>
                </a:lnTo>
                <a:lnTo>
                  <a:pt x="109" y="190"/>
                </a:lnTo>
                <a:lnTo>
                  <a:pt x="135" y="162"/>
                </a:lnTo>
                <a:lnTo>
                  <a:pt x="170" y="134"/>
                </a:lnTo>
                <a:lnTo>
                  <a:pt x="199" y="111"/>
                </a:lnTo>
                <a:lnTo>
                  <a:pt x="229" y="93"/>
                </a:lnTo>
                <a:lnTo>
                  <a:pt x="272" y="70"/>
                </a:lnTo>
                <a:lnTo>
                  <a:pt x="323" y="48"/>
                </a:lnTo>
                <a:lnTo>
                  <a:pt x="368" y="33"/>
                </a:lnTo>
                <a:lnTo>
                  <a:pt x="409" y="20"/>
                </a:lnTo>
                <a:lnTo>
                  <a:pt x="454" y="11"/>
                </a:lnTo>
                <a:lnTo>
                  <a:pt x="495" y="8"/>
                </a:lnTo>
                <a:lnTo>
                  <a:pt x="542" y="4"/>
                </a:lnTo>
                <a:lnTo>
                  <a:pt x="601" y="0"/>
                </a:lnTo>
                <a:lnTo>
                  <a:pt x="654" y="3"/>
                </a:lnTo>
                <a:lnTo>
                  <a:pt x="715" y="6"/>
                </a:lnTo>
                <a:lnTo>
                  <a:pt x="829" y="26"/>
                </a:lnTo>
                <a:lnTo>
                  <a:pt x="919" y="51"/>
                </a:lnTo>
                <a:lnTo>
                  <a:pt x="1011" y="84"/>
                </a:lnTo>
                <a:lnTo>
                  <a:pt x="1083" y="114"/>
                </a:lnTo>
                <a:lnTo>
                  <a:pt x="1172" y="159"/>
                </a:lnTo>
                <a:lnTo>
                  <a:pt x="1221" y="80"/>
                </a:lnTo>
                <a:lnTo>
                  <a:pt x="1392" y="428"/>
                </a:lnTo>
                <a:lnTo>
                  <a:pt x="988" y="447"/>
                </a:lnTo>
                <a:lnTo>
                  <a:pt x="1041" y="364"/>
                </a:lnTo>
                <a:lnTo>
                  <a:pt x="952" y="320"/>
                </a:lnTo>
                <a:lnTo>
                  <a:pt x="881" y="293"/>
                </a:lnTo>
                <a:lnTo>
                  <a:pt x="805" y="269"/>
                </a:lnTo>
                <a:lnTo>
                  <a:pt x="692" y="248"/>
                </a:lnTo>
                <a:lnTo>
                  <a:pt x="635" y="246"/>
                </a:lnTo>
                <a:lnTo>
                  <a:pt x="576" y="246"/>
                </a:lnTo>
                <a:lnTo>
                  <a:pt x="525" y="253"/>
                </a:lnTo>
                <a:lnTo>
                  <a:pt x="474" y="260"/>
                </a:lnTo>
                <a:lnTo>
                  <a:pt x="430" y="269"/>
                </a:lnTo>
                <a:lnTo>
                  <a:pt x="389" y="284"/>
                </a:lnTo>
                <a:lnTo>
                  <a:pt x="342" y="302"/>
                </a:lnTo>
                <a:lnTo>
                  <a:pt x="295" y="330"/>
                </a:lnTo>
                <a:lnTo>
                  <a:pt x="257" y="356"/>
                </a:lnTo>
                <a:lnTo>
                  <a:pt x="229" y="384"/>
                </a:lnTo>
                <a:lnTo>
                  <a:pt x="196" y="420"/>
                </a:lnTo>
                <a:lnTo>
                  <a:pt x="170" y="461"/>
                </a:lnTo>
                <a:lnTo>
                  <a:pt x="154" y="489"/>
                </a:lnTo>
                <a:lnTo>
                  <a:pt x="140" y="520"/>
                </a:lnTo>
                <a:lnTo>
                  <a:pt x="129" y="563"/>
                </a:lnTo>
                <a:lnTo>
                  <a:pt x="122" y="604"/>
                </a:lnTo>
                <a:lnTo>
                  <a:pt x="118" y="645"/>
                </a:lnTo>
                <a:lnTo>
                  <a:pt x="121" y="690"/>
                </a:lnTo>
                <a:lnTo>
                  <a:pt x="130" y="757"/>
                </a:lnTo>
                <a:lnTo>
                  <a:pt x="144" y="805"/>
                </a:lnTo>
                <a:lnTo>
                  <a:pt x="165" y="863"/>
                </a:lnTo>
                <a:lnTo>
                  <a:pt x="191" y="914"/>
                </a:lnTo>
                <a:lnTo>
                  <a:pt x="212" y="951"/>
                </a:lnTo>
                <a:lnTo>
                  <a:pt x="240" y="991"/>
                </a:lnTo>
                <a:lnTo>
                  <a:pt x="266" y="1026"/>
                </a:lnTo>
                <a:lnTo>
                  <a:pt x="289" y="1053"/>
                </a:lnTo>
                <a:lnTo>
                  <a:pt x="314" y="1081"/>
                </a:lnTo>
                <a:lnTo>
                  <a:pt x="346" y="1109"/>
                </a:lnTo>
                <a:lnTo>
                  <a:pt x="377" y="1135"/>
                </a:lnTo>
                <a:lnTo>
                  <a:pt x="418" y="1169"/>
                </a:lnTo>
                <a:lnTo>
                  <a:pt x="527" y="1248"/>
                </a:lnTo>
              </a:path>
            </a:pathLst>
          </a:custGeom>
          <a:solidFill>
            <a:srgbClr val="ced0cf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57200" y="2133720"/>
            <a:ext cx="18288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sample size gets large enough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400800" y="1905120"/>
            <a:ext cx="25146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ing distribution becomes almost normal regardless of shape of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905120" y="6324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8381880" y="6019920"/>
                <a:ext cx="416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1557-93C9-43AC-A2A1-3D9FC15A5B5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 flipV="1">
            <a:off x="6781680" y="472392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038480" y="1752480"/>
            <a:ext cx="2743200" cy="3988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038480"/>
            <a:ext cx="4191120" cy="67932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comes normal as n incre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2819520"/>
            <a:ext cx="228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entral T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38080" y="411480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62120" y="5562720"/>
            <a:ext cx="2689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ampling with replac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7009920" y="4943520"/>
            <a:ext cx="38124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6315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3657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324480" y="2143080"/>
            <a:ext cx="2057400" cy="1371600"/>
          </a:xfrm>
          <a:custGeom>
            <a:avLst/>
            <a:gdLst/>
            <a:ahLst/>
            <a:rect l="l" t="t" r="r" b="b"/>
            <a:pathLst>
              <a:path w="1296" h="864">
                <a:moveTo>
                  <a:pt x="1295" y="863"/>
                </a:moveTo>
                <a:lnTo>
                  <a:pt x="1159" y="854"/>
                </a:lnTo>
                <a:lnTo>
                  <a:pt x="1090" y="843"/>
                </a:lnTo>
                <a:lnTo>
                  <a:pt x="1023" y="830"/>
                </a:lnTo>
                <a:lnTo>
                  <a:pt x="954" y="810"/>
                </a:lnTo>
                <a:lnTo>
                  <a:pt x="885" y="782"/>
                </a:lnTo>
                <a:lnTo>
                  <a:pt x="819" y="747"/>
                </a:lnTo>
                <a:lnTo>
                  <a:pt x="681" y="648"/>
                </a:lnTo>
                <a:lnTo>
                  <a:pt x="545" y="507"/>
                </a:lnTo>
                <a:lnTo>
                  <a:pt x="409" y="337"/>
                </a:lnTo>
                <a:lnTo>
                  <a:pt x="340" y="250"/>
                </a:lnTo>
                <a:lnTo>
                  <a:pt x="271" y="171"/>
                </a:lnTo>
                <a:lnTo>
                  <a:pt x="205" y="101"/>
                </a:lnTo>
                <a:lnTo>
                  <a:pt x="136" y="46"/>
                </a:lnTo>
                <a:lnTo>
                  <a:pt x="67" y="1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486400" y="2143080"/>
            <a:ext cx="838080" cy="1371600"/>
          </a:xfrm>
          <a:custGeom>
            <a:avLst/>
            <a:gdLst/>
            <a:ahLst/>
            <a:rect l="l" t="t" r="r" b="b"/>
            <a:pathLst>
              <a:path w="528" h="864">
                <a:moveTo>
                  <a:pt x="0" y="863"/>
                </a:moveTo>
                <a:lnTo>
                  <a:pt x="55" y="854"/>
                </a:lnTo>
                <a:lnTo>
                  <a:pt x="83" y="843"/>
                </a:lnTo>
                <a:lnTo>
                  <a:pt x="112" y="830"/>
                </a:lnTo>
                <a:lnTo>
                  <a:pt x="139" y="810"/>
                </a:lnTo>
                <a:lnTo>
                  <a:pt x="167" y="782"/>
                </a:lnTo>
                <a:lnTo>
                  <a:pt x="195" y="747"/>
                </a:lnTo>
                <a:lnTo>
                  <a:pt x="250" y="648"/>
                </a:lnTo>
                <a:lnTo>
                  <a:pt x="305" y="507"/>
                </a:lnTo>
                <a:lnTo>
                  <a:pt x="361" y="337"/>
                </a:lnTo>
                <a:lnTo>
                  <a:pt x="388" y="250"/>
                </a:lnTo>
                <a:lnTo>
                  <a:pt x="416" y="171"/>
                </a:lnTo>
                <a:lnTo>
                  <a:pt x="444" y="101"/>
                </a:lnTo>
                <a:lnTo>
                  <a:pt x="471" y="46"/>
                </a:lnTo>
                <a:lnTo>
                  <a:pt x="499" y="11"/>
                </a:lnTo>
                <a:lnTo>
                  <a:pt x="527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486400" y="5105520"/>
            <a:ext cx="990720" cy="1143000"/>
          </a:xfrm>
          <a:custGeom>
            <a:avLst/>
            <a:gdLst/>
            <a:ahLst/>
            <a:rect l="l" t="t" r="r" b="b"/>
            <a:pathLst>
              <a:path w="624" h="720">
                <a:moveTo>
                  <a:pt x="0" y="719"/>
                </a:moveTo>
                <a:lnTo>
                  <a:pt x="65" y="712"/>
                </a:lnTo>
                <a:lnTo>
                  <a:pt x="99" y="703"/>
                </a:lnTo>
                <a:lnTo>
                  <a:pt x="132" y="692"/>
                </a:lnTo>
                <a:lnTo>
                  <a:pt x="164" y="675"/>
                </a:lnTo>
                <a:lnTo>
                  <a:pt x="197" y="652"/>
                </a:lnTo>
                <a:lnTo>
                  <a:pt x="230" y="623"/>
                </a:lnTo>
                <a:lnTo>
                  <a:pt x="295" y="540"/>
                </a:lnTo>
                <a:lnTo>
                  <a:pt x="360" y="422"/>
                </a:lnTo>
                <a:lnTo>
                  <a:pt x="427" y="280"/>
                </a:lnTo>
                <a:lnTo>
                  <a:pt x="459" y="209"/>
                </a:lnTo>
                <a:lnTo>
                  <a:pt x="492" y="142"/>
                </a:lnTo>
                <a:lnTo>
                  <a:pt x="525" y="84"/>
                </a:lnTo>
                <a:lnTo>
                  <a:pt x="557" y="39"/>
                </a:lnTo>
                <a:lnTo>
                  <a:pt x="590" y="9"/>
                </a:lnTo>
                <a:lnTo>
                  <a:pt x="623" y="0"/>
                </a:lnTo>
              </a:path>
            </a:pathLst>
          </a:custGeom>
          <a:noFill/>
          <a:ln cap="rnd" w="50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477120" y="5105520"/>
            <a:ext cx="198108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1247" y="719"/>
                </a:moveTo>
                <a:lnTo>
                  <a:pt x="1116" y="712"/>
                </a:lnTo>
                <a:lnTo>
                  <a:pt x="1049" y="703"/>
                </a:lnTo>
                <a:lnTo>
                  <a:pt x="985" y="692"/>
                </a:lnTo>
                <a:lnTo>
                  <a:pt x="918" y="675"/>
                </a:lnTo>
                <a:lnTo>
                  <a:pt x="852" y="652"/>
                </a:lnTo>
                <a:lnTo>
                  <a:pt x="789" y="623"/>
                </a:lnTo>
                <a:lnTo>
                  <a:pt x="656" y="540"/>
                </a:lnTo>
                <a:lnTo>
                  <a:pt x="525" y="422"/>
                </a:lnTo>
                <a:lnTo>
                  <a:pt x="394" y="280"/>
                </a:lnTo>
                <a:lnTo>
                  <a:pt x="327" y="209"/>
                </a:lnTo>
                <a:lnTo>
                  <a:pt x="261" y="142"/>
                </a:lnTo>
                <a:lnTo>
                  <a:pt x="197" y="84"/>
                </a:lnTo>
                <a:lnTo>
                  <a:pt x="131" y="39"/>
                </a:lnTo>
                <a:lnTo>
                  <a:pt x="64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943600" y="4724280"/>
            <a:ext cx="838080" cy="1524240"/>
          </a:xfrm>
          <a:custGeom>
            <a:avLst/>
            <a:gdLst/>
            <a:ahLst/>
            <a:rect l="l" t="t" r="r" b="b"/>
            <a:pathLst>
              <a:path w="528" h="960">
                <a:moveTo>
                  <a:pt x="0" y="959"/>
                </a:moveTo>
                <a:lnTo>
                  <a:pt x="55" y="949"/>
                </a:lnTo>
                <a:lnTo>
                  <a:pt x="83" y="937"/>
                </a:lnTo>
                <a:lnTo>
                  <a:pt x="112" y="922"/>
                </a:lnTo>
                <a:lnTo>
                  <a:pt x="139" y="900"/>
                </a:lnTo>
                <a:lnTo>
                  <a:pt x="167" y="869"/>
                </a:lnTo>
                <a:lnTo>
                  <a:pt x="195" y="830"/>
                </a:lnTo>
                <a:lnTo>
                  <a:pt x="250" y="720"/>
                </a:lnTo>
                <a:lnTo>
                  <a:pt x="305" y="563"/>
                </a:lnTo>
                <a:lnTo>
                  <a:pt x="361" y="374"/>
                </a:lnTo>
                <a:lnTo>
                  <a:pt x="388" y="278"/>
                </a:lnTo>
                <a:lnTo>
                  <a:pt x="416" y="190"/>
                </a:lnTo>
                <a:lnTo>
                  <a:pt x="444" y="112"/>
                </a:lnTo>
                <a:lnTo>
                  <a:pt x="471" y="51"/>
                </a:lnTo>
                <a:lnTo>
                  <a:pt x="499" y="13"/>
                </a:lnTo>
                <a:lnTo>
                  <a:pt x="527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781680" y="4724280"/>
            <a:ext cx="990720" cy="1524240"/>
          </a:xfrm>
          <a:custGeom>
            <a:avLst/>
            <a:gdLst/>
            <a:ahLst/>
            <a:rect l="l" t="t" r="r" b="b"/>
            <a:pathLst>
              <a:path w="624" h="960">
                <a:moveTo>
                  <a:pt x="623" y="959"/>
                </a:moveTo>
                <a:lnTo>
                  <a:pt x="558" y="949"/>
                </a:lnTo>
                <a:lnTo>
                  <a:pt x="525" y="937"/>
                </a:lnTo>
                <a:lnTo>
                  <a:pt x="493" y="922"/>
                </a:lnTo>
                <a:lnTo>
                  <a:pt x="459" y="900"/>
                </a:lnTo>
                <a:lnTo>
                  <a:pt x="426" y="869"/>
                </a:lnTo>
                <a:lnTo>
                  <a:pt x="394" y="830"/>
                </a:lnTo>
                <a:lnTo>
                  <a:pt x="328" y="720"/>
                </a:lnTo>
                <a:lnTo>
                  <a:pt x="262" y="563"/>
                </a:lnTo>
                <a:lnTo>
                  <a:pt x="197" y="374"/>
                </a:lnTo>
                <a:lnTo>
                  <a:pt x="164" y="278"/>
                </a:lnTo>
                <a:lnTo>
                  <a:pt x="130" y="190"/>
                </a:lnTo>
                <a:lnTo>
                  <a:pt x="99" y="112"/>
                </a:lnTo>
                <a:lnTo>
                  <a:pt x="65" y="51"/>
                </a:lnTo>
                <a:lnTo>
                  <a:pt x="32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781680" y="244800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562720" y="5410080"/>
            <a:ext cx="533160" cy="2286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8381880" y="3657600"/>
                <a:ext cx="335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8458200" y="609588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48" name=""/>
          <p:cNvSpPr/>
          <p:nvPr/>
        </p:nvSpPr>
        <p:spPr>
          <a:xfrm>
            <a:off x="7391520" y="4648320"/>
            <a:ext cx="1143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r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809880" y="4876920"/>
            <a:ext cx="2003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maller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f the Population is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Norma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1981080"/>
            <a:ext cx="3222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distribution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62120" y="2819520"/>
            <a:ext cx="259056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114800"/>
            <a:ext cx="2590560" cy="13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00600" y="2133720"/>
            <a:ext cx="0" cy="19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1600200" y="3200400"/>
                <a:ext cx="1190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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1447920" y="4191120"/>
                <a:ext cx="17524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6629400" y="6248520"/>
                <a:ext cx="378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662880" y="3657600"/>
                <a:ext cx="271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FC843-2325-40ED-8FF8-510B03C7DE6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Large is Large Enough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distributions,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 &gt; 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ill give a sampling distribution that is nearl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airly symmetric distributions,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 &gt;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2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ormal population distributions, the sampling distribution of the mean is always normally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5F11-4B9F-4786-A1B3-236F04EA72C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population has mean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tandard deviation </a:t>
            </a:r>
            <a:r>
              <a:rPr b="0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uppose a random sample of siz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n = 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elec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that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between 7.8 and 8.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A28F6-E4BA-4FDF-A88C-7E9E962C7AC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21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&gt; 30 … so the sampling distribution is approximatel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ean        = 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se as parameters of the normal distribution and find the probability that the sample mean is between 7.8 and 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8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3581280" y="3429000"/>
                <a:ext cx="403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410080" y="3962520"/>
                <a:ext cx="2927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DB57-25BF-4ADA-9405-9C9022005D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74320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50920" y="38088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ing Distribut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f the Propor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286000"/>
            <a:ext cx="2514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523880" y="4038480"/>
            <a:ext cx="251460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Distribution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800600" y="4038480"/>
            <a:ext cx="2514600" cy="180036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Distributions of the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743200" y="38098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4419720" y="32763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3FB6A-20B8-4415-ADC4-1C9159310B3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pulation Proportions, p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15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the proportion of the population having some characteristic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20000"/>
              </a:lnSpc>
              <a:spcBef>
                <a:spcPts val="15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propor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  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rovides an estimate of 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≤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as a binomi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suming sampling with replacement from a finite population or without replacement from an infinite pop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04920" y="3505320"/>
                <a:ext cx="861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 the sample having the characteristic of interest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ample siz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89A20-6C2A-4EEB-A1E2-63B9B11072F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ing Distribution of p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07696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d by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distribution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71800" y="6019920"/>
            <a:ext cx="39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p = population propor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486400" y="2133720"/>
            <a:ext cx="2600280" cy="39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13560" y="3656160"/>
            <a:ext cx="304560" cy="1522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408640" y="3732120"/>
            <a:ext cx="304920" cy="7632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18120" y="3427560"/>
            <a:ext cx="304920" cy="3808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323040" y="3122640"/>
            <a:ext cx="304920" cy="68580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32520" y="3122640"/>
            <a:ext cx="304920" cy="68580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627960" y="2970360"/>
            <a:ext cx="304560" cy="8380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237440" y="3427560"/>
            <a:ext cx="304920" cy="3808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542360" y="3656160"/>
            <a:ext cx="304560" cy="15228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846920" y="3732120"/>
            <a:ext cx="304920" cy="76320"/>
          </a:xfrm>
          <a:prstGeom prst="rect">
            <a:avLst/>
          </a:prstGeom>
          <a:solidFill>
            <a:srgbClr val="ffcf01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105520" y="27432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105520" y="38098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105520" y="3505320"/>
            <a:ext cx="32763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105520" y="3200400"/>
            <a:ext cx="32763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105520" y="2895480"/>
            <a:ext cx="32763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5560920" y="2894040"/>
            <a:ext cx="2439720" cy="825480"/>
            <a:chOff x="5560920" y="2894040"/>
            <a:chExt cx="2439720" cy="825480"/>
          </a:xfrm>
        </p:grpSpPr>
        <p:sp>
          <p:nvSpPr>
            <p:cNvPr id="799" name=""/>
            <p:cNvSpPr/>
            <p:nvPr/>
          </p:nvSpPr>
          <p:spPr>
            <a:xfrm>
              <a:off x="6783120" y="2894040"/>
              <a:ext cx="1217520" cy="825480"/>
            </a:xfrm>
            <a:custGeom>
              <a:avLst/>
              <a:gdLst/>
              <a:ahLst/>
              <a:rect l="l" t="t" r="r" b="b"/>
              <a:pathLst>
                <a:path w="767" h="520">
                  <a:moveTo>
                    <a:pt x="766" y="519"/>
                  </a:moveTo>
                  <a:lnTo>
                    <a:pt x="686" y="513"/>
                  </a:lnTo>
                  <a:lnTo>
                    <a:pt x="645" y="507"/>
                  </a:lnTo>
                  <a:lnTo>
                    <a:pt x="605" y="499"/>
                  </a:lnTo>
                  <a:lnTo>
                    <a:pt x="564" y="487"/>
                  </a:lnTo>
                  <a:lnTo>
                    <a:pt x="523" y="470"/>
                  </a:lnTo>
                  <a:lnTo>
                    <a:pt x="485" y="449"/>
                  </a:lnTo>
                  <a:lnTo>
                    <a:pt x="403" y="389"/>
                  </a:lnTo>
                  <a:lnTo>
                    <a:pt x="322" y="304"/>
                  </a:lnTo>
                  <a:lnTo>
                    <a:pt x="242" y="203"/>
                  </a:lnTo>
                  <a:lnTo>
                    <a:pt x="201" y="151"/>
                  </a:lnTo>
                  <a:lnTo>
                    <a:pt x="160" y="102"/>
                  </a:lnTo>
                  <a:lnTo>
                    <a:pt x="121" y="61"/>
                  </a:lnTo>
                  <a:lnTo>
                    <a:pt x="80" y="28"/>
                  </a:lnTo>
                  <a:lnTo>
                    <a:pt x="39" y="7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60920" y="2894040"/>
              <a:ext cx="1224000" cy="825480"/>
            </a:xfrm>
            <a:custGeom>
              <a:avLst/>
              <a:gdLst/>
              <a:ahLst/>
              <a:rect l="l" t="t" r="r" b="b"/>
              <a:pathLst>
                <a:path w="771" h="520">
                  <a:moveTo>
                    <a:pt x="0" y="519"/>
                  </a:moveTo>
                  <a:lnTo>
                    <a:pt x="81" y="513"/>
                  </a:lnTo>
                  <a:lnTo>
                    <a:pt x="122" y="507"/>
                  </a:lnTo>
                  <a:lnTo>
                    <a:pt x="163" y="499"/>
                  </a:lnTo>
                  <a:lnTo>
                    <a:pt x="202" y="487"/>
                  </a:lnTo>
                  <a:lnTo>
                    <a:pt x="243" y="470"/>
                  </a:lnTo>
                  <a:lnTo>
                    <a:pt x="285" y="449"/>
                  </a:lnTo>
                  <a:lnTo>
                    <a:pt x="364" y="389"/>
                  </a:lnTo>
                  <a:lnTo>
                    <a:pt x="445" y="304"/>
                  </a:lnTo>
                  <a:lnTo>
                    <a:pt x="527" y="203"/>
                  </a:lnTo>
                  <a:lnTo>
                    <a:pt x="567" y="151"/>
                  </a:lnTo>
                  <a:lnTo>
                    <a:pt x="608" y="102"/>
                  </a:lnTo>
                  <a:lnTo>
                    <a:pt x="648" y="61"/>
                  </a:lnTo>
                  <a:lnTo>
                    <a:pt x="688" y="28"/>
                  </a:lnTo>
                  <a:lnTo>
                    <a:pt x="729" y="7"/>
                  </a:lnTo>
                  <a:lnTo>
                    <a:pt x="770" y="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4572000" y="2286000"/>
            <a:ext cx="1216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724280" y="2743200"/>
            <a:ext cx="4543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876920" y="3809880"/>
            <a:ext cx="380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    . 2       .4       .6        8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534520" y="3733920"/>
            <a:ext cx="4539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1676520" y="4970520"/>
                <a:ext cx="1307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4700520" y="4648320"/>
                <a:ext cx="27338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1189080" y="2895480"/>
                <a:ext cx="182556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≥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4E2C-BCF0-49F7-A16D-080B574ACD1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17200" y="380520"/>
            <a:ext cx="83264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tinuous Probability Distribu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any value on a continuum (can assume an infinite number of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of a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quired to complete a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 in i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an potentially take on any value, depending only on the ability to measure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D472-4C18-403D-BBB7-4E53CEEE04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828800" y="4572000"/>
            <a:ext cx="5257800" cy="12952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true proportion of voters who support Proposition A  is  p = .4,  what is the probability that a sample of size 200 yields a sample proportion between .40 and .4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85800" y="45720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: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f  p = .4  and  n = 200, w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(.40 ≤ 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≤ .45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2E2A-6BB6-458A-81DF-B80D945AB6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1595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f  p = .4  and  n = 200, w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(.40 ≤ 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≤ .45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057400" y="3200400"/>
                <a:ext cx="51973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4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38088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    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0880" y="2743200"/>
            <a:ext cx="8458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1143000" y="3352680"/>
                <a:ext cx="5428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609480" y="4648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Stat Normal distribution with mean of .4 and standard deviation .034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620F-D0AF-4F39-8E2F-B00CDDD853E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ampling from Finite Popul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68400"/>
            <a:ext cx="79250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standard error if sample siz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large relative to population siz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finite population correction factor (f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error with F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752480" y="2819520"/>
          <a:ext cx="365760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819520"/>
                    <a:ext cx="36576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4" name=""/>
          <p:cNvGraphicFramePr/>
          <p:nvPr/>
        </p:nvGraphicFramePr>
        <p:xfrm>
          <a:off x="1981080" y="4114800"/>
          <a:ext cx="3048120" cy="11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114800"/>
                    <a:ext cx="30481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6" name=""/>
          <p:cNvGraphicFramePr/>
          <p:nvPr/>
        </p:nvGraphicFramePr>
        <p:xfrm>
          <a:off x="1676520" y="5410080"/>
          <a:ext cx="4190760" cy="116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410080"/>
                    <a:ext cx="419076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E8115-3984-4E0D-B629-4BC7780D134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62120" y="2325240"/>
            <a:ext cx="8153280" cy="3846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key continuous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uniform,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probabilities using PhStat and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d when to apply different distrib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distributions to decis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6802-E5F6-45F4-9471-AAB3E815DB3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sampling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sampling distribution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rm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6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Central Limit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sampling distribution of a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probabilities using sampling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5053-10A9-48A2-ACF6-FEA63525FA6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2578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2574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457200"/>
            <a:ext cx="7045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Norm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12E0-4D8F-4822-94C2-704CD202BE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Normal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ell Shap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mmetrical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d7a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993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7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Mean, Median an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is determined by the mea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 is determined by the standard deviatio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variable has an infinite theoretical ran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4800600"/>
            <a:ext cx="15336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= Medi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=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4419720"/>
            <a:ext cx="0" cy="35064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743200"/>
            <a:ext cx="1430280" cy="1144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2743200"/>
            <a:ext cx="1430280" cy="1144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2743200"/>
            <a:ext cx="0" cy="121932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2743200"/>
            <a:ext cx="3005280" cy="1214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6240" y="2658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56240" y="27813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56240" y="2901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56240" y="30243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56240" y="3144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56240" y="3267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56240" y="3387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56240" y="3510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56240" y="3630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56240" y="37512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741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7388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7256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723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7244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7220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723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208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7076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705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43560" y="317484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80400" y="384984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534520" y="361476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0760" y="220968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39625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010280" y="3352680"/>
            <a:ext cx="5335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38D6-0E67-45DB-9869-7219B6A4663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Normal Probability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nsity Func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868040"/>
            <a:ext cx="8077320" cy="102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 for the normal probability density func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724280"/>
            <a:ext cx="800100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= the mathematical constant approximated by 2.718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he mathematical constant approximated by 3.14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he population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he population standard dev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any value of the continuou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09680" y="2971800"/>
                <a:ext cx="44197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π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/2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/σ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 flipV="1">
            <a:off x="990720" y="1599840"/>
            <a:ext cx="678168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5487E-1897-4FA4-9603-4491339E6A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0200" y="3048120"/>
            <a:ext cx="54864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3680" y="2819520"/>
            <a:ext cx="690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3505320"/>
            <a:ext cx="2438640" cy="190476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505320"/>
            <a:ext cx="2344680" cy="190476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0" cy="19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53341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5334120"/>
            <a:ext cx="47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ability a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rea Under the Curv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6765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tal area under the curve is 1.0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, and the curve is symmetric, so half is above the mean, half i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95480" y="5867280"/>
                <a:ext cx="35863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533920" y="3124080"/>
                <a:ext cx="2789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724040" y="2971800"/>
                <a:ext cx="29844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 flipH="1">
            <a:off x="4952880" y="358128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3429000"/>
            <a:ext cx="76212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D186-296D-4332-9A59-B766C14BF5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15:44:29Z</dcterms:created>
  <dc:creator>Dirk Yandell</dc:creator>
  <dc:description/>
  <dc:language>en-US</dc:language>
  <cp:lastModifiedBy>HP Pavilion</cp:lastModifiedBy>
  <cp:lastPrinted>1998-11-22T23:37:53Z</cp:lastPrinted>
  <dcterms:modified xsi:type="dcterms:W3CDTF">2004-09-19T16:43:11Z</dcterms:modified>
  <cp:revision>64</cp:revision>
  <dc:subject>Chapter 6</dc:subject>
  <dc:title>Statistics for Managers Using Microsoft Excel, 4/e</dc:title>
</cp:coreProperties>
</file>