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9.wmf" ContentType="image/x-wmf"/>
  <Override PartName="/ppt/media/image12.wmf" ContentType="image/x-wmf"/>
  <Override PartName="/ppt/media/image8.png" ContentType="image/png"/>
  <Override PartName="/ppt/media/image14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2034-002D-4851-8A5D-9AFFF8FBE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C222-DBEA-458D-BEEB-A623C1BCF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9C7B-3D55-4D76-B4AD-15599D5A1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E69D-0A0F-4F83-B753-1DB81322D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6F272-B07E-42D5-8254-B712A827BD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8B414-5BBB-4D09-B4C0-9030170AF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67FDB-B972-47D8-8861-906DCE813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B5ABF-4938-409A-94DB-F582A4F5E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B093C-2852-4D36-92E0-3D8159A1F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6410C-B21B-4C22-8617-CA3805ACFF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B76B-3F76-439E-8F51-0C586EF8D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6C24-0FD0-41F9-91CE-325826886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D49CF-BBA9-49A2-8171-B72B2C6FA3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F6850-303D-438B-9D0B-90D47EA862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D6E1C-4A3E-494E-BFF1-B5D023333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EF360-158C-48D8-939F-6F85D724BE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A3EE-E3E1-4BD8-8DB5-DB45EAD84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C6C2-CD4F-4FA2-A8C8-F40989D7A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5C07-083F-4CF1-B6EB-4E8BC5474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A37C-76B3-436E-B14B-6010BAC8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2558-E08C-4E09-BD21-C0F65DA00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0DBC-7525-4756-8A83-AC8E74144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C8C6-6317-461D-98E5-C80F96EBF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E94A-0929-435E-8826-C8B6D339A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0D420B5D-0782-441F-84CE-8A7D35F9B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1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2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3-</a:t>
            </a:r>
            <a:fld id="{6A62C2D3-9DA6-4132-B2CD-0BF7EE45A7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5812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Descriptive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FCEB-4DD6-4B07-BB34-7180B6194E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lue that occurs most of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inly used for grouped numerical data or categorical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24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240" y="557676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570640"/>
            <a:ext cx="541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  1   2   3   4   5   6   7   8   9   10   11   12   13   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89240" y="48909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83000" y="6175440"/>
            <a:ext cx="16984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018240" y="5972760"/>
            <a:ext cx="609840" cy="398520"/>
          </a:xfrm>
          <a:prstGeom prst="rightArrow">
            <a:avLst>
              <a:gd name="adj1" fmla="val 31481"/>
              <a:gd name="adj2" fmla="val 3866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8640" y="557676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57676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5504040"/>
            <a:ext cx="253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6616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70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6010200"/>
            <a:ext cx="162252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DEEF-34BE-4479-A4DF-7DCE373783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14400" y="195228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095880" cy="89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view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211B-3962-4B97-BC43-90249EA616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742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view Example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ummary Stat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de0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6DF7-FF97-4330-AD3A-17EA7E411A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ich measure of locat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s the “best”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6449-FCFB-4F75-BB67-9BBB7A9237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ometric Me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easure the rate of change of a variabl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 mean rate of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status of an investme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of return in time period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133720" y="2973240"/>
                <a:ext cx="4767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62120" y="4876920"/>
                <a:ext cx="77644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5F5E-4D18-41F1-9A29-EE6DE6140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ometric Mea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46784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vestment of $100,000 declined to $50,000 at the end of year one and rebounded to $100,000 at end of year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143000" y="3429000"/>
                <a:ext cx="7334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rot="16200000">
            <a:off x="3085920" y="2856960"/>
            <a:ext cx="304920" cy="3124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27"/>
                </a:lnTo>
                <a:cubicBezTo>
                  <a:pt x="10800" y="10627"/>
                  <a:pt x="5400" y="11527"/>
                  <a:pt x="0" y="11527"/>
                </a:cubicBezTo>
                <a:cubicBezTo>
                  <a:pt x="5400" y="11527"/>
                  <a:pt x="10800" y="12427"/>
                  <a:pt x="10800" y="133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6362640" y="2856960"/>
            <a:ext cx="304920" cy="3124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27"/>
                </a:lnTo>
                <a:cubicBezTo>
                  <a:pt x="10800" y="10627"/>
                  <a:pt x="5400" y="11527"/>
                  <a:pt x="0" y="11527"/>
                </a:cubicBezTo>
                <a:cubicBezTo>
                  <a:pt x="5400" y="11527"/>
                  <a:pt x="10800" y="12427"/>
                  <a:pt x="10800" y="133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decrease               100%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5562720"/>
            <a:ext cx="7772400" cy="825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two-year return is zero, since it started and ended at the sam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309F-61A7-43AA-B44F-73C0E8A745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ometric Mea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99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1-year returns to compute the arithmetic mean and the geometric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133720" y="4800600"/>
                <a:ext cx="55036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⋯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33720" y="3276720"/>
                <a:ext cx="38862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124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mean rate of retu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4876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 mean rate of retu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48520" y="348948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sleading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556272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re accur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20040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791320"/>
            <a:ext cx="99072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1203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047A-02A0-4A9B-A370-4C68B2003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ometric Mea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vestment of $100,000 declined to $50,000 at the end of year one and rebounded to $100,000 at end of year tw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200400"/>
            <a:ext cx="7772400" cy="31122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s as percents: –50% and 100% are converted to decimals  -.5 and 1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1 to each decimal yields .5 and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geometric mean using the geome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ct  1 from the answer to get a rate of return of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87BF-C724-4B8D-81D1-7B17BC8F80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iles split the ranked data into 4 segments with an equal number of values per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666880"/>
            <a:ext cx="1454400" cy="457200"/>
          </a:xfrm>
          <a:prstGeom prst="rect">
            <a:avLst/>
          </a:prstGeom>
          <a:solidFill>
            <a:srgbClr val="b9b9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2666880"/>
            <a:ext cx="1143000" cy="4572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666880"/>
            <a:ext cx="1295280" cy="457200"/>
          </a:xfrm>
          <a:prstGeom prst="rect">
            <a:avLst/>
          </a:prstGeom>
          <a:solidFill>
            <a:srgbClr val="e9e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2666880"/>
            <a:ext cx="1676520" cy="457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2666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666880"/>
            <a:ext cx="106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2666880"/>
            <a:ext cx="92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2666880"/>
            <a:ext cx="92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2476440" y="323820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0384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The first quartile, Q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, is the value for which 25% of the observations are smaller and 75% are lar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 is the same as the median (50% are smaller, 50% are lar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25% of the observations are greater than the third quarti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3619440" y="323820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5219640" y="323820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3429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3429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34290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2FAF-7276-466C-8925-20FD51911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rtile Formula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1905120"/>
            <a:ext cx="86104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nd a quartile by determining the value in the appropriate position in the ranked data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irst quartile pos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(n+1)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cond quartile pos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(n+1)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he median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quartile pos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3(n+1)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s the number of observ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4267-64FA-465F-ADE0-D7F8E00457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mode, geometric mean, and quart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standard devia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coefficient of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rre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6344-E08D-4D62-8D0E-2474FB40B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267080" y="4952880"/>
            <a:ext cx="16002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3581280"/>
            <a:ext cx="29718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4000"/>
          </a:bodyPr>
          <a:p>
            <a:pPr marL="301320" indent="-301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s in th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9+1)/4 = 2.5 pos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rank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1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rti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514600"/>
            <a:ext cx="83106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82880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143320" y="3085920"/>
            <a:ext cx="609840" cy="228600"/>
          </a:xfrm>
          <a:prstGeom prst="rightArrow">
            <a:avLst>
              <a:gd name="adj1" fmla="val 51398"/>
              <a:gd name="adj2" fmla="val 7146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5791320"/>
            <a:ext cx="609588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measures of noncentr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edian, a measure of central t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CD532-5267-4A0A-A6AE-AF19D305E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962520" y="320040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181480" y="5943600"/>
            <a:ext cx="2362320" cy="709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362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2133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1676520"/>
            <a:ext cx="1828800" cy="454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2666880"/>
            <a:ext cx="137160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10080" y="2668680"/>
            <a:ext cx="1524240" cy="698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2668680"/>
            <a:ext cx="1674720" cy="698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79400" y="2666880"/>
            <a:ext cx="1749600" cy="674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4114800"/>
            <a:ext cx="4114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C0F3-EFEC-4DB9-AE1D-0E7EF62211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352680"/>
            <a:ext cx="5105520" cy="1476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49560" y="5181480"/>
            <a:ext cx="3355920" cy="1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9548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3848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47242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7242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44956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49960" y="5181480"/>
            <a:ext cx="1298520" cy="1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47242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495288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71720" y="5181480"/>
            <a:ext cx="56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1   2   3   4   5   6   7   8   9   10   11   12    13   14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5791320"/>
            <a:ext cx="4191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438280" y="56386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81080" y="525780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343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3E96-9E51-44CC-AE2C-9DA6D94C38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2590920"/>
            <a:ext cx="327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   8     9     10    11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590920"/>
            <a:ext cx="342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    8     9    10     11  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advantages of the 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B97B-189E-4C2A-8585-E8FEE1C73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62120" y="4648320"/>
            <a:ext cx="769608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quartile 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liminate some outlier problems by using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first and thir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1BD8-C0AD-4EA4-A174-D7AF6E6753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095880" cy="89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quartile Ran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74D0-44A2-447B-95B6-80E95638A4F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each value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572000" y="3048120"/>
                <a:ext cx="337356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1447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105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rithmet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of the variabl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819520" y="5029200"/>
                <a:ext cx="304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8014-88A4-47B7-A446-DED104F627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ndard Dev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105520" y="3575160"/>
                <a:ext cx="32763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CC09-BAEE-42EB-85BD-162B8D65F1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lculation Example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e Standard Devi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2630520"/>
            <a:ext cx="434340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2666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5867280"/>
            <a:ext cx="1143000" cy="457200"/>
          </a:xfrm>
          <a:prstGeom prst="rect">
            <a:avLst/>
          </a:prstGeom>
          <a:solidFill>
            <a:srgbClr val="e9e9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42880" y="3251160"/>
                <a:ext cx="813744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414A-B0A5-4EC4-A108-54EB44183C8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6858000" cy="44578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ing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236232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mall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arge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2743200"/>
            <a:ext cx="761760" cy="3808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B429-7BC9-465B-8970-835C3305FAE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Top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of central tendency, variation, and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, median, mode, geometr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and skewed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summ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, variance,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piric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number summary and box-and-whisker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 of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considerations in numerical descriptiv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A2A1-A0D1-4162-A8EC-D79792D783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Standard Devi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BF1D-5FE1-471E-BC9C-BA7A2B0409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3357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286000" y="4800600"/>
                <a:ext cx="41911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A917-0474-43FA-9B38-2602D0BF83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aring Coefficient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f Var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727280" y="2895480"/>
                <a:ext cx="5310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727280" y="5257800"/>
                <a:ext cx="5310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2AE4-7E39-47CF-A764-64A6FFF04C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5880" y="3733920"/>
            <a:ext cx="2895840" cy="24382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3733920"/>
            <a:ext cx="2895840" cy="24382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3733920"/>
            <a:ext cx="2895840" cy="2438280"/>
          </a:xfrm>
          <a:prstGeom prst="rect">
            <a:avLst/>
          </a:prstGeom>
          <a:solidFill>
            <a:srgbClr val="fde0bd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hape of a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- Symmetric or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90880" y="4819680"/>
            <a:ext cx="452160" cy="1071360"/>
          </a:xfrm>
          <a:custGeom>
            <a:avLst/>
            <a:gdLst/>
            <a:ahLst/>
            <a:rect l="l" t="t" r="r" b="b"/>
            <a:pathLst>
              <a:path w="285" h="675">
                <a:moveTo>
                  <a:pt x="284" y="674"/>
                </a:moveTo>
                <a:lnTo>
                  <a:pt x="254" y="667"/>
                </a:lnTo>
                <a:lnTo>
                  <a:pt x="239" y="659"/>
                </a:lnTo>
                <a:lnTo>
                  <a:pt x="225" y="648"/>
                </a:lnTo>
                <a:lnTo>
                  <a:pt x="210" y="633"/>
                </a:lnTo>
                <a:lnTo>
                  <a:pt x="195" y="612"/>
                </a:lnTo>
                <a:lnTo>
                  <a:pt x="180" y="583"/>
                </a:lnTo>
                <a:lnTo>
                  <a:pt x="150" y="506"/>
                </a:lnTo>
                <a:lnTo>
                  <a:pt x="119" y="396"/>
                </a:lnTo>
                <a:lnTo>
                  <a:pt x="91" y="263"/>
                </a:lnTo>
                <a:lnTo>
                  <a:pt x="76" y="197"/>
                </a:lnTo>
                <a:lnTo>
                  <a:pt x="61" y="133"/>
                </a:lnTo>
                <a:lnTo>
                  <a:pt x="45" y="78"/>
                </a:lnTo>
                <a:lnTo>
                  <a:pt x="30" y="36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8360" y="4819680"/>
            <a:ext cx="1353960" cy="1071360"/>
          </a:xfrm>
          <a:custGeom>
            <a:avLst/>
            <a:gdLst/>
            <a:ahLst/>
            <a:rect l="l" t="t" r="r" b="b"/>
            <a:pathLst>
              <a:path w="853" h="675">
                <a:moveTo>
                  <a:pt x="0" y="674"/>
                </a:moveTo>
                <a:lnTo>
                  <a:pt x="90" y="667"/>
                </a:lnTo>
                <a:lnTo>
                  <a:pt x="134" y="659"/>
                </a:lnTo>
                <a:lnTo>
                  <a:pt x="179" y="648"/>
                </a:lnTo>
                <a:lnTo>
                  <a:pt x="225" y="633"/>
                </a:lnTo>
                <a:lnTo>
                  <a:pt x="269" y="612"/>
                </a:lnTo>
                <a:lnTo>
                  <a:pt x="314" y="583"/>
                </a:lnTo>
                <a:lnTo>
                  <a:pt x="403" y="506"/>
                </a:lnTo>
                <a:lnTo>
                  <a:pt x="494" y="396"/>
                </a:lnTo>
                <a:lnTo>
                  <a:pt x="583" y="263"/>
                </a:lnTo>
                <a:lnTo>
                  <a:pt x="628" y="197"/>
                </a:lnTo>
                <a:lnTo>
                  <a:pt x="674" y="133"/>
                </a:lnTo>
                <a:lnTo>
                  <a:pt x="717" y="78"/>
                </a:lnTo>
                <a:lnTo>
                  <a:pt x="763" y="36"/>
                </a:lnTo>
                <a:lnTo>
                  <a:pt x="808" y="10"/>
                </a:lnTo>
                <a:lnTo>
                  <a:pt x="852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59400" y="4819680"/>
            <a:ext cx="904680" cy="107136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819680"/>
            <a:ext cx="903240" cy="107136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94600" y="4795920"/>
            <a:ext cx="1353960" cy="1071360"/>
          </a:xfrm>
          <a:custGeom>
            <a:avLst/>
            <a:gdLst/>
            <a:ahLst/>
            <a:rect l="l" t="t" r="r" b="b"/>
            <a:pathLst>
              <a:path w="853" h="675">
                <a:moveTo>
                  <a:pt x="852" y="674"/>
                </a:moveTo>
                <a:lnTo>
                  <a:pt x="761" y="667"/>
                </a:lnTo>
                <a:lnTo>
                  <a:pt x="718" y="659"/>
                </a:lnTo>
                <a:lnTo>
                  <a:pt x="672" y="648"/>
                </a:lnTo>
                <a:lnTo>
                  <a:pt x="627" y="633"/>
                </a:lnTo>
                <a:lnTo>
                  <a:pt x="583" y="612"/>
                </a:lnTo>
                <a:lnTo>
                  <a:pt x="538" y="583"/>
                </a:lnTo>
                <a:lnTo>
                  <a:pt x="447" y="506"/>
                </a:lnTo>
                <a:lnTo>
                  <a:pt x="358" y="396"/>
                </a:lnTo>
                <a:lnTo>
                  <a:pt x="269" y="263"/>
                </a:lnTo>
                <a:lnTo>
                  <a:pt x="224" y="197"/>
                </a:lnTo>
                <a:lnTo>
                  <a:pt x="178" y="133"/>
                </a:lnTo>
                <a:lnTo>
                  <a:pt x="135" y="78"/>
                </a:lnTo>
                <a:lnTo>
                  <a:pt x="89" y="36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43880" y="4795920"/>
            <a:ext cx="452160" cy="1071360"/>
          </a:xfrm>
          <a:custGeom>
            <a:avLst/>
            <a:gdLst/>
            <a:ahLst/>
            <a:rect l="l" t="t" r="r" b="b"/>
            <a:pathLst>
              <a:path w="285" h="675">
                <a:moveTo>
                  <a:pt x="0" y="674"/>
                </a:moveTo>
                <a:lnTo>
                  <a:pt x="28" y="667"/>
                </a:lnTo>
                <a:lnTo>
                  <a:pt x="43" y="659"/>
                </a:lnTo>
                <a:lnTo>
                  <a:pt x="59" y="648"/>
                </a:lnTo>
                <a:lnTo>
                  <a:pt x="74" y="633"/>
                </a:lnTo>
                <a:lnTo>
                  <a:pt x="89" y="612"/>
                </a:lnTo>
                <a:lnTo>
                  <a:pt x="104" y="583"/>
                </a:lnTo>
                <a:lnTo>
                  <a:pt x="134" y="506"/>
                </a:lnTo>
                <a:lnTo>
                  <a:pt x="165" y="396"/>
                </a:lnTo>
                <a:lnTo>
                  <a:pt x="193" y="263"/>
                </a:lnTo>
                <a:lnTo>
                  <a:pt x="208" y="197"/>
                </a:lnTo>
                <a:lnTo>
                  <a:pt x="223" y="133"/>
                </a:lnTo>
                <a:lnTo>
                  <a:pt x="239" y="78"/>
                </a:lnTo>
                <a:lnTo>
                  <a:pt x="254" y="36"/>
                </a:lnTo>
                <a:lnTo>
                  <a:pt x="269" y="10"/>
                </a:lnTo>
                <a:lnTo>
                  <a:pt x="284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54720" y="4343400"/>
            <a:ext cx="199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9240" y="4343400"/>
            <a:ext cx="199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94000" y="46656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73880" y="4343400"/>
            <a:ext cx="20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&l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4876920"/>
            <a:ext cx="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20120" y="525780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5105520"/>
            <a:ext cx="0" cy="838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523520" y="5519880"/>
            <a:ext cx="1800" cy="4237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48006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495288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81280" y="5943600"/>
            <a:ext cx="198144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67240" y="600408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943600"/>
            <a:ext cx="189864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53160" y="5979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5943600"/>
            <a:ext cx="1905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60040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92080" y="380376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5160" y="3816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70560" y="381636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316D-AEA9-4D91-8104-E421A17D58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icrosoft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can be obtained from Microso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C0B0-254B-4F13-9A67-B6AF1D3815B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A0B2-0275-450A-A038-14C9FD3B25C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E3A1-F094-4AFE-95FE-949955D5B5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0962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4880" y="159516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2971800"/>
            <a:ext cx="2057400" cy="2533320"/>
          </a:xfrm>
          <a:prstGeom prst="rect">
            <a:avLst/>
          </a:prstGeom>
          <a:solidFill>
            <a:srgbClr val="cbdd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029200" y="22860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28195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29200" y="32767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35053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42670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29200" y="4724280"/>
            <a:ext cx="838080" cy="304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52578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013E-A31E-4230-AFF7-BB1B9B7BF86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Summary Measur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117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pulation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 of the values in the population divided by the population size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149560" y="3048120"/>
                <a:ext cx="49435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2666880" y="5105520"/>
            <a:ext cx="40388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of the variabl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F057-F2F1-4AE2-94A1-D7EC508A35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Vari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724280" y="2971800"/>
                <a:ext cx="28465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144792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508968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population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populatio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 of the variabl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9EA6-BA23-4725-9D8E-34AA6711F1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ummary Measur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1960" y="2055960"/>
            <a:ext cx="144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2360520"/>
            <a:ext cx="670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040" y="3351240"/>
            <a:ext cx="221148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thmet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1676520"/>
            <a:ext cx="3655800" cy="39384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362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419720"/>
            <a:ext cx="129528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4952880"/>
            <a:ext cx="251460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537160"/>
            <a:ext cx="297180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352680"/>
            <a:ext cx="99072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3886200"/>
            <a:ext cx="251460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952880"/>
            <a:ext cx="220824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352680"/>
            <a:ext cx="1447560" cy="393840"/>
          </a:xfrm>
          <a:prstGeom prst="rect">
            <a:avLst/>
          </a:prstGeom>
          <a:solidFill>
            <a:srgbClr val="fcc2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666880"/>
            <a:ext cx="236232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T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666880"/>
            <a:ext cx="1828800" cy="393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2666880"/>
            <a:ext cx="1447920" cy="393840"/>
          </a:xfrm>
          <a:prstGeom prst="rect">
            <a:avLst/>
          </a:prstGeom>
          <a:solidFill>
            <a:srgbClr val="fcc2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666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60520"/>
            <a:ext cx="144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0920" y="2360520"/>
            <a:ext cx="180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F71E-AF7C-4AE7-9687-6C455397F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Standard Devi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562720" y="3657600"/>
                <a:ext cx="293832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5780-666D-4CE1-9868-0CB3348CCA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733920" y="478008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478008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433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505320" y="228600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4572000" y="403848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43280" y="404496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0" y="554184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4487760" y="552132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733920" y="478008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478008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809520" y="6227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6227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91120" y="4703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0" y="403848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105440" y="602604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362320" y="401796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401796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967A-26FC-4789-ADD2-58D8432FDA6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611D-A75C-40E4-AD7F-3549CBD74B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loratory Data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x-and-Whisker 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Graphical display of data us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-number 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22440" y="27432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7432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D625-3DB6-4DB6-80C9-7CE11086865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hape of Box and Whisker Plo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05120" y="294804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94804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1905120" y="4038480"/>
            <a:ext cx="556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     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dian  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2971800"/>
            <a:ext cx="60962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E810-626A-42A8-B4F5-4FA27F1038B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stribution Shape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ox and Whisker Plo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8AD3-0BB6-4CB2-9192-11060896D9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ox-and-Whisker Plo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F883-95F7-4738-B3CC-046C838D444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Correl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relative strength of the linear relationship between tw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mple coefficient of cor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936800" y="3809880"/>
                <a:ext cx="532296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90DC-3256-40E9-B683-F858AAC2E0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eatures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rrelation Coefficient, r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s between –1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er to –1, the stronger the negative 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er to 1, the stronger the positive 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er to 0, the weaker any 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FFF1-453D-4F43-A22F-85FF8A2F53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6400800" y="2590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394320" y="51814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atter Plots of Data with Various Correlation Coeffici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14360" y="198612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414000" y="213336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 rot="7282800">
            <a:off x="2531160" y="2819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rot="7282800">
            <a:off x="1769040" y="25142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rot="7282800">
            <a:off x="1464120" y="2437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7282800">
            <a:off x="473760" y="20570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7282800">
            <a:off x="854640" y="22093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7282800">
            <a:off x="1159560" y="22856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71720" y="16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852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 rot="7282800">
            <a:off x="2149920" y="26665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66256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368520" y="198612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3368160" y="2133360"/>
            <a:ext cx="257508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14317200">
            <a:off x="5486040" y="3123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4317200">
            <a:off x="5409720" y="27428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14317200">
            <a:off x="3580920" y="17521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rot="14317200">
            <a:off x="3733560" y="2133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14317200">
            <a:off x="5105160" y="29714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14317200">
            <a:off x="4723920" y="27428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4317200">
            <a:off x="4190760" y="2133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4317200">
            <a:off x="4419360" y="1980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4317200">
            <a:off x="5257440" y="25142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4317200">
            <a:off x="3809520" y="2437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4317200">
            <a:off x="5028840" y="22856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4317200">
            <a:off x="4114440" y="2437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4317200">
            <a:off x="4495320" y="25142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4317200">
            <a:off x="4266720" y="27428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258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1672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64440" y="198612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4317200">
            <a:off x="6652800" y="2819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4317200">
            <a:off x="8481600" y="2133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4317200">
            <a:off x="8633880" y="2437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4317200">
            <a:off x="7719480" y="27428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4317200">
            <a:off x="7795800" y="2133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14317200">
            <a:off x="7314840" y="20570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4317200">
            <a:off x="6500520" y="22093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4317200">
            <a:off x="6805080" y="23619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14317200">
            <a:off x="7110000" y="2549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14317200">
            <a:off x="7490880" y="25142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4317200">
            <a:off x="7262280" y="2819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2144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48240" y="35053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14317200">
            <a:off x="8229240" y="26665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612280" y="3276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62480" y="45766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462480" y="4724280"/>
            <a:ext cx="257472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14317200">
            <a:off x="3522240" y="57146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14317200">
            <a:off x="3750840" y="5409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rot="14317200">
            <a:off x="5409720" y="41144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4317200">
            <a:off x="5579640" y="4723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4317200">
            <a:off x="4038120" y="57146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14317200">
            <a:off x="5790960" y="51811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14317200">
            <a:off x="4952520" y="5562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14317200">
            <a:off x="5028840" y="4419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rot="14317200">
            <a:off x="4419360" y="44193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4317200">
            <a:off x="3580920" y="50288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4317200">
            <a:off x="3809520" y="45716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4317200">
            <a:off x="4190760" y="49525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4317200">
            <a:off x="533376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14317200">
            <a:off x="458928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4317200">
            <a:off x="4571640" y="57909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957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44664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14317200">
            <a:off x="5333760" y="54860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10320" y="586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6720" y="45766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96720" y="472428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14317200">
            <a:off x="456840" y="54097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14317200">
            <a:off x="761760" y="53337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4317200">
            <a:off x="2819160" y="46479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4317200">
            <a:off x="2437920" y="4723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4317200">
            <a:off x="1066320" y="51811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4317200">
            <a:off x="1752120" y="49525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4317200">
            <a:off x="144756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36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088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4317200">
            <a:off x="2133360" y="4876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44920" y="586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74600" y="3581280"/>
            <a:ext cx="90324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034880" y="3591000"/>
            <a:ext cx="98856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-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159680" y="3591000"/>
            <a:ext cx="80100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28480" y="6161040"/>
            <a:ext cx="106452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+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63800" y="6146640"/>
            <a:ext cx="97920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57960" y="45766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4317200">
            <a:off x="853416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14317200">
            <a:off x="800064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14317200">
            <a:off x="655272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4317200">
            <a:off x="685764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4317200">
            <a:off x="716256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14317200">
            <a:off x="7484760" y="5105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11532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4212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06160" y="586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153560" y="6159600"/>
            <a:ext cx="801000" cy="459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4317200">
            <a:off x="4952520" y="4876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4317200">
            <a:off x="4343040" y="548604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14317200">
            <a:off x="4723920" y="44953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59AA-B04C-4925-A967-6AC5D867E52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es of Central Tendenc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78160"/>
            <a:ext cx="220968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3800" y="3278160"/>
            <a:ext cx="12924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3600" y="3276720"/>
            <a:ext cx="121932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276720"/>
            <a:ext cx="22860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819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819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20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8304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1164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63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5444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81628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4184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2252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252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92720" y="4419720"/>
            <a:ext cx="171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9400" y="4267080"/>
            <a:ext cx="15264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8000" y="4267080"/>
            <a:ext cx="15264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2924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7064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4267080"/>
            <a:ext cx="15264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461808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48200" y="4267080"/>
            <a:ext cx="15264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2924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2924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80880" y="4114800"/>
                <a:ext cx="12956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357960" y="4191120"/>
                <a:ext cx="2786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65760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93920" y="49528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point of rank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1320" y="495288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observ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C2B7-4A51-4A9D-8B2E-FCEFBD5AAC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xcel to Fi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Correlation Coeffici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/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election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67240" cy="45338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"/>
          <a:stretch/>
        </p:blipFill>
        <p:spPr>
          <a:xfrm>
            <a:off x="5257800" y="4724280"/>
            <a:ext cx="3733920" cy="179100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 flipH="1" flipV="1">
            <a:off x="2742840" y="1980720"/>
            <a:ext cx="243828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505320" y="2286000"/>
            <a:ext cx="1676160" cy="3657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019560" y="2971800"/>
            <a:ext cx="990360" cy="259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727F-6BB6-484F-A03C-F4861B38B94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Excel to Fi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Correlation Coeffici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1760" y="4648320"/>
            <a:ext cx="464796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ata range and select appropriat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 to get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5334120" y="5181480"/>
            <a:ext cx="3028680" cy="90504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6296040" cy="303840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 flipV="1">
            <a:off x="3124080" y="2819160"/>
            <a:ext cx="1067040" cy="1904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124080" y="3048120"/>
            <a:ext cx="106704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2819520" y="3429000"/>
            <a:ext cx="304560" cy="1295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191120" y="571500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477120" y="5638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92D3-5F60-4FE0-B162-88C25811473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ing the Resul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3886200" cy="3922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.7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relatively strong positive linear relationship between test score #1 and test scor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4114800" y="1752480"/>
          <a:ext cx="4700520" cy="29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752480"/>
                    <a:ext cx="47005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D19E-6BC3-4FCD-82C3-B36EE2FDEF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thical Consider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escriptive meas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document both good and ba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presented in a fair, objective and neut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use inappropriate summary measures to distort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1644480" cy="16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35AC-6501-4743-A8BD-D4FDEA5F65B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measures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, median, mode, geometric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q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measures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d shape of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, skewed, box-and-whisker 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corre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pitfalls in numerical descriptive measures and eth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4D17-7511-45E6-80E8-574D7B90FCC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ithmetic Me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ithmetic mean (mean) is the most common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ample of size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781600"/>
            <a:ext cx="1905120" cy="459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14600" y="5029200"/>
            <a:ext cx="762120" cy="752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3611520"/>
                <a:ext cx="49752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248520" y="5791320"/>
            <a:ext cx="2514600" cy="459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62560" y="434340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4343400"/>
            <a:ext cx="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88F3-B46E-44B1-AFA7-075FFDF4C2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ithmetic Me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1203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A358-DA2F-4B36-8E55-3169FCFCD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di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 an ordered array, the median is the “middle” number (50% above, 50% be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5600520" y="3009600"/>
            <a:ext cx="457200" cy="228600"/>
          </a:xfrm>
          <a:prstGeom prst="rightArrow">
            <a:avLst>
              <a:gd name="adj1" fmla="val 50000"/>
              <a:gd name="adj2" fmla="val 5037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257120" y="3009600"/>
            <a:ext cx="457200" cy="228600"/>
          </a:xfrm>
          <a:prstGeom prst="rightArrow">
            <a:avLst>
              <a:gd name="adj1" fmla="val 50000"/>
              <a:gd name="adj2" fmla="val 5037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3429000"/>
            <a:ext cx="18288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3429000"/>
            <a:ext cx="18288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2EA6-A851-4A86-994F-8D1EBA5F4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inding the Medi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edi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umber of values is odd, the median is the midd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umber of values is even, the median is the average of the two middl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          is not the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edian, only the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edian in the rank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346040" y="2590920"/>
                <a:ext cx="70358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sition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sit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der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rra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90920" y="5029200"/>
                <a:ext cx="685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762120" y="4952880"/>
            <a:ext cx="80769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90E0-6809-41D0-BEA2-B20B3E1BF8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2:05:37Z</dcterms:created>
  <dc:creator>Dirk Yandell</dc:creator>
  <dc:description/>
  <dc:language>en-US</dc:language>
  <cp:lastModifiedBy>HP Pavilion</cp:lastModifiedBy>
  <cp:lastPrinted>1998-11-22T23:37:53Z</cp:lastPrinted>
  <dcterms:modified xsi:type="dcterms:W3CDTF">2004-09-18T03:53:53Z</dcterms:modified>
  <cp:revision>45</cp:revision>
  <dc:subject>Chapter 3</dc:subject>
  <dc:title>Statistics for Managers Using Microsoft Excel, 4/e</dc:title>
</cp:coreProperties>
</file>