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8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3B88-2967-4C23-92FE-16BAD6C46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9251-9E49-48D2-A8C7-200D97559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0759-00E6-47BA-B78E-8534E9DED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4008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140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12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4008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140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7BB9-0F38-4D1D-B3A0-075029407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3A0B2-992C-4698-9707-3D000E5EEE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D2167-2358-462F-B710-1FDFD28396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5D4FD-85B4-4715-9526-CFC2CDDE4A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D3468-1C8A-48A4-8ABE-735A546A93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D69C-EBAB-4F2F-8FF1-A45672DB8E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920" y="228600"/>
            <a:ext cx="7383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C85CB-CB73-40ED-8560-B82FD58E43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529C0-E98A-47D5-A736-5C45469FBC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1640-A5EF-4FCB-ADDA-17965B52C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5832D-3BC0-4899-AA90-B0E5886919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C9118-1CAB-434A-AB48-AEBBB9BAC1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9B19B-B726-47B2-A8A5-4B88C8A808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59B89-5800-47E9-9865-7724BFC041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4008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1400" y="18288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0912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4008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1400" y="41965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90916-9B4D-4D2E-A51D-0ABB2E3BD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D01A1-66D9-4B5F-A700-A76976749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DA3D-12AE-4BAC-8044-845EA74DB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3932-1DEC-49EE-B966-928501AE4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920" y="228600"/>
            <a:ext cx="7383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DC42-A0B1-4D59-BF95-C73342B59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3A79-24A1-4F4F-BC76-BF5C315C1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8400" y="41965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6D24-87BB-465A-B136-7D1A0D17F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8400" y="18288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41965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78B0-C5CF-487F-AC72-DF40FA145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-</a:t>
            </a:r>
            <a:fld id="{4527C358-2BA8-4A91-A738-FBBF60EF1E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5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6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-</a:t>
            </a:r>
            <a:fld id="{C1FEF0E4-8357-4E6F-91CB-E437E46A9C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580920"/>
            <a:ext cx="7734600" cy="1752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duction and Data Collection</a:t>
            </a:r>
            <a:endParaRPr b="0" lang="en-US" sz="3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9DAB8-4052-451A-95DB-58FFD1C23E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707160" cy="85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y We Need Da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input to study a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easure performance of service or productio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aluate conformance t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ist in formulating alternative courses  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atisfy curi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A91A-DDC7-47C5-B8C2-7476433902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418440" cy="85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ata Sourc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276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590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752480"/>
            <a:ext cx="2743200" cy="87624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259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276720"/>
            <a:ext cx="27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3276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809880"/>
            <a:ext cx="236196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32767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5181480"/>
            <a:ext cx="327636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62520" y="5638680"/>
            <a:ext cx="685440" cy="761760"/>
            <a:chOff x="3962520" y="5638680"/>
            <a:chExt cx="685440" cy="761760"/>
          </a:xfrm>
        </p:grpSpPr>
        <p:grpSp>
          <p:nvGrpSpPr>
            <p:cNvPr id="160" name=""/>
            <p:cNvGrpSpPr/>
            <p:nvPr/>
          </p:nvGrpSpPr>
          <p:grpSpPr>
            <a:xfrm>
              <a:off x="3962520" y="5725440"/>
              <a:ext cx="438840" cy="577440"/>
              <a:chOff x="3962520" y="5725440"/>
              <a:chExt cx="438840" cy="577440"/>
            </a:xfrm>
          </p:grpSpPr>
          <p:sp>
            <p:nvSpPr>
              <p:cNvPr id="161" name=""/>
              <p:cNvSpPr/>
              <p:nvPr/>
            </p:nvSpPr>
            <p:spPr>
              <a:xfrm>
                <a:off x="3962520" y="5725440"/>
                <a:ext cx="438840" cy="577440"/>
              </a:xfrm>
              <a:custGeom>
                <a:avLst/>
                <a:gdLst/>
                <a:ahLst/>
                <a:rect l="l" t="t" r="r" b="b"/>
                <a:pathLst>
                  <a:path w="354" h="438">
                    <a:moveTo>
                      <a:pt x="105" y="0"/>
                    </a:moveTo>
                    <a:lnTo>
                      <a:pt x="248" y="0"/>
                    </a:lnTo>
                    <a:lnTo>
                      <a:pt x="248" y="26"/>
                    </a:lnTo>
                    <a:lnTo>
                      <a:pt x="232" y="26"/>
                    </a:lnTo>
                    <a:lnTo>
                      <a:pt x="232" y="118"/>
                    </a:lnTo>
                    <a:lnTo>
                      <a:pt x="351" y="417"/>
                    </a:lnTo>
                    <a:lnTo>
                      <a:pt x="352" y="419"/>
                    </a:lnTo>
                    <a:lnTo>
                      <a:pt x="352" y="420"/>
                    </a:lnTo>
                    <a:lnTo>
                      <a:pt x="353" y="422"/>
                    </a:lnTo>
                    <a:lnTo>
                      <a:pt x="352" y="425"/>
                    </a:lnTo>
                    <a:lnTo>
                      <a:pt x="352" y="427"/>
                    </a:lnTo>
                    <a:lnTo>
                      <a:pt x="351" y="429"/>
                    </a:lnTo>
                    <a:lnTo>
                      <a:pt x="350" y="430"/>
                    </a:lnTo>
                    <a:lnTo>
                      <a:pt x="349" y="432"/>
                    </a:lnTo>
                    <a:lnTo>
                      <a:pt x="348" y="433"/>
                    </a:lnTo>
                    <a:lnTo>
                      <a:pt x="346" y="435"/>
                    </a:lnTo>
                    <a:lnTo>
                      <a:pt x="344" y="436"/>
                    </a:lnTo>
                    <a:lnTo>
                      <a:pt x="343" y="436"/>
                    </a:lnTo>
                    <a:lnTo>
                      <a:pt x="341" y="437"/>
                    </a:lnTo>
                    <a:lnTo>
                      <a:pt x="339" y="437"/>
                    </a:lnTo>
                    <a:lnTo>
                      <a:pt x="15" y="437"/>
                    </a:lnTo>
                    <a:lnTo>
                      <a:pt x="13" y="437"/>
                    </a:lnTo>
                    <a:lnTo>
                      <a:pt x="11" y="436"/>
                    </a:lnTo>
                    <a:lnTo>
                      <a:pt x="9" y="436"/>
                    </a:lnTo>
                    <a:lnTo>
                      <a:pt x="7" y="435"/>
                    </a:lnTo>
                    <a:lnTo>
                      <a:pt x="5" y="433"/>
                    </a:lnTo>
                    <a:lnTo>
                      <a:pt x="3" y="431"/>
                    </a:lnTo>
                    <a:lnTo>
                      <a:pt x="2" y="429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1"/>
                    </a:lnTo>
                    <a:lnTo>
                      <a:pt x="1" y="418"/>
                    </a:lnTo>
                    <a:lnTo>
                      <a:pt x="2" y="416"/>
                    </a:lnTo>
                    <a:lnTo>
                      <a:pt x="2" y="414"/>
                    </a:lnTo>
                    <a:lnTo>
                      <a:pt x="4" y="410"/>
                    </a:lnTo>
                    <a:lnTo>
                      <a:pt x="121" y="118"/>
                    </a:lnTo>
                    <a:lnTo>
                      <a:pt x="121" y="26"/>
                    </a:lnTo>
                    <a:lnTo>
                      <a:pt x="105" y="26"/>
                    </a:lnTo>
                    <a:lnTo>
                      <a:pt x="105" y="0"/>
                    </a:lnTo>
                  </a:path>
                </a:pathLst>
              </a:custGeom>
              <a:noFill/>
              <a:ln cap="rnd" w="12600">
                <a:solidFill>
                  <a:srgbClr val="009fbf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62520" y="5880960"/>
                <a:ext cx="438840" cy="421560"/>
              </a:xfrm>
              <a:custGeom>
                <a:avLst/>
                <a:gdLst/>
                <a:ahLst/>
                <a:rect l="l" t="t" r="r" b="b"/>
                <a:pathLst>
                  <a:path w="354" h="320">
                    <a:moveTo>
                      <a:pt x="232" y="0"/>
                    </a:moveTo>
                    <a:lnTo>
                      <a:pt x="351" y="299"/>
                    </a:lnTo>
                    <a:lnTo>
                      <a:pt x="352" y="301"/>
                    </a:lnTo>
                    <a:lnTo>
                      <a:pt x="352" y="302"/>
                    </a:lnTo>
                    <a:lnTo>
                      <a:pt x="353" y="304"/>
                    </a:lnTo>
                    <a:lnTo>
                      <a:pt x="352" y="307"/>
                    </a:lnTo>
                    <a:lnTo>
                      <a:pt x="352" y="309"/>
                    </a:lnTo>
                    <a:lnTo>
                      <a:pt x="351" y="311"/>
                    </a:lnTo>
                    <a:lnTo>
                      <a:pt x="350" y="312"/>
                    </a:lnTo>
                    <a:lnTo>
                      <a:pt x="349" y="314"/>
                    </a:lnTo>
                    <a:lnTo>
                      <a:pt x="348" y="315"/>
                    </a:lnTo>
                    <a:lnTo>
                      <a:pt x="346" y="317"/>
                    </a:lnTo>
                    <a:lnTo>
                      <a:pt x="344" y="318"/>
                    </a:lnTo>
                    <a:lnTo>
                      <a:pt x="343" y="318"/>
                    </a:lnTo>
                    <a:lnTo>
                      <a:pt x="341" y="319"/>
                    </a:lnTo>
                    <a:lnTo>
                      <a:pt x="339" y="319"/>
                    </a:lnTo>
                    <a:lnTo>
                      <a:pt x="15" y="319"/>
                    </a:lnTo>
                    <a:lnTo>
                      <a:pt x="13" y="319"/>
                    </a:lnTo>
                    <a:lnTo>
                      <a:pt x="11" y="318"/>
                    </a:lnTo>
                    <a:lnTo>
                      <a:pt x="9" y="318"/>
                    </a:lnTo>
                    <a:lnTo>
                      <a:pt x="7" y="317"/>
                    </a:lnTo>
                    <a:lnTo>
                      <a:pt x="5" y="315"/>
                    </a:lnTo>
                    <a:lnTo>
                      <a:pt x="3" y="313"/>
                    </a:lnTo>
                    <a:lnTo>
                      <a:pt x="2" y="311"/>
                    </a:lnTo>
                    <a:lnTo>
                      <a:pt x="1" y="309"/>
                    </a:lnTo>
                    <a:lnTo>
                      <a:pt x="0" y="306"/>
                    </a:lnTo>
                    <a:lnTo>
                      <a:pt x="0" y="303"/>
                    </a:lnTo>
                    <a:lnTo>
                      <a:pt x="1" y="300"/>
                    </a:lnTo>
                    <a:lnTo>
                      <a:pt x="2" y="298"/>
                    </a:lnTo>
                    <a:lnTo>
                      <a:pt x="2" y="296"/>
                    </a:lnTo>
                    <a:lnTo>
                      <a:pt x="4" y="292"/>
                    </a:lnTo>
                    <a:lnTo>
                      <a:pt x="121" y="0"/>
                    </a:lnTo>
                    <a:lnTo>
                      <a:pt x="232" y="0"/>
                    </a:lnTo>
                  </a:path>
                </a:pathLst>
              </a:custGeom>
              <a:solidFill>
                <a:srgbClr val="00dfff"/>
              </a:solidFill>
              <a:ln cap="rnd" w="12600">
                <a:solidFill>
                  <a:srgbClr val="009fbf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49600" y="5638680"/>
              <a:ext cx="198360" cy="710640"/>
              <a:chOff x="4449600" y="5638680"/>
              <a:chExt cx="198360" cy="71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4449600" y="5638680"/>
                <a:ext cx="198360" cy="710640"/>
              </a:xfrm>
              <a:custGeom>
                <a:avLst/>
                <a:gdLst/>
                <a:ahLst/>
                <a:rect l="l" t="t" r="r" b="b"/>
                <a:pathLst>
                  <a:path w="160" h="539">
                    <a:moveTo>
                      <a:pt x="0" y="0"/>
                    </a:moveTo>
                    <a:lnTo>
                      <a:pt x="159" y="0"/>
                    </a:lnTo>
                    <a:lnTo>
                      <a:pt x="159" y="17"/>
                    </a:lnTo>
                    <a:lnTo>
                      <a:pt x="143" y="17"/>
                    </a:lnTo>
                    <a:lnTo>
                      <a:pt x="143" y="94"/>
                    </a:lnTo>
                    <a:lnTo>
                      <a:pt x="143" y="470"/>
                    </a:lnTo>
                    <a:lnTo>
                      <a:pt x="143" y="480"/>
                    </a:lnTo>
                    <a:lnTo>
                      <a:pt x="142" y="487"/>
                    </a:lnTo>
                    <a:lnTo>
                      <a:pt x="141" y="491"/>
                    </a:lnTo>
                    <a:lnTo>
                      <a:pt x="139" y="496"/>
                    </a:lnTo>
                    <a:lnTo>
                      <a:pt x="137" y="501"/>
                    </a:lnTo>
                    <a:lnTo>
                      <a:pt x="134" y="507"/>
                    </a:lnTo>
                    <a:lnTo>
                      <a:pt x="130" y="512"/>
                    </a:lnTo>
                    <a:lnTo>
                      <a:pt x="127" y="517"/>
                    </a:lnTo>
                    <a:lnTo>
                      <a:pt x="122" y="521"/>
                    </a:lnTo>
                    <a:lnTo>
                      <a:pt x="119" y="525"/>
                    </a:lnTo>
                    <a:lnTo>
                      <a:pt x="115" y="527"/>
                    </a:lnTo>
                    <a:lnTo>
                      <a:pt x="112" y="530"/>
                    </a:lnTo>
                    <a:lnTo>
                      <a:pt x="107" y="532"/>
                    </a:lnTo>
                    <a:lnTo>
                      <a:pt x="102" y="534"/>
                    </a:lnTo>
                    <a:lnTo>
                      <a:pt x="97" y="536"/>
                    </a:lnTo>
                    <a:lnTo>
                      <a:pt x="93" y="537"/>
                    </a:lnTo>
                    <a:lnTo>
                      <a:pt x="89" y="538"/>
                    </a:lnTo>
                    <a:lnTo>
                      <a:pt x="84" y="538"/>
                    </a:lnTo>
                    <a:lnTo>
                      <a:pt x="80" y="538"/>
                    </a:lnTo>
                    <a:lnTo>
                      <a:pt x="75" y="538"/>
                    </a:lnTo>
                    <a:lnTo>
                      <a:pt x="70" y="537"/>
                    </a:lnTo>
                    <a:lnTo>
                      <a:pt x="65" y="536"/>
                    </a:lnTo>
                    <a:lnTo>
                      <a:pt x="61" y="535"/>
                    </a:lnTo>
                    <a:lnTo>
                      <a:pt x="57" y="533"/>
                    </a:lnTo>
                    <a:lnTo>
                      <a:pt x="52" y="531"/>
                    </a:lnTo>
                    <a:lnTo>
                      <a:pt x="47" y="528"/>
                    </a:lnTo>
                    <a:lnTo>
                      <a:pt x="43" y="526"/>
                    </a:lnTo>
                    <a:lnTo>
                      <a:pt x="40" y="523"/>
                    </a:lnTo>
                    <a:lnTo>
                      <a:pt x="37" y="520"/>
                    </a:lnTo>
                    <a:lnTo>
                      <a:pt x="33" y="517"/>
                    </a:lnTo>
                    <a:lnTo>
                      <a:pt x="29" y="513"/>
                    </a:lnTo>
                    <a:lnTo>
                      <a:pt x="26" y="509"/>
                    </a:lnTo>
                    <a:lnTo>
                      <a:pt x="24" y="505"/>
                    </a:lnTo>
                    <a:lnTo>
                      <a:pt x="21" y="500"/>
                    </a:lnTo>
                    <a:lnTo>
                      <a:pt x="19" y="495"/>
                    </a:lnTo>
                    <a:lnTo>
                      <a:pt x="18" y="490"/>
                    </a:lnTo>
                    <a:lnTo>
                      <a:pt x="17" y="486"/>
                    </a:lnTo>
                    <a:lnTo>
                      <a:pt x="16" y="481"/>
                    </a:lnTo>
                    <a:lnTo>
                      <a:pt x="16" y="476"/>
                    </a:lnTo>
                    <a:lnTo>
                      <a:pt x="16" y="470"/>
                    </a:lnTo>
                    <a:lnTo>
                      <a:pt x="16" y="94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5f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69400" y="5762520"/>
                <a:ext cx="158400" cy="586440"/>
              </a:xfrm>
              <a:custGeom>
                <a:avLst/>
                <a:gdLst/>
                <a:ahLst/>
                <a:rect l="l" t="t" r="r" b="b"/>
                <a:pathLst>
                  <a:path w="128" h="445">
                    <a:moveTo>
                      <a:pt x="127" y="0"/>
                    </a:moveTo>
                    <a:lnTo>
                      <a:pt x="127" y="376"/>
                    </a:lnTo>
                    <a:lnTo>
                      <a:pt x="127" y="386"/>
                    </a:lnTo>
                    <a:lnTo>
                      <a:pt x="126" y="393"/>
                    </a:lnTo>
                    <a:lnTo>
                      <a:pt x="125" y="397"/>
                    </a:lnTo>
                    <a:lnTo>
                      <a:pt x="123" y="402"/>
                    </a:lnTo>
                    <a:lnTo>
                      <a:pt x="121" y="407"/>
                    </a:lnTo>
                    <a:lnTo>
                      <a:pt x="118" y="413"/>
                    </a:lnTo>
                    <a:lnTo>
                      <a:pt x="114" y="418"/>
                    </a:lnTo>
                    <a:lnTo>
                      <a:pt x="111" y="423"/>
                    </a:lnTo>
                    <a:lnTo>
                      <a:pt x="106" y="427"/>
                    </a:lnTo>
                    <a:lnTo>
                      <a:pt x="103" y="431"/>
                    </a:lnTo>
                    <a:lnTo>
                      <a:pt x="99" y="433"/>
                    </a:lnTo>
                    <a:lnTo>
                      <a:pt x="96" y="436"/>
                    </a:lnTo>
                    <a:lnTo>
                      <a:pt x="91" y="438"/>
                    </a:lnTo>
                    <a:lnTo>
                      <a:pt x="86" y="440"/>
                    </a:lnTo>
                    <a:lnTo>
                      <a:pt x="81" y="442"/>
                    </a:lnTo>
                    <a:lnTo>
                      <a:pt x="77" y="443"/>
                    </a:lnTo>
                    <a:lnTo>
                      <a:pt x="73" y="444"/>
                    </a:lnTo>
                    <a:lnTo>
                      <a:pt x="68" y="444"/>
                    </a:lnTo>
                    <a:lnTo>
                      <a:pt x="64" y="444"/>
                    </a:lnTo>
                    <a:lnTo>
                      <a:pt x="59" y="444"/>
                    </a:lnTo>
                    <a:lnTo>
                      <a:pt x="54" y="443"/>
                    </a:lnTo>
                    <a:lnTo>
                      <a:pt x="49" y="442"/>
                    </a:lnTo>
                    <a:lnTo>
                      <a:pt x="45" y="441"/>
                    </a:lnTo>
                    <a:lnTo>
                      <a:pt x="41" y="439"/>
                    </a:lnTo>
                    <a:lnTo>
                      <a:pt x="36" y="437"/>
                    </a:lnTo>
                    <a:lnTo>
                      <a:pt x="31" y="434"/>
                    </a:lnTo>
                    <a:lnTo>
                      <a:pt x="27" y="432"/>
                    </a:lnTo>
                    <a:lnTo>
                      <a:pt x="24" y="429"/>
                    </a:lnTo>
                    <a:lnTo>
                      <a:pt x="21" y="426"/>
                    </a:lnTo>
                    <a:lnTo>
                      <a:pt x="17" y="423"/>
                    </a:lnTo>
                    <a:lnTo>
                      <a:pt x="13" y="419"/>
                    </a:lnTo>
                    <a:lnTo>
                      <a:pt x="10" y="415"/>
                    </a:lnTo>
                    <a:lnTo>
                      <a:pt x="8" y="411"/>
                    </a:lnTo>
                    <a:lnTo>
                      <a:pt x="5" y="406"/>
                    </a:lnTo>
                    <a:lnTo>
                      <a:pt x="3" y="401"/>
                    </a:lnTo>
                    <a:lnTo>
                      <a:pt x="2" y="396"/>
                    </a:lnTo>
                    <a:lnTo>
                      <a:pt x="1" y="392"/>
                    </a:lnTo>
                    <a:lnTo>
                      <a:pt x="0" y="387"/>
                    </a:lnTo>
                    <a:lnTo>
                      <a:pt x="0" y="382"/>
                    </a:lnTo>
                    <a:lnTo>
                      <a:pt x="0" y="376"/>
                    </a:lnTo>
                    <a:lnTo>
                      <a:pt x="0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ff9f7f"/>
              </a:solidFill>
              <a:ln cap="rnd" w="12600">
                <a:solidFill>
                  <a:srgbClr val="ff5f00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331880" y="5689800"/>
              <a:ext cx="198360" cy="710640"/>
              <a:chOff x="4331880" y="5689800"/>
              <a:chExt cx="198360" cy="710640"/>
            </a:xfrm>
          </p:grpSpPr>
          <p:sp>
            <p:nvSpPr>
              <p:cNvPr id="167" name=""/>
              <p:cNvSpPr/>
              <p:nvPr/>
            </p:nvSpPr>
            <p:spPr>
              <a:xfrm>
                <a:off x="4331880" y="5689800"/>
                <a:ext cx="198360" cy="710640"/>
              </a:xfrm>
              <a:custGeom>
                <a:avLst/>
                <a:gdLst/>
                <a:ahLst/>
                <a:rect l="l" t="t" r="r" b="b"/>
                <a:pathLst>
                  <a:path w="160" h="539">
                    <a:moveTo>
                      <a:pt x="0" y="0"/>
                    </a:moveTo>
                    <a:lnTo>
                      <a:pt x="159" y="0"/>
                    </a:lnTo>
                    <a:lnTo>
                      <a:pt x="159" y="17"/>
                    </a:lnTo>
                    <a:lnTo>
                      <a:pt x="143" y="17"/>
                    </a:lnTo>
                    <a:lnTo>
                      <a:pt x="143" y="94"/>
                    </a:lnTo>
                    <a:lnTo>
                      <a:pt x="143" y="470"/>
                    </a:lnTo>
                    <a:lnTo>
                      <a:pt x="143" y="480"/>
                    </a:lnTo>
                    <a:lnTo>
                      <a:pt x="142" y="486"/>
                    </a:lnTo>
                    <a:lnTo>
                      <a:pt x="141" y="491"/>
                    </a:lnTo>
                    <a:lnTo>
                      <a:pt x="139" y="495"/>
                    </a:lnTo>
                    <a:lnTo>
                      <a:pt x="137" y="500"/>
                    </a:lnTo>
                    <a:lnTo>
                      <a:pt x="133" y="506"/>
                    </a:lnTo>
                    <a:lnTo>
                      <a:pt x="130" y="511"/>
                    </a:lnTo>
                    <a:lnTo>
                      <a:pt x="126" y="516"/>
                    </a:lnTo>
                    <a:lnTo>
                      <a:pt x="122" y="521"/>
                    </a:lnTo>
                    <a:lnTo>
                      <a:pt x="118" y="524"/>
                    </a:lnTo>
                    <a:lnTo>
                      <a:pt x="115" y="527"/>
                    </a:lnTo>
                    <a:lnTo>
                      <a:pt x="111" y="529"/>
                    </a:lnTo>
                    <a:lnTo>
                      <a:pt x="107" y="532"/>
                    </a:lnTo>
                    <a:lnTo>
                      <a:pt x="102" y="534"/>
                    </a:lnTo>
                    <a:lnTo>
                      <a:pt x="97" y="535"/>
                    </a:lnTo>
                    <a:lnTo>
                      <a:pt x="92" y="537"/>
                    </a:lnTo>
                    <a:lnTo>
                      <a:pt x="88" y="537"/>
                    </a:lnTo>
                    <a:lnTo>
                      <a:pt x="84" y="538"/>
                    </a:lnTo>
                    <a:lnTo>
                      <a:pt x="79" y="538"/>
                    </a:lnTo>
                    <a:lnTo>
                      <a:pt x="75" y="538"/>
                    </a:lnTo>
                    <a:lnTo>
                      <a:pt x="69" y="537"/>
                    </a:lnTo>
                    <a:lnTo>
                      <a:pt x="65" y="536"/>
                    </a:lnTo>
                    <a:lnTo>
                      <a:pt x="61" y="534"/>
                    </a:lnTo>
                    <a:lnTo>
                      <a:pt x="56" y="533"/>
                    </a:lnTo>
                    <a:lnTo>
                      <a:pt x="52" y="530"/>
                    </a:lnTo>
                    <a:lnTo>
                      <a:pt x="47" y="527"/>
                    </a:lnTo>
                    <a:lnTo>
                      <a:pt x="43" y="525"/>
                    </a:lnTo>
                    <a:lnTo>
                      <a:pt x="40" y="522"/>
                    </a:lnTo>
                    <a:lnTo>
                      <a:pt x="36" y="520"/>
                    </a:lnTo>
                    <a:lnTo>
                      <a:pt x="33" y="516"/>
                    </a:lnTo>
                    <a:lnTo>
                      <a:pt x="29" y="512"/>
                    </a:lnTo>
                    <a:lnTo>
                      <a:pt x="26" y="508"/>
                    </a:lnTo>
                    <a:lnTo>
                      <a:pt x="24" y="504"/>
                    </a:lnTo>
                    <a:lnTo>
                      <a:pt x="21" y="499"/>
                    </a:lnTo>
                    <a:lnTo>
                      <a:pt x="19" y="495"/>
                    </a:lnTo>
                    <a:lnTo>
                      <a:pt x="18" y="490"/>
                    </a:lnTo>
                    <a:lnTo>
                      <a:pt x="17" y="486"/>
                    </a:lnTo>
                    <a:lnTo>
                      <a:pt x="16" y="481"/>
                    </a:lnTo>
                    <a:lnTo>
                      <a:pt x="16" y="475"/>
                    </a:lnTo>
                    <a:lnTo>
                      <a:pt x="16" y="470"/>
                    </a:lnTo>
                    <a:lnTo>
                      <a:pt x="16" y="94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f3fdf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51680" y="5813640"/>
                <a:ext cx="158400" cy="586440"/>
              </a:xfrm>
              <a:custGeom>
                <a:avLst/>
                <a:gdLst/>
                <a:ahLst/>
                <a:rect l="l" t="t" r="r" b="b"/>
                <a:pathLst>
                  <a:path w="128" h="445">
                    <a:moveTo>
                      <a:pt x="127" y="0"/>
                    </a:moveTo>
                    <a:lnTo>
                      <a:pt x="127" y="376"/>
                    </a:lnTo>
                    <a:lnTo>
                      <a:pt x="127" y="386"/>
                    </a:lnTo>
                    <a:lnTo>
                      <a:pt x="126" y="392"/>
                    </a:lnTo>
                    <a:lnTo>
                      <a:pt x="125" y="397"/>
                    </a:lnTo>
                    <a:lnTo>
                      <a:pt x="123" y="401"/>
                    </a:lnTo>
                    <a:lnTo>
                      <a:pt x="121" y="406"/>
                    </a:lnTo>
                    <a:lnTo>
                      <a:pt x="117" y="412"/>
                    </a:lnTo>
                    <a:lnTo>
                      <a:pt x="114" y="417"/>
                    </a:lnTo>
                    <a:lnTo>
                      <a:pt x="110" y="422"/>
                    </a:lnTo>
                    <a:lnTo>
                      <a:pt x="106" y="427"/>
                    </a:lnTo>
                    <a:lnTo>
                      <a:pt x="102" y="430"/>
                    </a:lnTo>
                    <a:lnTo>
                      <a:pt x="99" y="433"/>
                    </a:lnTo>
                    <a:lnTo>
                      <a:pt x="95" y="435"/>
                    </a:lnTo>
                    <a:lnTo>
                      <a:pt x="91" y="438"/>
                    </a:lnTo>
                    <a:lnTo>
                      <a:pt x="86" y="440"/>
                    </a:lnTo>
                    <a:lnTo>
                      <a:pt x="81" y="441"/>
                    </a:lnTo>
                    <a:lnTo>
                      <a:pt x="76" y="443"/>
                    </a:lnTo>
                    <a:lnTo>
                      <a:pt x="72" y="443"/>
                    </a:lnTo>
                    <a:lnTo>
                      <a:pt x="68" y="444"/>
                    </a:lnTo>
                    <a:lnTo>
                      <a:pt x="63" y="444"/>
                    </a:lnTo>
                    <a:lnTo>
                      <a:pt x="59" y="444"/>
                    </a:lnTo>
                    <a:lnTo>
                      <a:pt x="53" y="443"/>
                    </a:lnTo>
                    <a:lnTo>
                      <a:pt x="49" y="442"/>
                    </a:lnTo>
                    <a:lnTo>
                      <a:pt x="45" y="440"/>
                    </a:lnTo>
                    <a:lnTo>
                      <a:pt x="40" y="439"/>
                    </a:lnTo>
                    <a:lnTo>
                      <a:pt x="36" y="436"/>
                    </a:lnTo>
                    <a:lnTo>
                      <a:pt x="31" y="433"/>
                    </a:lnTo>
                    <a:lnTo>
                      <a:pt x="27" y="431"/>
                    </a:lnTo>
                    <a:lnTo>
                      <a:pt x="24" y="428"/>
                    </a:lnTo>
                    <a:lnTo>
                      <a:pt x="20" y="426"/>
                    </a:lnTo>
                    <a:lnTo>
                      <a:pt x="17" y="422"/>
                    </a:lnTo>
                    <a:lnTo>
                      <a:pt x="13" y="418"/>
                    </a:lnTo>
                    <a:lnTo>
                      <a:pt x="10" y="414"/>
                    </a:lnTo>
                    <a:lnTo>
                      <a:pt x="8" y="410"/>
                    </a:lnTo>
                    <a:lnTo>
                      <a:pt x="5" y="405"/>
                    </a:lnTo>
                    <a:lnTo>
                      <a:pt x="3" y="401"/>
                    </a:lnTo>
                    <a:lnTo>
                      <a:pt x="2" y="396"/>
                    </a:lnTo>
                    <a:lnTo>
                      <a:pt x="1" y="392"/>
                    </a:lnTo>
                    <a:lnTo>
                      <a:pt x="0" y="387"/>
                    </a:lnTo>
                    <a:lnTo>
                      <a:pt x="0" y="381"/>
                    </a:lnTo>
                    <a:lnTo>
                      <a:pt x="0" y="376"/>
                    </a:lnTo>
                    <a:lnTo>
                      <a:pt x="0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df9fff"/>
              </a:solidFill>
              <a:ln cap="rnd" w="12600">
                <a:solidFill>
                  <a:srgbClr val="9f3fdf"/>
                </a:solidFill>
                <a:round/>
              </a:ln>
              <a:effectLst>
                <a:outerShdw dist="36147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5181480" y="3124080"/>
            <a:ext cx="381024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or Electr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553080" y="3733920"/>
          <a:ext cx="210996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210996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48320" y="4343400"/>
          <a:ext cx="90936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343400"/>
                    <a:ext cx="9093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543800" y="4419720"/>
          <a:ext cx="127152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4419720"/>
                    <a:ext cx="12715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581280" y="3886200"/>
            <a:ext cx="144792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752480"/>
            <a:ext cx="2819520" cy="9126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228600" y="4267080"/>
            <a:ext cx="762120" cy="5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9593-2FA3-47A1-8C7C-3048F4B7B7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ypes of Da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676520" y="1673280"/>
            <a:ext cx="6172200" cy="3505320"/>
            <a:chOff x="1676520" y="1673280"/>
            <a:chExt cx="6172200" cy="3505320"/>
          </a:xfrm>
        </p:grpSpPr>
        <p:cxnSp>
          <p:nvCxnSpPr>
            <p:cNvPr id="181" name="_s112645"/>
            <p:cNvCxnSpPr>
              <a:stCxn id="182" idx="0"/>
              <a:endCxn id="183" idx="2"/>
            </p:cNvCxnSpPr>
            <p:nvPr/>
          </p:nvCxnSpPr>
          <p:spPr>
            <a:xfrm flipV="1" rot="16200000">
              <a:off x="6210000" y="3806280"/>
              <a:ext cx="381600" cy="114372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84" name="_s112646"/>
            <p:cNvCxnSpPr>
              <a:stCxn id="185" idx="0"/>
              <a:endCxn id="183" idx="2"/>
            </p:cNvCxnSpPr>
            <p:nvPr/>
          </p:nvCxnSpPr>
          <p:spPr>
            <a:xfrm flipH="1" flipV="1" rot="5400000">
              <a:off x="5167080" y="3906360"/>
              <a:ext cx="381600" cy="9435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86" name="_s112647"/>
            <p:cNvCxnSpPr>
              <a:stCxn id="183" idx="0"/>
              <a:endCxn id="187" idx="2"/>
            </p:cNvCxnSpPr>
            <p:nvPr/>
          </p:nvCxnSpPr>
          <p:spPr>
            <a:xfrm flipV="1" rot="16200000">
              <a:off x="4742280" y="2189520"/>
              <a:ext cx="650160" cy="1524600"/>
            </a:xfrm>
            <a:prstGeom prst="bentConnector3">
              <a:avLst>
                <a:gd name="adj1" fmla="val 24653"/>
              </a:avLst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188" name="_s112648"/>
            <p:cNvCxnSpPr/>
            <p:nvPr/>
          </p:nvCxnSpPr>
          <p:spPr>
            <a:xfrm flipV="1">
              <a:off x="2666880" y="3123720"/>
              <a:ext cx="1677240" cy="192960"/>
            </a:xfrm>
            <a:prstGeom prst="bentConnector3">
              <a:avLst>
                <a:gd name="adj1" fmla="val 6805"/>
              </a:avLst>
            </a:prstGeom>
            <a:ln w="22320">
              <a:solidFill>
                <a:srgbClr val="000000"/>
              </a:solidFill>
              <a:miter/>
            </a:ln>
          </p:spPr>
        </p:cxnSp>
        <p:sp>
          <p:nvSpPr>
            <p:cNvPr id="187" name="_s112649"/>
            <p:cNvSpPr/>
            <p:nvPr/>
          </p:nvSpPr>
          <p:spPr>
            <a:xfrm>
              <a:off x="3353040" y="1673280"/>
              <a:ext cx="1905120" cy="9540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12650"/>
            <p:cNvSpPr/>
            <p:nvPr/>
          </p:nvSpPr>
          <p:spPr>
            <a:xfrm>
              <a:off x="1676520" y="3276720"/>
              <a:ext cx="2008440" cy="911160"/>
            </a:xfrm>
            <a:prstGeom prst="rect">
              <a:avLst/>
            </a:prstGeom>
            <a:solidFill>
              <a:srgbClr val="fde0bd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tegoric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Qualitativ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12651"/>
            <p:cNvSpPr/>
            <p:nvPr/>
          </p:nvSpPr>
          <p:spPr>
            <a:xfrm>
              <a:off x="4800960" y="3276720"/>
              <a:ext cx="2057400" cy="911160"/>
            </a:xfrm>
            <a:prstGeom prst="rect">
              <a:avLst/>
            </a:prstGeom>
            <a:solidFill>
              <a:srgbClr val="cbdd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Numerical</a:t>
              </a:r>
              <a:br>
                <a:rPr sz="2400"/>
              </a:b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(Quantitative)</a:t>
              </a: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12652"/>
            <p:cNvSpPr/>
            <p:nvPr/>
          </p:nvSpPr>
          <p:spPr>
            <a:xfrm>
              <a:off x="4115160" y="4568760"/>
              <a:ext cx="1542960" cy="609840"/>
            </a:xfrm>
            <a:prstGeom prst="rect">
              <a:avLst/>
            </a:prstGeom>
            <a:solidFill>
              <a:srgbClr val="cbdd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Discr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12653"/>
            <p:cNvSpPr/>
            <p:nvPr/>
          </p:nvSpPr>
          <p:spPr>
            <a:xfrm>
              <a:off x="6096240" y="4568760"/>
              <a:ext cx="1752480" cy="609840"/>
            </a:xfrm>
            <a:prstGeom prst="rect">
              <a:avLst/>
            </a:prstGeom>
            <a:solidFill>
              <a:srgbClr val="cbdd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74747"/>
                  </a:solidFill>
                  <a:latin typeface="Arial"/>
                </a:rPr>
                <a:t>Continu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66680" y="4267080"/>
            <a:ext cx="2514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itical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ye 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283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efined categor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5181480"/>
            <a:ext cx="228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er of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fects per 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unted ite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181480"/>
            <a:ext cx="27432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asured characteristi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60C2-BCDC-4C17-9307-7AC9944899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66880" y="1828800"/>
            <a:ext cx="4038840" cy="569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8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vels of Measurement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 Measurement Sca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3048120"/>
            <a:ext cx="4038840" cy="569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3124080"/>
            <a:ext cx="351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9840" y="4336920"/>
            <a:ext cx="4025880" cy="569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97200" y="4408560"/>
            <a:ext cx="385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5632560"/>
            <a:ext cx="4038840" cy="569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54120" y="5703840"/>
            <a:ext cx="454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2209680"/>
            <a:ext cx="21337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st forms of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41972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0" y="5562720"/>
            <a:ext cx="21337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est form of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15000"/>
            <a:ext cx="259092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es (no  ordering or dir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4343400"/>
            <a:ext cx="26672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Categories (rankings, order, or scal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3048120"/>
            <a:ext cx="243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between measurements but no tru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1905120"/>
            <a:ext cx="351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25146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37339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502920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828800"/>
            <a:ext cx="23623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between measurements, true zero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 Da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3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Joh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,5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J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,6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Do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,7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B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7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,8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M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,4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a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5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Bet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,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Li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,7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8503-12CD-478A-916D-E43531D8A7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ata in Frequency Distribu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c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 Frequ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           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54 t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60 t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20K t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0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66 t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72 t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8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n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y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   Frequ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Category       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5EAD-CDD7-4978-A6B2-6404B018AD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atistical Da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Data can be gathered as grouped or converted after gath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cal data is by nature always grou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for numerical data are usually a range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for categorical data are usually single val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data is usually grouped for graphic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0E53-E3AC-4F32-A8CF-34E24846F5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315200" cy="85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asons for Drawing a S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15200" cy="3313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ime consuming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stly to administer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89F1-EFC7-4ADE-8162-8E15870076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489720" cy="85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ypes of Samples Used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4038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4114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44956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5638680"/>
            <a:ext cx="1216080" cy="4543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828800"/>
            <a:ext cx="1600200" cy="45468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2819520"/>
            <a:ext cx="51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352680"/>
            <a:ext cx="3124080" cy="6735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n-Probability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4876920"/>
            <a:ext cx="18288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4876920"/>
            <a:ext cx="121932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819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352680"/>
            <a:ext cx="312444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4572000"/>
            <a:ext cx="1447560" cy="75456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41148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5562720"/>
            <a:ext cx="182880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572000"/>
            <a:ext cx="160020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5486400"/>
            <a:ext cx="137160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58200" y="41148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90920" y="5638680"/>
            <a:ext cx="1981080" cy="4572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4495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44956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7480" y="4114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1203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A889-CC48-4528-B725-46B2C77DFE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ty Sampl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in the sample are chosen based on known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464832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01000" y="46483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3809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464832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3352680"/>
            <a:ext cx="335268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5334120"/>
            <a:ext cx="1676520" cy="75456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6483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5486400"/>
            <a:ext cx="190476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46483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5486400"/>
            <a:ext cx="175284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5486400"/>
            <a:ext cx="1371600" cy="45468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6104-D01A-4468-99B1-7E48BD9890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6080" y="492120"/>
            <a:ext cx="6200640" cy="72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key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mary vs. Secondary 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ameter vs. Statistic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ptive vs. Inferential Statisti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key 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ifferent samp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bability Samples vs. Nonprobability Samp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random sample by computer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ypes of data and levels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different types of survey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F93A-BEEA-4B55-9A66-749D1160A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mple Random Samp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dividual or item from the frame has an equal chance of being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may b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ith repla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obtained from computer random number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181480" y="5029200"/>
          <a:ext cx="19814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5029200"/>
                    <a:ext cx="19814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3108-A15F-47B5-8DE7-ECDB714053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sample siz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frame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 into groups of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: 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 one individual from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ever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 there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ystematic Samp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70400" y="4727520"/>
            <a:ext cx="3187800" cy="167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048120" y="3657600"/>
          <a:ext cx="21333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2133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410080" y="4800600"/>
            <a:ext cx="2900520" cy="15224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362320" y="4876920"/>
            <a:ext cx="1131840" cy="1567080"/>
          </a:xfrm>
          <a:prstGeom prst="rect">
            <a:avLst/>
          </a:pr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533920"/>
            <a:ext cx="1600200" cy="393840"/>
          </a:xfrm>
          <a:prstGeom prst="rect">
            <a:avLst/>
          </a:prstGeom>
          <a:solidFill>
            <a:srgbClr val="fbfe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4191120"/>
            <a:ext cx="137160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602240" y="5181480"/>
            <a:ext cx="884160" cy="3542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0DC3-C422-4D3A-A2CE-F76EBDE5F6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6781680" y="3429000"/>
          <a:ext cx="180360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429000"/>
                    <a:ext cx="18036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ratified Samp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divided into two or more subgroups (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ccording to some common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andom sample selected from each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from subgroups are combined into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1880" y="5105520"/>
            <a:ext cx="76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819520" y="4572000"/>
            <a:ext cx="3657600" cy="21668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324480" y="5334120"/>
            <a:ext cx="900360" cy="304560"/>
          </a:xfrm>
          <a:prstGeom prst="rightArrow">
            <a:avLst>
              <a:gd name="adj1" fmla="val 50000"/>
              <a:gd name="adj2" fmla="val 7481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952880"/>
            <a:ext cx="1447560" cy="121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i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t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r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6248520"/>
            <a:ext cx="12956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S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981080" y="4952520"/>
            <a:ext cx="7621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981080" y="5333760"/>
            <a:ext cx="83844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5562720"/>
            <a:ext cx="8384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5791320"/>
            <a:ext cx="7621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7238880" y="4876920"/>
            <a:ext cx="952560" cy="13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0AB9-A77E-45B2-A910-6A147FF9DC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uster Samp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divided into “clusters,” each representative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random sample of clusters is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tems in the selected clusters can be used, or items can be chosen from a cluster using another probability sampl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181480" y="4038480"/>
          <a:ext cx="16099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038480"/>
                    <a:ext cx="16099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228600" y="4952880"/>
            <a:ext cx="1981080" cy="11862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divided into 16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4191120" y="5409720"/>
            <a:ext cx="304560" cy="3049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876920" y="5334120"/>
            <a:ext cx="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5105520"/>
            <a:ext cx="53352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248520" y="5409720"/>
            <a:ext cx="457200" cy="228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743200" y="4876920"/>
          <a:ext cx="6095880" cy="46512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465120"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4267080" y="5638680"/>
            <a:ext cx="2590920" cy="6987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ly selected clusters for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26F1-95DA-47D7-AB47-370C69EEEF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vantages and Disadvantag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andom sample and systematic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ot be a good representation of the population’s underlying characteristics that have small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ified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representation of individuals across the entir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st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efficient (need larger sample to acquire the same level of prec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985A-469D-4FB0-A391-3EA91C36E6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ypes of Survey Error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238880" cy="491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 error or selection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s if some groups are excluded from the frame and have no chance of being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response error 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do not respond may be different from those who do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from sample to sample will always 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weaknesses in question design, respondent error, and interviewer’s effects on the respo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5943600"/>
            <a:ext cx="100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47C7-0C04-46C4-8434-29776B4156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valuating Survey Worthin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urpose of the surv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urvey based on a probability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coverage errors – (appropriate frame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Non-response error – (follow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Measurement error – (good questions elicit good respon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pling error acceptable – (always exi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324C-0097-4C48-9075-4C8DC70BC4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why a manager needs to know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key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escriptive vs. inferenti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different types of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data types and measurem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survey worthiness and types of survey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CDB0-FD95-4908-83A5-C510809F19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a Manager Needs to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now about Statistic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 how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ly present informa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describe th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conclusions about populations based on sample informa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make deci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reliable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47DB-BBDC-499C-AD85-D2668954CB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6424560" cy="72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ey Defini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lection of all items or things under consideration –people o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ortion of the population selected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mmary measure that describes a characteristic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mmary measure computed from a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3874-3E0B-4D1A-A27A-3A01CEB5DD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778800" cy="72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pulation vs. S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590920"/>
            <a:ext cx="3581280" cy="2666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774880"/>
            <a:ext cx="45086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2895480"/>
            <a:ext cx="2286000" cy="21337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b     c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   gh i  jk l   m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p q   rs  t  u v 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y     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    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 i       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      r   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410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used to describe the population are called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541008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computed from sample data are called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8BEA-EC68-431B-B6A7-3AD5B2E264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5956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ey Defini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rv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gathering of data about a particular group of people or i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ens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rvey of the entir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rvey of a portion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665C-EA30-4913-883D-07F83C68FA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5956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wo Branches of Statistic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lecting, summarizing, and describing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awing conclusions and/or making decisions concerning a population based only on sampl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727A-B6F2-472F-A42B-6AAB1EBEBA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923160" cy="858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scriptive Statistic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Surv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Tables and grap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 Sample mean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0" y="5105520"/>
          <a:ext cx="887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05520"/>
                    <a:ext cx="887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34120" y="3906720"/>
          <a:ext cx="1803240" cy="12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906720"/>
                    <a:ext cx="18032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705720" y="367812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466884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4211640"/>
            <a:ext cx="15228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4287960"/>
            <a:ext cx="15228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3983040"/>
            <a:ext cx="15264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4059360"/>
            <a:ext cx="15228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4211640"/>
            <a:ext cx="15228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4440240"/>
            <a:ext cx="15264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440240"/>
            <a:ext cx="152640" cy="228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4516560"/>
            <a:ext cx="152280" cy="152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809880" y="2209680"/>
            <a:ext cx="990720" cy="962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4343400" y="2743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4419720" y="2895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4267080" y="259092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0646-2E49-460B-BD97-79E0E971DE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tial Statistic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502920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: Estimate the population mean weight using the sample mean we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: Test the claim that the population mean weight is over 120 pou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5553000"/>
            <a:ext cx="7772400" cy="673560"/>
          </a:xfrm>
          <a:prstGeom prst="rect">
            <a:avLst/>
          </a:prstGeom>
          <a:solidFill>
            <a:srgbClr val="cbdd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awing conclusions and/or making decisions concerning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2444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B8C1-65BA-45BC-AE64-55A162654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dc:language>en-US</dc:language>
  <cp:lastModifiedBy>HP Pavilion</cp:lastModifiedBy>
  <cp:lastPrinted>1998-11-22T23:37:53Z</cp:lastPrinted>
  <dcterms:modified xsi:type="dcterms:W3CDTF">2004-09-18T03:07:57Z</dcterms:modified>
  <cp:revision>58</cp:revision>
  <dc:subject>Chapter 1</dc:subject>
  <dc:title>Statistics for Managers Using Microsoft Excel, 4/e</dc:title>
</cp:coreProperties>
</file>