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8B942-2266-417C-BCAF-82C2388A4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91AEE-027A-4FC1-9576-2E0B7A130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26D87-B32B-4459-AFC8-9ED906B5A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0DEE5-0088-4636-B000-81E0EA705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5CE37-5EE7-4A06-9CE1-1E28CAFBB9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4DCE5-A249-4F63-889D-D72865402C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CDBEC-EC5F-4DCC-B3FC-73BC241C19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0DFBE-A8CA-4782-B800-7B30F65CB7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4CEC5-AB77-4067-B1F9-7EF451E0EF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28600"/>
            <a:ext cx="7078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47151-F9E4-436B-8EAB-15A7BA60EB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FBA42-256C-4732-AB65-F9EB286691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7695-FD29-4F9A-B9B6-4A39DEF34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4D85B-4CF3-4121-9C95-378D2313F8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E8848-5A73-49FE-A8E3-AD2254DCBC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83835-3970-4014-A653-1D96772B22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5D526-AD37-4F09-82C5-3205276C7E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EB025-D3AC-492B-9C7A-59E584D97F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CA403-4714-4599-A574-1854336E3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5622-D388-4600-A6A9-D60EA7E83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888A2-2085-4454-965B-F3B74A4D2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28600"/>
            <a:ext cx="7078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46761-BA5A-49DB-9663-BF4B811B1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5FC2-F984-47DA-AAAD-8CF5C51E6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047F9-E950-407C-B496-7A7333870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DFB19-CC64-4DFC-9BED-512C856AE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09480"/>
            <a:ext cx="9009000" cy="1181160"/>
            <a:chOff x="0" y="609480"/>
            <a:chExt cx="9009000" cy="1181160"/>
          </a:xfrm>
        </p:grpSpPr>
        <p:grpSp>
          <p:nvGrpSpPr>
            <p:cNvPr id="3" name=""/>
            <p:cNvGrpSpPr/>
            <p:nvPr/>
          </p:nvGrpSpPr>
          <p:grpSpPr>
            <a:xfrm>
              <a:off x="290520" y="717480"/>
              <a:ext cx="711360" cy="471600"/>
              <a:chOff x="290520" y="717480"/>
              <a:chExt cx="711360" cy="47160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7174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73560" y="7174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85800" y="11365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8800" y="11365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8600" y="13716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0652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5040" y="6094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316080" y="14284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ftr" idx="1"/>
          </p:nvPr>
        </p:nvSpPr>
        <p:spPr>
          <a:xfrm>
            <a:off x="15228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6857640" y="6533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14-</a:t>
            </a:r>
            <a:fld id="{7B237EF1-34BF-4704-9E05-D9D8F46D01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8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5000" y="2438280"/>
            <a:ext cx="9009000" cy="1181160"/>
            <a:chOff x="135000" y="2438280"/>
            <a:chExt cx="9009000" cy="1181160"/>
          </a:xfrm>
        </p:grpSpPr>
        <p:grpSp>
          <p:nvGrpSpPr>
            <p:cNvPr id="52" name=""/>
            <p:cNvGrpSpPr/>
            <p:nvPr/>
          </p:nvGrpSpPr>
          <p:grpSpPr>
            <a:xfrm>
              <a:off x="425520" y="2546280"/>
              <a:ext cx="711360" cy="471600"/>
              <a:chOff x="425520" y="2546280"/>
              <a:chExt cx="711360" cy="471600"/>
            </a:xfrm>
          </p:grpSpPr>
          <p:sp>
            <p:nvSpPr>
              <p:cNvPr id="53" name=""/>
              <p:cNvSpPr/>
              <p:nvPr/>
            </p:nvSpPr>
            <p:spPr>
              <a:xfrm>
                <a:off x="425520" y="25462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08560" y="25462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820800" y="29653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3800" y="29653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3600" y="32004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000" y="28940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0040" y="24382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1080" y="32572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2"/>
          <p:cNvSpPr>
            <a:spLocks noGrp="1"/>
          </p:cNvSpPr>
          <p:nvPr>
            <p:ph type="ftr" idx="3"/>
          </p:nvPr>
        </p:nvSpPr>
        <p:spPr>
          <a:xfrm>
            <a:off x="152280" y="653724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4"/>
          </p:nvPr>
        </p:nvSpPr>
        <p:spPr>
          <a:xfrm>
            <a:off x="68576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14-</a:t>
            </a:r>
            <a:fld id="{78CB8F1C-35E0-4016-B2D2-BC6F554EC8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51"/>
              </a:spcBef>
              <a:buClr>
                <a:srgbClr val="fd2b4e"/>
              </a:buClr>
              <a:buSzPct val="50000"/>
              <a:buFont typeface="Wingdings" charset="2"/>
              <a:buChar char="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2640" y="3657600"/>
            <a:ext cx="7543800" cy="2062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ultiple Regression Model Build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838080"/>
            <a:ext cx="70102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atistics for Mana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Using Microsoft</a:t>
            </a:r>
            <a:r>
              <a:rPr b="0" lang="en-US" sz="4000" spc="-1" strike="noStrike" baseline="30000">
                <a:solidFill>
                  <a:srgbClr val="3333cc"/>
                </a:solidFill>
                <a:latin typeface="Arial"/>
              </a:rPr>
              <a:t>®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Excel</a:t>
            </a: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0DDAC-3671-44DA-AF6F-CA2E4BA2E0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: Quadratic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057040" y="1676520"/>
            <a:ext cx="6705720" cy="1103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ity increases as filter time incre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752480"/>
          <a:ext cx="1447920" cy="476100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l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276720" y="2514600"/>
          <a:ext cx="5105160" cy="41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514600"/>
                    <a:ext cx="51051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AA9B2-664C-4424-AAE2-2981E17C64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: Quadratic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8600" y="4241880"/>
          <a:ext cx="2590920" cy="1092240"/>
        </p:xfrm>
        <a:graphic>
          <a:graphicData uri="http://schemas.openxmlformats.org/drawingml/2006/table">
            <a:tbl>
              <a:tblPr/>
              <a:tblGrid>
                <a:gridCol w="160020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68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0.966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5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mple regression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-11.283 + 5.985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28600" y="3048120"/>
          <a:ext cx="5029200" cy="1001520"/>
        </p:xfrm>
        <a:graphic>
          <a:graphicData uri="http://schemas.openxmlformats.org/drawingml/2006/table">
            <a:tbl>
              <a:tblPr/>
              <a:tblGrid>
                <a:gridCol w="1219320"/>
                <a:gridCol w="1066680"/>
                <a:gridCol w="914400"/>
                <a:gridCol w="914400"/>
                <a:gridCol w="9144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1.282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68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25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6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98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9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328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.078E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048120" y="4394160"/>
          <a:ext cx="2133360" cy="609480"/>
        </p:xfrm>
        <a:graphic>
          <a:graphicData uri="http://schemas.openxmlformats.org/drawingml/2006/table">
            <a:tbl>
              <a:tblPr/>
              <a:tblGrid>
                <a:gridCol w="914400"/>
                <a:gridCol w="1218960"/>
              </a:tblGrid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.579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.0778E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6668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257800" y="4114800"/>
          <a:ext cx="3733920" cy="250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114800"/>
                    <a:ext cx="373392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019920" y="20574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048120"/>
            <a:ext cx="3276720" cy="10087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-statistic, F-statistic, and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all high, but the residuals are not rand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BAE26-1A4E-4896-B19C-8A80546098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28600" y="2840040"/>
          <a:ext cx="5029200" cy="1274760"/>
        </p:xfrm>
        <a:graphic>
          <a:graphicData uri="http://schemas.openxmlformats.org/drawingml/2006/table">
            <a:tbl>
              <a:tblPr/>
              <a:tblGrid>
                <a:gridCol w="1219320"/>
                <a:gridCol w="1066680"/>
                <a:gridCol w="914400"/>
                <a:gridCol w="914400"/>
                <a:gridCol w="9144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38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44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8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07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4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0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0.024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me-squa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5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52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1.165E-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228600" y="4267080"/>
          <a:ext cx="2666880" cy="1092240"/>
        </p:xfrm>
        <a:graphic>
          <a:graphicData uri="http://schemas.openxmlformats.org/drawingml/2006/table">
            <a:tbl>
              <a:tblPr/>
              <a:tblGrid>
                <a:gridCol w="1523880"/>
                <a:gridCol w="114300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9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0.99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95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048120" y="4322880"/>
          <a:ext cx="2133360" cy="609480"/>
        </p:xfrm>
        <a:graphic>
          <a:graphicData uri="http://schemas.openxmlformats.org/drawingml/2006/table">
            <a:tbl>
              <a:tblPr/>
              <a:tblGrid>
                <a:gridCol w="914400"/>
                <a:gridCol w="1218960"/>
              </a:tblGrid>
              <a:tr h="320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0.7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.368E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685800" y="1371600"/>
            <a:ext cx="8077320" cy="45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uadratic regression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1.539 + 1.565 Time + 0.245 (Time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: Quadratic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334120" y="2819520"/>
          <a:ext cx="3657600" cy="180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819520"/>
                    <a:ext cx="36576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5334120" y="4648320"/>
          <a:ext cx="3657600" cy="175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648320"/>
                    <a:ext cx="36576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228600" y="5486400"/>
            <a:ext cx="4952880" cy="105048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adratic term is significant and improves the model: 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higher an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lower, residuals are now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09A20-7246-46B4-BE68-07C8F27093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llinearit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2120400"/>
            <a:ext cx="8077320" cy="2609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llinearity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rrelation exists between two independ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e two variables contribute redundant information to the multiple regression mode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2A919-EA44-4815-B9C5-32C21B2E07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llinearit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4372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 two highly correlated explanatory variables can adversely affect the regress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w information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ead to unstable coefficients (large standard error and low t-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fficient signs may not match prior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D3CE-CEF1-4E4F-8435-D6A199C832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ome Indications of Strong Collinearit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6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 signs on the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nge in the value of a previous coefficient when a new variable is added to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eviously significant variable becomes insignificant when a new independent variable is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stimate of the standard deviation of the model increases when a variable is added to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D63F6-9F52-421E-A8FC-90FB5BD6A9A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etecting Collinearity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(Variance Inflationary Factor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1752480"/>
            <a:ext cx="59436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to measure collinea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5334120"/>
            <a:ext cx="5867280" cy="8758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 VI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10,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correlated with the other explanator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4191120"/>
            <a:ext cx="5791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s the coefficient of determination of variable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all other X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762280" y="2514600"/>
                <a:ext cx="323856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I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ABF71-D3B6-43F6-8068-9528B9229F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267080" y="3778200"/>
            <a:ext cx="4267440" cy="1295280"/>
          </a:xfrm>
          <a:prstGeom prst="rect">
            <a:avLst/>
          </a:prstGeom>
          <a:solidFill>
            <a:srgbClr val="bef8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: Pie Sales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19360" y="3930480"/>
            <a:ext cx="4343400" cy="1175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7000"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ri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vertis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80880" y="1579680"/>
          <a:ext cx="3505320" cy="5064120"/>
        </p:xfrm>
        <a:graphic>
          <a:graphicData uri="http://schemas.openxmlformats.org/drawingml/2006/table">
            <a:tbl>
              <a:tblPr/>
              <a:tblGrid>
                <a:gridCol w="685800"/>
                <a:gridCol w="839880"/>
                <a:gridCol w="760320"/>
                <a:gridCol w="121932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e 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erti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$100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4572000" y="3886200"/>
            <a:ext cx="604800" cy="155520"/>
          </a:xfrm>
          <a:custGeom>
            <a:avLst/>
            <a:gdLst/>
            <a:ahLst/>
            <a:rect l="l" t="t" r="r" b="b"/>
            <a:pathLst>
              <a:path w="381" h="98">
                <a:moveTo>
                  <a:pt x="0" y="96"/>
                </a:moveTo>
                <a:lnTo>
                  <a:pt x="192" y="0"/>
                </a:lnTo>
                <a:lnTo>
                  <a:pt x="381" y="9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620120" y="5715000"/>
            <a:ext cx="1380960" cy="771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191120" y="230184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e multiple regression model of chapter 1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B630A-3781-412A-8CC3-7A109345FC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191120" y="4876920"/>
            <a:ext cx="4495680" cy="152388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etect Collinearity in PHSt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352680" y="3123720"/>
            <a:ext cx="5562720" cy="3389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24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utput for the pie sales 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nce there are only two explanatory variables, only one VIF  is report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F  is &lt; 1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evidence of collinearity between Price and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52280" y="3124080"/>
          <a:ext cx="3159360" cy="3291120"/>
        </p:xfrm>
        <a:graphic>
          <a:graphicData uri="http://schemas.openxmlformats.org/drawingml/2006/table">
            <a:tbl>
              <a:tblPr/>
              <a:tblGrid>
                <a:gridCol w="1676520"/>
                <a:gridCol w="1482840"/>
              </a:tblGrid>
              <a:tr h="33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ce and all other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04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9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75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1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09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066680" y="1828800"/>
            <a:ext cx="746784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HStat / regression / multiple regressi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“variance inflationary factor (VIF)”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9EA0-CE52-4968-A21B-A4314B8A90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del Build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develop a model with the best set of independ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interpret if unimportant variables are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probability of colline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epwise regression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valuation of alternative models as variables are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est-subse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ll combinations and select the best using the highest adjusted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lowest standard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70F21-5888-4356-A4AA-9D021B7EA9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8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quadratic terms in a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the correlation among the independ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regression model using stepwise or best-subset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pitfalls involved in developing a multipl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51063-A4E2-420E-A41D-4651545EC0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velop the least squares regression equation in steps, adding one explanatory variable at a time and evaluating whether existing variables should remain or be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efficient of partial de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easure of the marginal contribution of each independent variable, given that other independent variables are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304920"/>
            <a:ext cx="7721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Stepwise Regress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409E-6E4D-4B39-A040-5576277F7F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est Subsets Regress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de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all possible regression equations using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ll possible combin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independ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best fit by looking for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ighest adjusted r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owest standard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4952880"/>
            <a:ext cx="6629400" cy="8254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wise regression and best subsets regression can be performed using PH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A095A-B1BF-4D62-AA40-1EF319463F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lternative Best Subsets Criter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valu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potential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models with 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values close to or below k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 is the number of independent variables in the model under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44F21-31CB-4388-BBB9-54EFB426DE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lternative Best Subsets Criter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219320" y="2286000"/>
                <a:ext cx="65815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1523880" y="3809880"/>
            <a:ext cx="716292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  k = number of independent variables included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ular regress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total number of parameters to be estimated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regress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coefficient of multiple determination for model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coefficient of multiple determination for full model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 estimated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438280" y="5105520"/>
                <a:ext cx="3160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438280" y="5781600"/>
                <a:ext cx="3351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0B9E0-EC0F-4901-A0ED-07780E2C0D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0 Steps in Model Build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hoose explanatory variables to include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stimate full model and check V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heck if any VIFs &gt;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VIF &gt; 10, go to step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e VIF &gt; 10, remove this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ore than one, eliminate the variable with the highest VIF and go back to 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erform best subsets regression with remaining variabl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D765E-869E-482B-BCCD-8DA752BAC9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0 Steps in Model Build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List all models with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ose to or less than (k +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Choose the bes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parsim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extra variable make a significant contrib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Perform complete analysis with chosen model, including residu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Transform the model if necessary to deal with violations of linearity or other model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Use the model for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77387-F737-4DF8-A237-B7DC390A35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del Building Flowchar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1828800"/>
            <a:ext cx="2513160" cy="435600"/>
          </a:xfrm>
          <a:prstGeom prst="rect">
            <a:avLst/>
          </a:prstGeom>
          <a:solidFill>
            <a:srgbClr val="fde0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9200" y="2668680"/>
            <a:ext cx="2130480" cy="698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regression to find V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3760" y="4299120"/>
            <a:ext cx="1851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variable with highest             V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2640" y="2730600"/>
            <a:ext cx="1165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VIF&gt;1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7680" y="1830240"/>
            <a:ext cx="2663640" cy="135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subsets regression to obtain “best” models in terms of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21360" y="3659040"/>
            <a:ext cx="2892600" cy="393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complet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4573440"/>
            <a:ext cx="3884760" cy="698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quadratic term and/or transform variables as ind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6320" y="5715000"/>
            <a:ext cx="1901880" cy="698760"/>
          </a:xfrm>
          <a:prstGeom prst="rect">
            <a:avLst/>
          </a:prstGeom>
          <a:solidFill>
            <a:srgbClr val="c7da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pred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520" y="3886200"/>
            <a:ext cx="2287800" cy="1828800"/>
          </a:xfrm>
          <a:custGeom>
            <a:avLst/>
            <a:gdLst/>
            <a:ahLst/>
            <a:rect l="l" t="t" r="r" b="b"/>
            <a:pathLst>
              <a:path w="1393" h="1057">
                <a:moveTo>
                  <a:pt x="696" y="0"/>
                </a:moveTo>
                <a:lnTo>
                  <a:pt x="0" y="528"/>
                </a:lnTo>
                <a:lnTo>
                  <a:pt x="696" y="1056"/>
                </a:lnTo>
                <a:lnTo>
                  <a:pt x="1392" y="528"/>
                </a:lnTo>
                <a:lnTo>
                  <a:pt x="696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67080" y="2514600"/>
            <a:ext cx="78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39960" y="2362320"/>
            <a:ext cx="1832040" cy="1371600"/>
          </a:xfrm>
          <a:custGeom>
            <a:avLst/>
            <a:gdLst/>
            <a:ahLst/>
            <a:rect l="l" t="t" r="r" b="b"/>
            <a:pathLst>
              <a:path w="1057" h="721">
                <a:moveTo>
                  <a:pt x="528" y="0"/>
                </a:moveTo>
                <a:lnTo>
                  <a:pt x="0" y="360"/>
                </a:lnTo>
                <a:lnTo>
                  <a:pt x="528" y="720"/>
                </a:lnTo>
                <a:lnTo>
                  <a:pt x="1056" y="360"/>
                </a:lnTo>
                <a:lnTo>
                  <a:pt x="528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25800" y="4467240"/>
            <a:ext cx="1317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5791320"/>
            <a:ext cx="1216080" cy="698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is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22860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3048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3733920"/>
            <a:ext cx="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3657600"/>
            <a:ext cx="78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57600" y="5397480"/>
            <a:ext cx="78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5495760"/>
            <a:ext cx="0" cy="295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362320" y="480060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63680" y="4330800"/>
            <a:ext cx="78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27432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9152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91520" y="4114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91520" y="5334120"/>
            <a:ext cx="0" cy="34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219320" y="3429000"/>
            <a:ext cx="0" cy="434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41760" y="4114800"/>
            <a:ext cx="1830240" cy="1371600"/>
          </a:xfrm>
          <a:custGeom>
            <a:avLst/>
            <a:gdLst/>
            <a:ahLst/>
            <a:rect l="l" t="t" r="r" b="b"/>
            <a:pathLst>
              <a:path w="1057" h="721">
                <a:moveTo>
                  <a:pt x="528" y="0"/>
                </a:moveTo>
                <a:lnTo>
                  <a:pt x="0" y="360"/>
                </a:lnTo>
                <a:lnTo>
                  <a:pt x="528" y="720"/>
                </a:lnTo>
                <a:lnTo>
                  <a:pt x="1056" y="360"/>
                </a:lnTo>
                <a:lnTo>
                  <a:pt x="528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3048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800600" y="25146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00600" y="25146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6019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952880" y="2743200"/>
            <a:ext cx="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76ABE-1EAC-4F74-A5D4-5930FB06587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616428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itfal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2325600"/>
            <a:ext cx="7696080" cy="3694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at interpretation of the estimated regression coefficients are performed holding all other independent variables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residual plots for each independent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interaction te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6765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void pitfall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A2220-ED71-491D-9E5A-883B791A86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dditional Pitfalls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77320" cy="3846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VIFs for each independent variable before determining which variables should b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several alternative models using stepwise and best-subse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ther methods when the assumptions necessary for least-squares regression have been seriously vio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48228-58B3-424B-AB79-4D09A9DB73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the quadratic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collinearity and the VIF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model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wise 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sub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d pitfalls in multiple 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AF09-2007-4C39-9C04-0C430B9727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7696440" cy="4303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the dependent variable and an independent variable may not be 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scatter diagram to check for  non-linea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linear relationships might be modeled with a quadratic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876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onlinear Relationship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AE8B0-CC6E-44DC-98D3-7D5EDEEAFD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Quadratic Regression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057400"/>
            <a:ext cx="733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2209680"/>
            <a:ext cx="7848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atic models may be considered when the scatter diagram takes on one of the following sha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3120" y="3257640"/>
            <a:ext cx="0" cy="138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3120" y="4646520"/>
            <a:ext cx="1541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740000">
            <a:off x="517680" y="1929600"/>
            <a:ext cx="1656000" cy="256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145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14501"/>
              </a:path>
            </a:pathLst>
          </a:custGeom>
          <a:noFill/>
          <a:ln cap="rnd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57200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124080"/>
            <a:ext cx="378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51440" y="4646520"/>
            <a:ext cx="1541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51440" y="3257640"/>
            <a:ext cx="0" cy="138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89120" y="3257640"/>
            <a:ext cx="0" cy="138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1120" y="3257640"/>
            <a:ext cx="0" cy="138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89120" y="4646520"/>
            <a:ext cx="1541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1120" y="4646520"/>
            <a:ext cx="1541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60000">
            <a:off x="4321800" y="3344760"/>
            <a:ext cx="1656000" cy="256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145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14501"/>
              </a:path>
            </a:pathLst>
          </a:custGeom>
          <a:noFill/>
          <a:ln cap="rnd"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9600" y="1916280"/>
            <a:ext cx="1955880" cy="256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459600">
            <a:off x="7531200" y="3320640"/>
            <a:ext cx="1497960" cy="256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20"/>
                </a:moveTo>
                <a:arcTo wR="10800" hR="10800" stAng="-10774472" swAng="5367189"/>
                <a:lnTo>
                  <a:pt x="10800" y="10800"/>
                </a:lnTo>
                <a:close/>
              </a:path>
              <a:path fill="none" w="21600" h="21600">
                <a:moveTo>
                  <a:pt x="0" y="10720"/>
                </a:moveTo>
                <a:arcTo wR="10800" hR="10800" stAng="-10774472" swAng="5367189"/>
              </a:path>
            </a:pathLst>
          </a:custGeom>
          <a:noFill/>
          <a:ln cap="rnd"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4572000"/>
            <a:ext cx="533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457200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3124080"/>
            <a:ext cx="378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3124080"/>
            <a:ext cx="37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3124080"/>
            <a:ext cx="378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4724280"/>
            <a:ext cx="1066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4724280"/>
            <a:ext cx="136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4724280"/>
            <a:ext cx="1368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67480" y="4724280"/>
            <a:ext cx="136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5715000"/>
            <a:ext cx="4419360" cy="69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the coefficient of the linear te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the coefficient of the square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534520" y="457200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28600" y="1523880"/>
                <a:ext cx="43099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533520" y="5181480"/>
            <a:ext cx="1066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5181480"/>
            <a:ext cx="136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57800" y="5181480"/>
            <a:ext cx="1368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5181480"/>
            <a:ext cx="136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761000" y="1523880"/>
                <a:ext cx="4181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F541-952C-403F-A2B1-CCC61C0D1E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sidual Analysi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86200" y="2666880"/>
          <a:ext cx="4686480" cy="35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666880"/>
                    <a:ext cx="468648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724280" y="1676520"/>
            <a:ext cx="2667240" cy="820440"/>
          </a:xfrm>
          <a:prstGeom prst="rect">
            <a:avLst/>
          </a:prstGeom>
          <a:solidFill>
            <a:srgbClr val="ff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n-linea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26668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 rot="2821200">
            <a:off x="3092760" y="672480"/>
            <a:ext cx="5333040" cy="396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85800" y="3200400"/>
                <a:ext cx="25923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57200" y="1905120"/>
            <a:ext cx="3276720" cy="8758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gression with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4191120"/>
            <a:ext cx="2971800" cy="8758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al plot was randomly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D1A19-6942-46EC-BB29-AF5FDB748F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78680" cy="1067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Quadratic Model Workshee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11360" y="5351400"/>
            <a:ext cx="6400800" cy="106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regression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66680" y="1868400"/>
          <a:ext cx="7543800" cy="3313080"/>
        </p:xfrm>
        <a:graphic>
          <a:graphicData uri="http://schemas.openxmlformats.org/drawingml/2006/table">
            <a:tbl>
              <a:tblPr/>
              <a:tblGrid>
                <a:gridCol w="1508400"/>
                <a:gridCol w="1539720"/>
                <a:gridCol w="1477800"/>
                <a:gridCol w="1509840"/>
                <a:gridCol w="15080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,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1611360" y="5351400"/>
            <a:ext cx="6400800" cy="115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regression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47537-EA10-4B7B-BD53-D1ADECA567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5257800"/>
            <a:ext cx="2971800" cy="6858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sting the Overall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381880" cy="2245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for Overall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o overall relationship between X and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t all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s = 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here is a relationship between X and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test statistic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514600" y="2666880"/>
                <a:ext cx="31179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733920" y="5334120"/>
                <a:ext cx="6094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685800" y="1828800"/>
            <a:ext cx="72388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xcel to obtain the quadratic mode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4191120"/>
            <a:ext cx="75438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293D-A2D2-4E5F-BAB8-CF74044989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sting the Quadratic Term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7848720" cy="2182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quadratic term does not improve the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quadratic term improves the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6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statistic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2362320"/>
            <a:ext cx="1447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20760" indent="-320760"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743200" y="4419720"/>
                <a:ext cx="160020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743200" y="5715000"/>
                <a:ext cx="16002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334120" y="4343400"/>
            <a:ext cx="365760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quared term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hypothesized slope (z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tandard error of the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2286000"/>
            <a:ext cx="73152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5054E-BAF0-45CE-ADB5-79B578FD0F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2362320"/>
            <a:ext cx="6933960" cy="13716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sting the Quadratic Term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238880" cy="5563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cond test of the quadratic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he adjusted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simple regression to the adjusted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quadratic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djusted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quadratic model is greater than the adjusted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     simple linear regression then the quadratic model has explained a larger percentage of the variability i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spcBef>
                <a:spcPts val="499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E610B-E7B6-4E18-80EB-38CA9C0C73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7T22:54:40Z</dcterms:created>
  <dc:creator>Drik Yandell</dc:creator>
  <dc:description/>
  <dc:language>en-US</dc:language>
  <cp:lastModifiedBy>HP Pavilion</cp:lastModifiedBy>
  <cp:lastPrinted>1998-11-22T23:37:53Z</cp:lastPrinted>
  <dcterms:modified xsi:type="dcterms:W3CDTF">2004-11-05T17:14:43Z</dcterms:modified>
  <cp:revision>57</cp:revision>
  <dc:subject>Chapter 14</dc:subject>
  <dc:title>Statistics for Managers Using Microsoft Excel, 4/e</dc:title>
</cp:coreProperties>
</file>