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11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523520" y="609120"/>
            <a:ext cx="39625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211B117C-1797-49DB-8EFA-8D3A7F652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280" y="8818560"/>
            <a:ext cx="6715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stics for Managers Using Microsoft Excel, 4/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Prentice 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E094-DA3A-4437-A745-4E25DD9B3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B444-DA76-448B-B11E-A4355EE81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0C4E-D443-4A44-A00D-B31F90D73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C880-7EAF-4C6D-9CF4-E0C62D057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2CB0E-AD61-496E-B37B-9E7CE0AACD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642F2-4062-4E97-9AED-51B3527401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52118-FD45-42C6-8260-470898A0FF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22D50-96A3-4013-8A6F-8B070D263C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55D1D-1D85-45CB-94B8-19C1FFDC9E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53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701CC-DCFB-4380-A5C2-300E5E059E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D3383-F6AC-4160-A1D9-A72D4A8C10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5FF0-D37B-4841-AD3F-A7207E6A7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EE290-5916-41B3-8CF0-3EE8BBE044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6A646-9494-48EA-B48E-CCFA76CAE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9E0DB-1681-4F98-8BA8-CA3650B2A3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FB77E-E2B1-4EB7-A5B0-2973376EA5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4D0AD-BAB9-4151-84DD-F1EA91188C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E0A5-E916-4699-9064-B0CB21AC9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2E91-44A7-48BC-86E7-2314E8A89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76EA-2D9D-4FE6-89BC-D87C9CD75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53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2461-D50D-4B5A-9230-61D633C9B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637F-12AF-4993-916D-879D0373D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C66D-F4DB-452A-B440-6148F7267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5C59-1C20-4612-B003-1E5D78DC4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5-</a:t>
            </a:r>
            <a:fld id="{3ABC7FBE-8260-40E8-8A41-26FBC0F637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5-</a:t>
            </a:r>
            <a:fld id="{641439FD-02DF-4130-A3FB-FA053F9001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447560" y="3505320"/>
            <a:ext cx="6476760" cy="2442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me Important Discrete Probability Distribu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FB8F1-6C4E-4F16-BFD3-E0B20B792E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362320" y="3429000"/>
            <a:ext cx="4572000" cy="1905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ing the Results for Investment Retur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gressive fund has a higher expected return, but much more r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95 &gt;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193.21 &gt;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43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B746-227A-4B53-8009-11518EBCAF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2578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2574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2574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998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5029200"/>
            <a:ext cx="25909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5715000"/>
            <a:ext cx="14479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2574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5715000"/>
            <a:ext cx="198108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2743200"/>
            <a:ext cx="9907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2743200"/>
            <a:ext cx="9907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95BA-11F0-4D7D-9EFD-8559C0F42C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 flipH="1">
            <a:off x="15998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599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Binomial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5029200"/>
            <a:ext cx="2590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5715000"/>
            <a:ext cx="1447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8B18-08FE-406E-A8B5-57D02B735D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inomial Probability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7524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xed number of observations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: 15 tosses of a coin; ten light bulbs taken from a sh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utually exclusive and collectively exhaustive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: head or tail in each toss of a coin; defective or not defectiv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called “success” and “failu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success is p, probability of failure is 1 –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probability for each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: Probability of getting a tail is the same each time we toss the c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1BA9-0FDD-4259-84C0-EA8159C671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inomial Probability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82880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come of one observation does not affect the outcome of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amp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e population without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population with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6EB3-5824-4DAF-BCB3-B0B11BC993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485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nufacturing plant labels items as either defective or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firm bidding for contracts will either get a contrac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rketing research firm receives survey responses of “yes I will buy” or “no I will not bu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ew job applicants either accept the offer or rej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7029-B4BB-4590-A3F6-D38920C3F25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ule of Combina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1511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bination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selecting X objects out of n objects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895480" y="3200400"/>
                <a:ext cx="28702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1447920" y="4572000"/>
            <a:ext cx="563868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! =n(n - 1)(n - 2) . . . (2)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! = X(X - 1)(X - 2) . . . (2)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! = 1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defin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5380-B98B-4AE6-A7B3-6EB38BCBF3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523880" y="1676520"/>
            <a:ext cx="609624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3276720"/>
            <a:ext cx="5638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X) = probabilit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cesses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ty of succes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ch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=   number of ‘successes’ in samp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= 0, 1, 2, ...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= sample size (number of t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r observ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  probability of “succes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84440" y="2279520"/>
            <a:ext cx="153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75800" y="1981080"/>
            <a:ext cx="99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38120" y="167652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9720" y="2279520"/>
            <a:ext cx="678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22200" y="22953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5240" y="229536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8112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13560" y="1981080"/>
            <a:ext cx="10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48240" y="1889280"/>
            <a:ext cx="37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66040" y="1905120"/>
            <a:ext cx="352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24680" y="1882800"/>
            <a:ext cx="367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94080" y="1676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8252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492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25880" y="2279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93520" y="198108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40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96080" y="1882800"/>
            <a:ext cx="38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610480" y="46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9920" y="3733920"/>
            <a:ext cx="2971800" cy="23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3733920"/>
            <a:ext cx="2895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ip a coin four times, let  x = # h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- .5) = 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0, 1, 2, 3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inomial Distribution Formul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657B-5442-4507-8458-5832A777220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048120" y="2666880"/>
            <a:ext cx="3504960" cy="5335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10480" y="46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alculating a Binomial Probabilit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95280" y="175248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ability of one success in four flips if the probability of success is .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, n = 4, and p = 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86000" y="3454560"/>
                <a:ext cx="5334120" cy="32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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3581280" y="6019920"/>
            <a:ext cx="13716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B585-92A3-4C87-BB92-0CF4DC42233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610160" y="451008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10160" y="2209680"/>
            <a:ext cx="3841560" cy="1981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11880" y="226044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11880" y="454644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8960" y="33433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68960" y="303840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68960" y="27367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86440" y="276696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73880" y="3160800"/>
            <a:ext cx="485640" cy="48564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58080" y="352260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45160" y="361476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86440" y="291924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52960" y="364500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52960" y="33433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52960" y="303840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52960" y="27367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68960" y="364500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086440" y="351756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573880" y="351756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058080" y="351756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545160" y="351756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032600" y="351756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516800" y="351756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004240" y="351756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24200" y="347040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4200" y="31687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24200" y="286380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24200" y="25621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75360" y="3813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62440" y="3813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46640" y="3813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34080" y="3813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21520" y="3813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07160" y="3813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018640" y="34704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16440" y="233352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67160" y="56307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67160" y="532620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67160" y="502272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84640" y="5886360"/>
            <a:ext cx="489240" cy="4788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72080" y="569448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58080" y="5459400"/>
            <a:ext cx="488880" cy="47484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45160" y="5459400"/>
            <a:ext cx="490680" cy="47484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34040" y="569448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18240" y="5886360"/>
            <a:ext cx="489240" cy="4788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84640" y="520524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51520" y="5932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51520" y="56307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51520" y="532620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51520" y="502272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267160" y="5932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084640" y="580500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572080" y="580500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058080" y="580500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545160" y="580500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034040" y="580500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518240" y="580500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8005680" y="580500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22760" y="54547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22760" y="514980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22760" y="48481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73560" y="610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62440" y="610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46640" y="610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35880" y="610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122960" y="610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607160" y="610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020080" y="57564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29040" y="461952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76760" y="5773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inomial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923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he binomial distribution depends on the values of p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27432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48769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52000"/>
          </a:bodyPr>
          <a:p>
            <a:pPr lvl="1" marL="360720" indent="-139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ll distributions for p=.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symmetric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D526-09C9-44A0-8029-905032AE6E8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mean and standard deviation for a discrete probabilit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binomial, hypergeometric and Poisson discrete probability distributions to find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en to apply the binomial, hypergeometric and Poisson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AE51-3281-464F-A3B2-4D5CAC1ED6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inomial Distribution Characteristic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1952280"/>
            <a:ext cx="1828800" cy="83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240000" y="2133720"/>
                <a:ext cx="2739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421080" y="3657600"/>
                <a:ext cx="2482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436920" y="4419720"/>
                <a:ext cx="25909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1066680" y="53341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probability of su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1 – p) = probability of fail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7F44-2B26-4349-BBEF-FD58AC4E03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949320" y="2133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52320" y="2824200"/>
                <a:ext cx="39085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p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949320" y="4419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652320" y="5110200"/>
                <a:ext cx="39085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p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92280" y="228600"/>
            <a:ext cx="70740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inomial Characteristic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DD3E-8434-48D1-8093-678507153CA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43000" y="18684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Stat / Probability &amp; Prob. Distributions / Binomi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162920" cy="416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8432E-3787-4FDE-948E-E940A79D54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14000"/>
          </a:bodyPr>
          <a:p>
            <a:pPr marL="44640" indent="-4464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 desired values in dialog b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e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=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 = .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put for X = 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X = 10 will b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ted by PHSt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onal check bo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64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additional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29200" cy="37753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2971800" y="2590920"/>
            <a:ext cx="42670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24080" y="2971800"/>
            <a:ext cx="41148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886200" y="3733920"/>
            <a:ext cx="2819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2D52-29E2-40F3-9A2F-075B6C5185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705640" cy="47815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267080" y="297180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= 3 | n = 10, p = .35) = .2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HStat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586728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&gt; 5 | n = 10, p = .35) = .09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4FFB-7F64-4748-9934-7EDFD98A07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 flipH="1">
            <a:off x="15998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599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5998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71600" y="457200"/>
            <a:ext cx="7467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Hypergeometric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002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828800" y="5715000"/>
            <a:ext cx="1447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5029200"/>
            <a:ext cx="25909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DC98-C4CA-4556-8ED8-4C137DADEE8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Hypergeometric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” trials in a sample taken from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ite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take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ls ar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finding the probability of “X” successes in the sample where there are “A” successes in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CB65-D18D-47ED-921E-602745FF90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ergeometric Distribution Formul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3048120" y="2209680"/>
                <a:ext cx="2438280" cy="202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1219320" y="4114800"/>
            <a:ext cx="7315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number of successes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A = number of failures in th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in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X = number of failures in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16002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wo possible outcomes per t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377B-9F61-4A9E-979E-46B89FDD63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perties of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ergeometric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868040"/>
            <a:ext cx="8077320" cy="4761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hypergeometric distribu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           is called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“Finite Population Correction Facto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ampling without replacement from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809880" y="2514600"/>
                <a:ext cx="1957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352680" y="3962520"/>
                <a:ext cx="2924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A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-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828800" y="5257800"/>
                <a:ext cx="685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-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7E26-5C1F-4E0B-944A-DA56B27032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895480" y="3352680"/>
            <a:ext cx="3048120" cy="7621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ergeometric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2852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buClr>
                <a:srgbClr val="3333cc"/>
              </a:buClr>
              <a:buSzPct val="60000"/>
              <a:buFont typeface="Arial"/>
              <a:buChar char="■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different computers are checked from 10 in the department. 4 of the 10 computers have illegal software loaded.  What is the probability that 2 of the 3 selected computers have illegal software loa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2209680" y="4267080"/>
                <a:ext cx="449604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990720" y="58672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ability that 2 of the 3 selected computers will have illegal software loaded is 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FCAE-9437-40C0-AA5D-89D266CB7F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Probability Distribu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a possible numerical value from an uncertain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204000"/>
            <a:ext cx="2332080" cy="86436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94000" y="4521240"/>
            <a:ext cx="2514600" cy="6742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03880" y="4521240"/>
            <a:ext cx="2374920" cy="6742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0" idx="2"/>
            <a:endCxn id="131" idx="0"/>
          </p:cNvCxnSpPr>
          <p:nvPr/>
        </p:nvCxnSpPr>
        <p:spPr>
          <a:xfrm rot="5400000">
            <a:off x="3461760" y="3371760"/>
            <a:ext cx="423000" cy="18453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30" idx="2"/>
            <a:endCxn id="132" idx="0"/>
          </p:cNvCxnSpPr>
          <p:nvPr/>
        </p:nvCxnSpPr>
        <p:spPr>
          <a:xfrm flipH="1" rot="16200000">
            <a:off x="5331240" y="3346200"/>
            <a:ext cx="423000" cy="189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3870360" y="4349880"/>
            <a:ext cx="1440" cy="144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408640"/>
            <a:ext cx="1390680" cy="7668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5408640"/>
            <a:ext cx="1393560" cy="7668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6246720"/>
            <a:ext cx="29019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5942160"/>
            <a:ext cx="0" cy="304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5332320"/>
            <a:ext cx="0" cy="9144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5560920"/>
            <a:ext cx="0" cy="685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5408640"/>
            <a:ext cx="0" cy="838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5637240"/>
            <a:ext cx="0" cy="6094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5789520"/>
            <a:ext cx="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6094440"/>
            <a:ext cx="0" cy="152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018120"/>
            <a:ext cx="0" cy="228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86584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4960" y="44956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99320" y="44956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D9B3-5278-4B0D-B4B8-E035C95266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ergeometric Distribution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134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Stat / Probability &amp; Prob. Distributions / Hypergeometric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6105240" cy="354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69A2-18BF-4A77-8A9F-B11FB8D332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066680" y="2286000"/>
            <a:ext cx="2438640" cy="685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ergeometric Distribution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134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te dialog box entries and get outpu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62520" y="2286000"/>
            <a:ext cx="3828960" cy="3905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3009960" cy="24858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477120" y="5638680"/>
            <a:ext cx="12952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2286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4343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199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P(X = 2) = 0.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E489-AFEC-4C77-A6AC-44F015F956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 flipH="1">
            <a:off x="15998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599840" y="5943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15998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Poisson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00200" y="39625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828800" y="5029200"/>
            <a:ext cx="25909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5715000"/>
            <a:ext cx="144792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F70F-2CD9-450E-BFBE-6CD89B6F59E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515360" cy="892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oisson Distrib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y the Poisson Distribution whe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You wish to count the number of times an event occurs in a give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probability that an event occurs in the interval is the same for all intervals of equal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number of events that occur in one interval is independent of the number of events that occur in the othe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erage number of events per interval or unit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lamb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DF57-2CE6-423C-931C-793D4B1A2E4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5760" y="228600"/>
            <a:ext cx="71470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Poisson Distribution Formula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143000" y="3809880"/>
            <a:ext cx="7391520" cy="24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number of successes pe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xpected number of successes per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base of the natural logarithm system (2.71828...)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2957400" y="1981080"/>
                <a:ext cx="30783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F48F-2723-4353-BD5E-55F5E0E6F71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isson Distribution Characteristic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43000" y="1952280"/>
            <a:ext cx="1828800" cy="83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118040" y="2133720"/>
                <a:ext cx="1112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021200" y="3692520"/>
                <a:ext cx="1276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4038480" y="4471920"/>
                <a:ext cx="1384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λ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1066680" y="53341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xpected number of successes pe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4F94-CECB-42C4-9650-B6EB822C2B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221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 of Poisson Probabilit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2895480" y="1676520"/>
          <a:ext cx="589608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76520"/>
                    <a:ext cx="58960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609480" y="2895480"/>
          <a:ext cx="2057400" cy="33721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3124080" y="449568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90920" y="44956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4267080"/>
            <a:ext cx="1752840" cy="38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114800" y="5638680"/>
            <a:ext cx="2514600" cy="4597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 = 2) = .07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257800" y="51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94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aph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0880" y="2438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.5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9116-4AF9-435C-AB4D-6C346F60B9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isson Distribution Shap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2640" y="1952280"/>
            <a:ext cx="7543800" cy="1174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pe of the Poisson Distribution depends on the parame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4572000" y="3303720"/>
          <a:ext cx="4419720" cy="285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03720"/>
                    <a:ext cx="441972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228600" y="3301920"/>
          <a:ext cx="4191120" cy="281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01920"/>
                    <a:ext cx="41911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1600200" y="2971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87000"/>
          </a:bodyPr>
          <a:p>
            <a:pPr marL="279000" indent="-279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0.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248520" y="2971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87000"/>
          </a:bodyPr>
          <a:p>
            <a:pPr marL="279000" indent="-2790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3.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0634-DA8E-404C-8F94-CEFA2071B9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isson Distribution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134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Stat / Probability &amp; Prob. Distributions /  Poisson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31460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3A3C-9B83-4B61-ABC8-2774321C8F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4229280" y="2895480"/>
            <a:ext cx="4457520" cy="27813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isson Distribution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134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te dialog box entries and get outpu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581280" y="4343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562720" y="58672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P(X = 2) = 0.075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4495680"/>
            <a:ext cx="83844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324120" y="4723920"/>
            <a:ext cx="22860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3152520" cy="23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B3C5-AC41-4E06-B19A-A712E10C840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1920" y="228600"/>
            <a:ext cx="7000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iscrete Random Variab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assume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ll a die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times 4 comes u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could be 0, 1, or 2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ss a coin 5 ti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t  X  be the number of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then  X  = 0, 1, 2, 3, 4, or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2438280"/>
            <a:ext cx="68580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243828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15240" y="25970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5720" y="2584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784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8672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63000" y="25909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458200" y="2590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63000" y="27432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582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6300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2895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289548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502320" y="480060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06F7-91FB-4541-ACFE-A1C2B34221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3541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the probability of a discrete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Binomi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Poiss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Hypergeometric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10A5-D969-4960-8205-C54DFECB16E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267080" y="3048120"/>
            <a:ext cx="2590920" cy="18288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752480"/>
            <a:ext cx="793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riment:  Toss 2 Coins.    Let  X = # h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200400"/>
            <a:ext cx="1752480" cy="380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4114800"/>
            <a:ext cx="175248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4191120"/>
            <a:ext cx="1752480" cy="761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819520" y="4648320"/>
            <a:ext cx="1752480" cy="1218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22280" y="300528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3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6800" y="366228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819520"/>
            <a:ext cx="76176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iscrete Probability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05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62120" y="54864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75060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905120" y="3657600"/>
            <a:ext cx="75060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920" y="2362320"/>
            <a:ext cx="289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r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possibl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819520"/>
            <a:ext cx="2362320" cy="685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657600"/>
            <a:ext cx="236232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486400"/>
            <a:ext cx="2362320" cy="7621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9800" y="4653000"/>
            <a:ext cx="762120" cy="685800"/>
          </a:xfrm>
          <a:prstGeom prst="ellipse">
            <a:avLst/>
          </a:prstGeom>
          <a:solidFill>
            <a:srgbClr val="99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47242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289548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37339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46483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5562720"/>
            <a:ext cx="46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9fb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07480" y="2438280"/>
            <a:ext cx="411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289548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6213600"/>
            <a:ext cx="228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52992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575640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57960" y="6248520"/>
            <a:ext cx="269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   1      2         X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57240" y="2971440"/>
            <a:ext cx="3962520" cy="2181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 algn="ctr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X Valu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Probabilit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            2/4 = .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18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            1/4 = .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5222880"/>
            <a:ext cx="0" cy="990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146560"/>
            <a:ext cx="53316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25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57564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5299200"/>
            <a:ext cx="198108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197960" y="5215320"/>
            <a:ext cx="1293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304812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58BF-4031-4A95-88FD-CF0BFB07F9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920" y="5334120"/>
            <a:ext cx="4647960" cy="76176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3809880"/>
            <a:ext cx="1676520" cy="16765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screte Random Variabl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 Meas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pected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discrete distrib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Weighted Averag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ss 2 co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= # of he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expected value of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(X) = (0 x .25) + (1 x .50) + (2 x .25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 1.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3886200"/>
            <a:ext cx="2743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X          P(X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          .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          .5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          .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38098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42670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3505320"/>
            <a:ext cx="746784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52840" y="2286000"/>
                <a:ext cx="32302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A383-E0F8-4B2C-99B0-A28D273356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discret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discret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(X) = Expected value of the discrete random variable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the 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utcome of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Probability of the 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ccurrence of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screte Random Variabl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 Meas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666880" y="2057400"/>
                <a:ext cx="39592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057400" y="4038480"/>
                <a:ext cx="52578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1D9F-8A30-4B89-9356-BAC8833DD3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53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uting the Mean for Investment Retur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438280"/>
            <a:ext cx="853416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44440" y="1754280"/>
            <a:ext cx="715968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per $1,000 for two types of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2680" y="2897280"/>
            <a:ext cx="860904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conomic con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ssive Fund X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ggressive Fu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Rec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$ 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$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Stable Ec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+   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Expanding Ec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+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3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8240" y="2516040"/>
            <a:ext cx="174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2895480"/>
            <a:ext cx="46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32767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2438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5181480"/>
            <a:ext cx="7159680" cy="5050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(X) =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(-25)(.2) +(50)(.5) + (100)(.3)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5867280"/>
            <a:ext cx="7159680" cy="5050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(Y) =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(-200)(.2) +(60)(.5) + (350)(.3) =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24E0-9609-4B44-9FE3-6840105873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uting the Standard Deviation for Investment Retur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676520"/>
            <a:ext cx="8534160" cy="236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2680" y="2135160"/>
            <a:ext cx="860904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Economic con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ssive Fund X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ggressive Fu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Rec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- $ 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$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Stable Ec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+   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Expanding Ec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+ 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3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8240" y="1754280"/>
            <a:ext cx="174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91120" y="2133720"/>
            <a:ext cx="46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51460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1676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4157640"/>
                <a:ext cx="69832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25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220760" y="5389560"/>
                <a:ext cx="7123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1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1384-B462-4B17-AB83-9BDCD5A2A4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6:24:06Z</dcterms:created>
  <dc:creator>Dirk Yandell</dc:creator>
  <dc:description/>
  <dc:language>en-US</dc:language>
  <cp:lastModifiedBy>HP Pavilion</cp:lastModifiedBy>
  <cp:lastPrinted>1998-11-22T23:37:53Z</cp:lastPrinted>
  <dcterms:modified xsi:type="dcterms:W3CDTF">2004-09-18T04:31:52Z</dcterms:modified>
  <cp:revision>64</cp:revision>
  <dc:subject>Chapter 5</dc:subject>
  <dc:title>Statistics for Managers Using Microsoft Excel, 4/e</dc:title>
</cp:coreProperties>
</file>