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4E8D9-57E4-476D-8AE2-5EE9D0FA9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A7DB7-0AA9-43CB-B7F7-096FD85A9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F7E4-06BB-44E9-98A3-461B67678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A431-E3B3-4CC3-AA3B-10B828639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ABAC8-FDD9-4B07-B168-0273A8B93F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F699A-655F-42FE-AD7F-5A9F9BC2D7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09015-3F1E-4940-9CB5-256F656937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84FE1-22FD-4870-A17D-E216F081E3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4862C-2998-4C5E-AAC8-E0D5640CD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920" y="228600"/>
            <a:ext cx="7383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2D14C-EC24-4C4E-8589-70ABF9779E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934C1-71EB-4803-B749-B2AEF1DFF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B6A1-0071-461A-BABE-09C637162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FAB8A-AB80-41BC-88AF-14312E6C54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7ED32-20E4-43BC-8280-A09E136F87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D8DB3-8822-4428-B77A-FEBD528DA1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20EEF-5422-46E6-BE1C-DDDB9BB538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D2D48-69DE-40F8-B897-126B520EB0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131D-C131-45D2-9713-BC2A67B9F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4A22-F5B5-486E-8B27-B90A0A895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3341-A0DA-4E5C-9B0A-6B308971D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920" y="228600"/>
            <a:ext cx="7383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5877-9EE1-4768-AD8E-1A2BB3D49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9BCB-5F2F-4B0E-B006-D0A4190CA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DC6B-4091-461E-84AF-88081E144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DA29-3A36-4E82-8785-7D338F417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134640" y="6534000"/>
            <a:ext cx="464796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84000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8-</a:t>
            </a:r>
            <a:fld id="{A41D2BEC-044D-4756-A6EA-6F3F3C3380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52280" y="653724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8-</a:t>
            </a:r>
            <a:fld id="{0B7CDA3F-C455-4E5C-8249-9049946C2F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60020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undamentals of Hypothesis Testing: One-Sample Tes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D13BD-43C4-4685-AD24-4EFE8C33CB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vel of Significance, 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s the unlikely values of the sample statistic if the null hypothesis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jection reg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ampling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esignated by 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(level of signific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05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values are .01, .05, or 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compliment of the confidence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lected by the researcher before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the critical value of the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2E98D-D131-4892-AE1C-B0753D60D5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1523880"/>
            <a:ext cx="3733560" cy="6098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vel of Significanc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nd the Rejection Reg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5638680"/>
            <a:ext cx="911160" cy="45576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5105520"/>
            <a:ext cx="14479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5105520"/>
            <a:ext cx="14479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400" y="4991040"/>
            <a:ext cx="206712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6095880"/>
            <a:ext cx="30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6019920"/>
            <a:ext cx="30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581280"/>
            <a:ext cx="214308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5638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580560" y="525780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0" y="365760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594360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1600200"/>
            <a:ext cx="2057400" cy="7048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1752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6019920"/>
            <a:ext cx="175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r tail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51055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98520" y="1600200"/>
            <a:ext cx="32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significanc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19000" y="152388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95160" y="4114800"/>
            <a:ext cx="917640" cy="455760"/>
          </a:xfrm>
          <a:custGeom>
            <a:avLst/>
            <a:gdLst/>
            <a:ahLst/>
            <a:rect l="l" t="t" r="r" b="b"/>
            <a:pathLst>
              <a:path w="574" h="287">
                <a:moveTo>
                  <a:pt x="0" y="282"/>
                </a:moveTo>
                <a:lnTo>
                  <a:pt x="48" y="240"/>
                </a:lnTo>
                <a:lnTo>
                  <a:pt x="246" y="207"/>
                </a:lnTo>
                <a:lnTo>
                  <a:pt x="345" y="174"/>
                </a:lnTo>
                <a:lnTo>
                  <a:pt x="456" y="105"/>
                </a:lnTo>
                <a:lnTo>
                  <a:pt x="574" y="0"/>
                </a:lnTo>
                <a:lnTo>
                  <a:pt x="574" y="287"/>
                </a:lnTo>
                <a:lnTo>
                  <a:pt x="0" y="287"/>
                </a:lnTo>
                <a:lnTo>
                  <a:pt x="0" y="282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3581280"/>
            <a:ext cx="14479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3581280"/>
            <a:ext cx="14479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4572000"/>
            <a:ext cx="30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4495680"/>
            <a:ext cx="30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441972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581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324480" y="4038480"/>
            <a:ext cx="6098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3429000"/>
            <a:ext cx="68580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4952880"/>
            <a:ext cx="685800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4572000"/>
            <a:ext cx="175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er tail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3048120"/>
            <a:ext cx="167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taile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1520" y="2666880"/>
            <a:ext cx="1523880" cy="10036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ction region is sh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48520" y="2828880"/>
            <a:ext cx="761760" cy="30492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480" y="180"/>
                </a:moveTo>
                <a:lnTo>
                  <a:pt x="432" y="138"/>
                </a:lnTo>
                <a:lnTo>
                  <a:pt x="233" y="105"/>
                </a:lnTo>
                <a:lnTo>
                  <a:pt x="134" y="72"/>
                </a:lnTo>
                <a:lnTo>
                  <a:pt x="22" y="3"/>
                </a:lnTo>
                <a:lnTo>
                  <a:pt x="0" y="0"/>
                </a:lnTo>
                <a:lnTo>
                  <a:pt x="12" y="192"/>
                </a:lnTo>
                <a:lnTo>
                  <a:pt x="480" y="185"/>
                </a:lnTo>
                <a:lnTo>
                  <a:pt x="480" y="180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00680" y="2212920"/>
            <a:ext cx="690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2819520"/>
            <a:ext cx="752400" cy="303120"/>
          </a:xfrm>
          <a:custGeom>
            <a:avLst/>
            <a:gdLst/>
            <a:ahLst/>
            <a:rect l="l" t="t" r="r" b="b"/>
            <a:pathLst>
              <a:path w="474" h="191">
                <a:moveTo>
                  <a:pt x="0" y="186"/>
                </a:moveTo>
                <a:lnTo>
                  <a:pt x="48" y="144"/>
                </a:lnTo>
                <a:lnTo>
                  <a:pt x="246" y="111"/>
                </a:lnTo>
                <a:lnTo>
                  <a:pt x="345" y="78"/>
                </a:lnTo>
                <a:lnTo>
                  <a:pt x="456" y="9"/>
                </a:lnTo>
                <a:lnTo>
                  <a:pt x="474" y="0"/>
                </a:lnTo>
                <a:lnTo>
                  <a:pt x="468" y="186"/>
                </a:lnTo>
                <a:lnTo>
                  <a:pt x="0" y="191"/>
                </a:lnTo>
                <a:lnTo>
                  <a:pt x="0" y="186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2133720"/>
            <a:ext cx="1447920" cy="91440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86400" y="2133720"/>
            <a:ext cx="14479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3124080"/>
            <a:ext cx="304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3048120"/>
            <a:ext cx="30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97180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21337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94440" y="297180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192" y="96"/>
                </a:moveTo>
                <a:lnTo>
                  <a:pt x="113" y="79"/>
                </a:lnTo>
                <a:lnTo>
                  <a:pt x="96" y="0"/>
                </a:lnTo>
                <a:lnTo>
                  <a:pt x="79" y="79"/>
                </a:lnTo>
                <a:lnTo>
                  <a:pt x="0" y="96"/>
                </a:lnTo>
                <a:lnTo>
                  <a:pt x="79" y="113"/>
                </a:lnTo>
                <a:lnTo>
                  <a:pt x="96" y="192"/>
                </a:lnTo>
                <a:lnTo>
                  <a:pt x="113" y="113"/>
                </a:lnTo>
                <a:lnTo>
                  <a:pt x="192" y="96"/>
                </a:lnTo>
              </a:path>
            </a:pathLst>
          </a:custGeom>
          <a:solidFill>
            <a:srgbClr val="f8f8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213660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7480" y="2212920"/>
            <a:ext cx="690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2136600"/>
            <a:ext cx="38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266688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324480" y="2590920"/>
            <a:ext cx="5335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2209680"/>
            <a:ext cx="191448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 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22391-8B06-4ED7-93AF-F2B0031FF9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066680" y="171612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ype I Err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true null hypothesis is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of a Type I Error i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l of signific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researcher in ad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ype II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reject a false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of a Type II Error is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spcBef>
                <a:spcPts val="700"/>
              </a:spcBef>
              <a:buNone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rrors in Making Decis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1803-E003-4489-9D34-1AA37C4C38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114800" y="2438280"/>
            <a:ext cx="4572000" cy="10670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2971800"/>
            <a:ext cx="1539720" cy="2743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29200" y="2514600"/>
            <a:ext cx="24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e 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6880" y="3048120"/>
            <a:ext cx="121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erd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67240" y="388620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3886200"/>
            <a:ext cx="138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22320" y="388620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ype II 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952880"/>
            <a:ext cx="96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6000" y="4952880"/>
            <a:ext cx="189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ype I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1752480"/>
            <a:ext cx="6095880" cy="4546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Jury Trial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5721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19720" y="297828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2438280"/>
            <a:ext cx="6095880" cy="327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05360" y="304812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304812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297180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243828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472428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350532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9040" y="4952880"/>
            <a:ext cx="150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 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57200" y="2895480"/>
          <a:ext cx="1752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1752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3250-0DEE-410A-B658-E67645E17E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114800" y="2438280"/>
            <a:ext cx="4572000" cy="106704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2971800"/>
            <a:ext cx="1539720" cy="2743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utcomes and Probabilit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14600"/>
            <a:ext cx="2498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ctual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3048120"/>
            <a:ext cx="14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06920" y="353844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47600" y="3898800"/>
            <a:ext cx="104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38840" y="42591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59160" y="43959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96040" y="3733920"/>
            <a:ext cx="1383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 -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114800"/>
            <a:ext cx="37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22320" y="3733920"/>
            <a:ext cx="2063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ype II 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7600" y="4800600"/>
            <a:ext cx="104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38840" y="51609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59160" y="52959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66000" y="4800600"/>
            <a:ext cx="1892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ype I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5181480"/>
            <a:ext cx="37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1752480"/>
            <a:ext cx="6095880" cy="4546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Hypothesis Tes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5721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19720" y="297828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438280"/>
            <a:ext cx="6095880" cy="327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12560" y="3048120"/>
            <a:ext cx="1414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01800" y="3048120"/>
            <a:ext cx="129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90920" y="297180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2438280"/>
            <a:ext cx="0" cy="327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472428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7440" y="3352680"/>
            <a:ext cx="1961640" cy="11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rob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50532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75120" y="4800600"/>
            <a:ext cx="1502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 Err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 1 -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4F1A-2EB6-4C47-9F08-1BAEF909C9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371600" y="4648320"/>
            <a:ext cx="6705720" cy="152388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ype I &amp; II Error Relationship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057400"/>
            <a:ext cx="7848720" cy="41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and Type II errors can not happen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error can only occur i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I error can only occur i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ype I error probability (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      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I error probability (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77120" y="48769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6248520" y="55627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A3E7-A1F8-49E7-8E56-828341CC31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-Value Approach to Tes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24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value: Probability of obtaining a test statistic more extreme ( ≤ o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than the observed sample valu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iven H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observed level of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28B2-E76F-4B75-BF00-3F3B6CA4C9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295280" y="4267080"/>
            <a:ext cx="6172200" cy="13716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-Value Approach to Tes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Sample Statistic (e.g.    ) to Test Statistic (e.g. t statistic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-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table o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-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202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  p-value  &lt; 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,  reject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2024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  p-value 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,  do not reject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1828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63A3-CECE-43C3-9ED3-7255A7D2D0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9 Steps in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null hypothesis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alternative hypotheses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level of significance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the sample size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the appropriate test statistic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p-value for the test statistic from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the statistical decision: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 the p-val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less than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the conclusion in the context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3F53-61DC-4F7B-AE82-EC5EC0DE9B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724280" y="297180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s for the Mea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3429000"/>
            <a:ext cx="1819080" cy="60948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213372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84920" y="3505320"/>
            <a:ext cx="146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10080" y="3429000"/>
            <a:ext cx="2057400" cy="60948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20040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32004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32004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61640" y="350532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0400" y="213372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209680" y="3276360"/>
            <a:ext cx="12956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228C-0192-4B30-BBF9-C105EDEA4A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null and alternative hypotheses for applications involving a single population mean or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a decision rule for testing a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how to use the p-value approaches to test the null hypothesis for both mean and propor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119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what Type I and Type II error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8532-FD34-4381-BA3F-AE05699F7C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ing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1600200"/>
            <a:ext cx="6705720" cy="12952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3000" y="1752480"/>
            <a:ext cx="7010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est the claim that the true mean # of TV sets in U.S. homes is equal to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312408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tate the appropriate null an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 algn="ctr"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3     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3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This is a two tailed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pecify the desired 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ppose tha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.05 is chosen for thi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ppose a sample of size n = 100 i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7848720" y="5334120"/>
            <a:ext cx="118728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A368A-3987-4A37-9E66-245CFB63DB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0948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termine the appropriat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is unknown so this is a 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ppose the sample result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100,        = 2.84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test statistic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 value for n=100,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.05, t=-2 is .0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371600" y="4648320"/>
                <a:ext cx="5813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</m:num>
                      <m:den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ing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8128080" y="5334120"/>
            <a:ext cx="907920" cy="990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3505320"/>
                <a:ext cx="371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0384-5A76-4954-B5FE-9DF2DB7E2F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 flipH="1">
            <a:off x="7005600" y="3352680"/>
            <a:ext cx="84312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380988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95920" y="3809880"/>
            <a:ext cx="152388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8077320" cy="755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est statistic in the rejection reg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19400" y="335268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95720" y="2209680"/>
            <a:ext cx="2361960" cy="129564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57680" y="2209680"/>
            <a:ext cx="2210040" cy="129564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67120" y="358128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95720" y="3048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585160" y="2666880"/>
            <a:ext cx="129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57680" y="220968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62520" y="35812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76720" y="41911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-1.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7480" y="380988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14480" y="38098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3809880"/>
            <a:ext cx="2057400" cy="16578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if  p is &lt; alpha;  otherwise do not reject 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ing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8077320" y="5334120"/>
            <a:ext cx="838080" cy="914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 flipH="1">
            <a:off x="7462440" y="3048120"/>
            <a:ext cx="461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315200" y="2666880"/>
            <a:ext cx="129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.05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157880" y="380988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05600" y="38098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35812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96120" y="41911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+1.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362320" y="4876920"/>
            <a:ext cx="5410080" cy="170928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t = -2.0 &lt; -1.98, so the test statistic is in the rejec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p-value .048 is &lt; alpha .05,  w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reject the null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4800600"/>
            <a:ext cx="83844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809880" y="358092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CB7B-A1E3-409F-B9DE-D7BCD54BE7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33520" indent="-5335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 Express the conclusion in the context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nce  The p-value .048 is &lt; alpha .05, 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we hav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jected the null hypothesis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by proving the alternate hypothesis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:  There is sufficient evidence that the mean     number of TVs in U.S. homes is not equal t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ing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2120" y="47242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4a8"/>
                </a:solidFill>
                <a:latin typeface="Arial"/>
              </a:rPr>
              <a:t>If we ha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ailed to reject the null hypothesis</a:t>
            </a:r>
            <a:r>
              <a:rPr b="0" lang="en-US" sz="2400" spc="-1" strike="noStrike">
                <a:solidFill>
                  <a:srgbClr val="00e4a8"/>
                </a:solidFill>
                <a:latin typeface="Arial"/>
              </a:rPr>
              <a:t> the conclusion would have been: There is not sufficient evidence to reject the claim that the mean number of TVs in U.S. home i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E65DC-BD67-4D5F-A0AB-6F2E835569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ne Tail Tes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868040"/>
            <a:ext cx="7543800" cy="110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cases, the alternative hypothesis focuses on a particular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66680" y="3352680"/>
            <a:ext cx="1524240" cy="1430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≥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&l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4800600"/>
            <a:ext cx="1600200" cy="1028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29000" y="32004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il test since the alternative hypothesis is focused on the lower tail below the mean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29000" y="47242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p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il test since the alternative hypothesis is focused on the upper tail above the mean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19520" y="37339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1814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5D67-9354-49AE-A7C2-4C13A1C907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657600" y="419112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62720" y="4191120"/>
            <a:ext cx="152388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1905120"/>
            <a:ext cx="3352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only one critical value, since the rejection area is in only one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ower Tail Tes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373392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62520" y="2590920"/>
            <a:ext cx="236196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24480" y="2590920"/>
            <a:ext cx="221004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733920" y="3962520"/>
            <a:ext cx="510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9112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885480" y="304812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24480" y="25909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24280" y="4038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4343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724280" y="41911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41911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562720" y="1523880"/>
            <a:ext cx="1523880" cy="1430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≥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&l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62520" y="5410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ritic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800600" y="4876560"/>
            <a:ext cx="0" cy="533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019920" y="4724280"/>
                <a:ext cx="571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E3080-6D5A-4663-9BBA-88036888B8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7010280" y="4419720"/>
            <a:ext cx="99072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4419720"/>
            <a:ext cx="152424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933600" y="3962520"/>
            <a:ext cx="84276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pper Tail Tes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2819520"/>
            <a:ext cx="2362320" cy="129528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86400" y="2819520"/>
            <a:ext cx="2209680" cy="129528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419112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086600" y="35812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466760" y="3200400"/>
            <a:ext cx="530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281952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4267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34320" y="4419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41972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578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724280" y="1752480"/>
            <a:ext cx="1600200" cy="1028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1905120"/>
            <a:ext cx="3352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only one critical value, since the rejection area is in only one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95880" y="5638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ritic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934320" y="5105160"/>
            <a:ext cx="0" cy="533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90920" y="4495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257800" y="5029200"/>
                <a:ext cx="504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DD5A-A3AD-4BEF-B426-C8B749CED6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umptions of the One-Sample t Tes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081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a is randomly selec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is normally distributed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size is over 30 and the population is not highly 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8E54B-FA4D-4C12-8CDF-5D29265263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s for Propor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77320" cy="4081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ategoric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ossibl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” (possesses a certain character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” (does not possesses that character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 or proportion of the population in the “success” category is denoted by 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486C-A090-49E6-B204-8E9967D89C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por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roportion in the success category is denoted by  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oth  np  and  n(1-p)  are at least 5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roximated by a normal distribution with 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671480" y="2819520"/>
                <a:ext cx="6093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ccess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2039760" y="5649840"/>
                <a:ext cx="12589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p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724280" y="5486400"/>
                <a:ext cx="22860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754272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0F98-BF3A-4DC3-82EE-87284E599A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is a Hypothesis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ypothesis is a cla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ssumption) about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parame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population me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population propor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962520"/>
            <a:ext cx="6629400" cy="82044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The mean monthly cell phone bill of this city is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260440" cy="2244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5486400"/>
            <a:ext cx="6629400" cy="82044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The proportion of adults in this city with cell phones is  p = .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C8B5-D875-41A6-88A4-527A724D10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1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ing distribution of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pproximately normal, so the test statistic is a Z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s for Propor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85800" y="4267080"/>
                <a:ext cx="273384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6019920" y="32004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09880" y="3657600"/>
            <a:ext cx="1819440" cy="137160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fde0bd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36232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22920" y="3733920"/>
            <a:ext cx="161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p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(1-p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0800" y="3657600"/>
            <a:ext cx="1828800" cy="137160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629400" y="584532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24280" y="3429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24280" y="342900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34290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36232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ests for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1280" y="3733920"/>
            <a:ext cx="1546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p &l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(1-p) &l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1828800"/>
            <a:ext cx="5562360" cy="4419720"/>
          </a:xfrm>
          <a:custGeom>
            <a:avLst/>
            <a:gdLst/>
            <a:ahLst/>
            <a:rect l="l" t="t" r="r" b="b"/>
            <a:pathLst>
              <a:path w="3504" h="2784">
                <a:moveTo>
                  <a:pt x="3408" y="1056"/>
                </a:moveTo>
                <a:lnTo>
                  <a:pt x="2400" y="1056"/>
                </a:lnTo>
                <a:lnTo>
                  <a:pt x="2400" y="0"/>
                </a:lnTo>
                <a:lnTo>
                  <a:pt x="0" y="0"/>
                </a:lnTo>
                <a:lnTo>
                  <a:pt x="0" y="2784"/>
                </a:lnTo>
                <a:lnTo>
                  <a:pt x="3504" y="2784"/>
                </a:lnTo>
                <a:lnTo>
                  <a:pt x="3504" y="1056"/>
                </a:lnTo>
                <a:lnTo>
                  <a:pt x="3360" y="1056"/>
                </a:lnTo>
                <a:lnTo>
                  <a:pt x="3408" y="1056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410080"/>
            <a:ext cx="1828800" cy="703800"/>
          </a:xfrm>
          <a:prstGeom prst="rect">
            <a:avLst/>
          </a:prstGeom>
          <a:solidFill>
            <a:srgbClr val="f8de9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discussed in this 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E6FC-DE84-4E96-A349-91E27D84D3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quivalent form to the last slide, but in terms of the number of successes,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Z Test for Propor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 Terms of Number of Succes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11280" y="4529160"/>
                <a:ext cx="28828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6019920" y="32004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09880" y="3657600"/>
            <a:ext cx="1819440" cy="137160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fde0bd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29200" y="2362320"/>
            <a:ext cx="1981080" cy="9144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099680" y="3733920"/>
            <a:ext cx="1254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-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00800" y="3657600"/>
            <a:ext cx="1828800" cy="137160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29400" y="584532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3429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42900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15200" y="34290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0" y="2362320"/>
            <a:ext cx="274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ests for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29840" y="3733920"/>
            <a:ext cx="1190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&l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-X &l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4920" y="1828800"/>
            <a:ext cx="5562360" cy="4419720"/>
          </a:xfrm>
          <a:custGeom>
            <a:avLst/>
            <a:gdLst/>
            <a:ahLst/>
            <a:rect l="l" t="t" r="r" b="b"/>
            <a:pathLst>
              <a:path w="3504" h="2784">
                <a:moveTo>
                  <a:pt x="3408" y="1056"/>
                </a:moveTo>
                <a:lnTo>
                  <a:pt x="2400" y="1056"/>
                </a:lnTo>
                <a:lnTo>
                  <a:pt x="2400" y="0"/>
                </a:lnTo>
                <a:lnTo>
                  <a:pt x="0" y="0"/>
                </a:lnTo>
                <a:lnTo>
                  <a:pt x="0" y="2784"/>
                </a:lnTo>
                <a:lnTo>
                  <a:pt x="3504" y="2784"/>
                </a:lnTo>
                <a:lnTo>
                  <a:pt x="3504" y="1056"/>
                </a:lnTo>
                <a:lnTo>
                  <a:pt x="3360" y="1056"/>
                </a:lnTo>
                <a:lnTo>
                  <a:pt x="3408" y="1056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0" y="5410080"/>
            <a:ext cx="1828800" cy="703800"/>
          </a:xfrm>
          <a:prstGeom prst="rect">
            <a:avLst/>
          </a:prstGeom>
          <a:solidFill>
            <a:srgbClr val="f8de9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discussed in this ch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15200" y="5029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D7110-0E46-4240-85D0-FA31E116EB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:  Z Test for Propor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5029200"/>
            <a:ext cx="41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520" y="1868040"/>
            <a:ext cx="4343400" cy="422748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marketing company claims that it receives 8% responses from its mailing.  To test this claim, a random sample of 500 were surveyed  with 25 responses.  Test at th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.05 significance leve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81480" y="4267080"/>
            <a:ext cx="3124440" cy="178992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(500)(.08) =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1-p) = (500)(.92) =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305920" y="4648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2590920" cy="19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66F9-2D25-4024-9DFF-92F8A8DC7C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7315200" y="3581280"/>
            <a:ext cx="762120" cy="381240"/>
          </a:xfrm>
          <a:prstGeom prst="rect">
            <a:avLst/>
          </a:prstGeom>
          <a:solidFill>
            <a:srgbClr val="e4e4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2819520"/>
            <a:ext cx="533520" cy="38088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4267080"/>
            <a:ext cx="0" cy="13716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077320" y="2286000"/>
            <a:ext cx="838080" cy="457200"/>
          </a:xfrm>
          <a:prstGeom prst="rect">
            <a:avLst/>
          </a:prstGeom>
          <a:solidFill>
            <a:srgbClr val="e4e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6019920"/>
            <a:ext cx="838080" cy="304560"/>
          </a:xfrm>
          <a:prstGeom prst="rect">
            <a:avLst/>
          </a:prstGeom>
          <a:solidFill>
            <a:srgbClr val="e4e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5715000"/>
            <a:ext cx="609480" cy="2286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962440" y="5721480"/>
            <a:ext cx="531720" cy="22680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666880" y="3733920"/>
            <a:ext cx="914400" cy="304560"/>
          </a:xfrm>
          <a:prstGeom prst="rect">
            <a:avLst/>
          </a:prstGeom>
          <a:solidFill>
            <a:srgbClr val="fdd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19400" y="5200560"/>
            <a:ext cx="698400" cy="443160"/>
          </a:xfrm>
          <a:custGeom>
            <a:avLst/>
            <a:gdLst/>
            <a:ahLst/>
            <a:rect l="l" t="t" r="r" b="b"/>
            <a:pathLst>
              <a:path w="440" h="279">
                <a:moveTo>
                  <a:pt x="0" y="0"/>
                </a:moveTo>
                <a:lnTo>
                  <a:pt x="3" y="279"/>
                </a:lnTo>
                <a:lnTo>
                  <a:pt x="440" y="273"/>
                </a:lnTo>
                <a:lnTo>
                  <a:pt x="440" y="255"/>
                </a:lnTo>
                <a:lnTo>
                  <a:pt x="269" y="225"/>
                </a:lnTo>
                <a:lnTo>
                  <a:pt x="195" y="192"/>
                </a:lnTo>
                <a:lnTo>
                  <a:pt x="161" y="168"/>
                </a:lnTo>
                <a:lnTo>
                  <a:pt x="111" y="135"/>
                </a:lnTo>
                <a:lnTo>
                  <a:pt x="32" y="51"/>
                </a:lnTo>
              </a:path>
            </a:pathLst>
          </a:cu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Z Test for Proportion: Sol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5224320"/>
            <a:ext cx="690840" cy="409680"/>
          </a:xfrm>
          <a:custGeom>
            <a:avLst/>
            <a:gdLst/>
            <a:ahLst/>
            <a:rect l="l" t="t" r="r" b="b"/>
            <a:pathLst>
              <a:path w="435" h="258">
                <a:moveTo>
                  <a:pt x="429" y="0"/>
                </a:moveTo>
                <a:lnTo>
                  <a:pt x="435" y="258"/>
                </a:lnTo>
                <a:lnTo>
                  <a:pt x="0" y="258"/>
                </a:lnTo>
                <a:lnTo>
                  <a:pt x="0" y="240"/>
                </a:lnTo>
                <a:lnTo>
                  <a:pt x="15" y="236"/>
                </a:lnTo>
                <a:lnTo>
                  <a:pt x="92" y="230"/>
                </a:lnTo>
                <a:lnTo>
                  <a:pt x="224" y="186"/>
                </a:lnTo>
                <a:lnTo>
                  <a:pt x="260" y="165"/>
                </a:lnTo>
                <a:lnTo>
                  <a:pt x="308" y="137"/>
                </a:lnTo>
                <a:lnTo>
                  <a:pt x="362" y="84"/>
                </a:lnTo>
              </a:path>
            </a:pathLst>
          </a:cu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3848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 .05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 = 500,   p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= .0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657600"/>
            <a:ext cx="42004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value for -2.27 is .01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1676520"/>
            <a:ext cx="2057400" cy="16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 = .08  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4920" y="3657600"/>
            <a:ext cx="335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Values: ± 1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67200" y="1523880"/>
            <a:ext cx="305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Stat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5029200"/>
            <a:ext cx="274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066680" y="4267080"/>
            <a:ext cx="1389240" cy="1338480"/>
          </a:xfrm>
          <a:custGeom>
            <a:avLst/>
            <a:gdLst/>
            <a:ahLst/>
            <a:rect l="l" t="t" r="r" b="b"/>
            <a:pathLst>
              <a:path w="875" h="843">
                <a:moveTo>
                  <a:pt x="0" y="842"/>
                </a:moveTo>
                <a:lnTo>
                  <a:pt x="92" y="831"/>
                </a:lnTo>
                <a:lnTo>
                  <a:pt x="137" y="822"/>
                </a:lnTo>
                <a:lnTo>
                  <a:pt x="183" y="808"/>
                </a:lnTo>
                <a:lnTo>
                  <a:pt x="229" y="789"/>
                </a:lnTo>
                <a:lnTo>
                  <a:pt x="276" y="763"/>
                </a:lnTo>
                <a:lnTo>
                  <a:pt x="321" y="729"/>
                </a:lnTo>
                <a:lnTo>
                  <a:pt x="414" y="631"/>
                </a:lnTo>
                <a:lnTo>
                  <a:pt x="506" y="493"/>
                </a:lnTo>
                <a:lnTo>
                  <a:pt x="598" y="329"/>
                </a:lnTo>
                <a:lnTo>
                  <a:pt x="643" y="245"/>
                </a:lnTo>
                <a:lnTo>
                  <a:pt x="690" y="165"/>
                </a:lnTo>
                <a:lnTo>
                  <a:pt x="735" y="98"/>
                </a:lnTo>
                <a:lnTo>
                  <a:pt x="782" y="45"/>
                </a:lnTo>
                <a:lnTo>
                  <a:pt x="827" y="11"/>
                </a:lnTo>
                <a:lnTo>
                  <a:pt x="874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4267080"/>
            <a:ext cx="1389240" cy="1338480"/>
          </a:xfrm>
          <a:custGeom>
            <a:avLst/>
            <a:gdLst/>
            <a:ahLst/>
            <a:rect l="l" t="t" r="r" b="b"/>
            <a:pathLst>
              <a:path w="875" h="843">
                <a:moveTo>
                  <a:pt x="874" y="842"/>
                </a:moveTo>
                <a:lnTo>
                  <a:pt x="782" y="831"/>
                </a:lnTo>
                <a:lnTo>
                  <a:pt x="735" y="822"/>
                </a:lnTo>
                <a:lnTo>
                  <a:pt x="690" y="808"/>
                </a:lnTo>
                <a:lnTo>
                  <a:pt x="643" y="789"/>
                </a:lnTo>
                <a:lnTo>
                  <a:pt x="598" y="763"/>
                </a:lnTo>
                <a:lnTo>
                  <a:pt x="551" y="729"/>
                </a:lnTo>
                <a:lnTo>
                  <a:pt x="459" y="631"/>
                </a:lnTo>
                <a:lnTo>
                  <a:pt x="368" y="493"/>
                </a:lnTo>
                <a:lnTo>
                  <a:pt x="276" y="329"/>
                </a:lnTo>
                <a:lnTo>
                  <a:pt x="230" y="245"/>
                </a:lnTo>
                <a:lnTo>
                  <a:pt x="183" y="165"/>
                </a:lnTo>
                <a:lnTo>
                  <a:pt x="137" y="98"/>
                </a:lnTo>
                <a:lnTo>
                  <a:pt x="92" y="45"/>
                </a:lnTo>
                <a:lnTo>
                  <a:pt x="45" y="1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124080" y="4495320"/>
            <a:ext cx="0" cy="11430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733920" y="5486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0" y="5638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4572000"/>
            <a:ext cx="83844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838080" y="4572000"/>
            <a:ext cx="9144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4191120"/>
            <a:ext cx="106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48120" y="4191120"/>
            <a:ext cx="106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29000" y="49528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2120" y="49528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371600" y="525780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897640" y="5638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920" y="5943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.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76920" y="4800600"/>
            <a:ext cx="3429000" cy="155196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ufficient evidence to reject the company’s claim of 8% response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276720" y="5334120"/>
            <a:ext cx="3045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71600" y="5638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567240" y="2071800"/>
                <a:ext cx="541800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00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914400" y="56386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26040" y="5638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752480" y="4495320"/>
            <a:ext cx="0" cy="11430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C6E4-5031-43C0-BF2F-DEA6C867AF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PHSt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4619520" cy="39625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3886200" y="3809880"/>
            <a:ext cx="1981080" cy="3812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86200" y="4419720"/>
            <a:ext cx="1981080" cy="22860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715000" y="41148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715000" y="45720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781680" y="3962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733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1FDF-3F5F-4BA1-AE76-4F74E732DD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e PHStat Outpu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2629080" cy="42955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3733920" y="2057400"/>
            <a:ext cx="4038480" cy="39290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52280" y="1752480"/>
            <a:ext cx="2438640" cy="5335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934320" y="2819520"/>
            <a:ext cx="990360" cy="12952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324480" y="5105520"/>
            <a:ext cx="1447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8120" y="3886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3333cc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8487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6960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24280" y="5638680"/>
            <a:ext cx="221004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238880" y="4495680"/>
            <a:ext cx="5335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0161-28A6-4141-85BB-16E2A1A5FE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920" y="38088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tential Pitfalls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thical Considera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7720" y="179208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andomly collected data to reduce selection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human subjects without informed 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level of significance,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for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mploy “data snooping” to choose between one-tail and two-tail test, or to determine the level of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practice “data cleansing” to hide observations that do not support a stated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all pertin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C6FA-E668-4074-A344-061A1D9BCC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hypothesis testing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 critical value and p–value  approaches to hypothesi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type 1 and Type2 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ed  two tailed  t  test for the mean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know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ed  Z  test for the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one-tail and two-tail t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pitfalls and ethical issu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8846-AE19-42F2-A44C-DE42CA5823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nswer Sheet for All Problem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7720" y="19447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Alternat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p-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Decision (reject or do not rej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34AE-F6DB-4FD3-A0AE-2D99B3F0E3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2362320"/>
            <a:ext cx="7239240" cy="114300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e assumption to be tested</a:t>
            </a:r>
            <a:br>
              <a:rPr sz="2800"/>
            </a:br>
            <a:br>
              <a:rPr sz="20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 average number of TV sets in U.S. Homes is equal to three  (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361"/>
              </a:spcBef>
              <a:spcAft>
                <a:spcPts val="675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lways about a population parameter,         not about a sample statisti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5257800"/>
            <a:ext cx="1371600" cy="99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150920" y="228600"/>
            <a:ext cx="68500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ull Hypothesis, H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876920"/>
            <a:ext cx="198108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4876920"/>
            <a:ext cx="198108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172200" y="2895480"/>
                <a:ext cx="15559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μ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286000" y="5257800"/>
                <a:ext cx="15559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:μ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410080" y="5257800"/>
                <a:ext cx="16178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848720" y="4572000"/>
            <a:ext cx="90792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DCB4-D6D2-4AA8-AD85-830F8EDDE4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ull Hypothesis, H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s with the assumption that the null hypothesis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the notion of innocent unt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en gui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the status q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contains “=” , “≤” or “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or may not be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543800" y="2514600"/>
          <a:ext cx="12952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514600"/>
                    <a:ext cx="1295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592040" y="1224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412B-8A7C-4FFD-8782-AF3D5E1EFF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Alternative Hypothesis, H</a:t>
            </a:r>
            <a:r>
              <a:rPr b="0" lang="en-US" sz="40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opposite of the null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The average number of TV sets in U.S. homes is not equal to 3  (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the status q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contains the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“=” , “≤” or “</a:t>
            </a:r>
            <a:r>
              <a:rPr b="1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enerally the hypothesis that is believed (or needs to be supported) by the resear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D167-DCA8-40D5-96D5-BEF24A83AC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ssume the null hypothesis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ull hypothes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 rej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have proven the alternat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ull hypothesis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 rej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have proven nothing as the sample size may have been to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0" y="4724280"/>
          <a:ext cx="1752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724280"/>
                    <a:ext cx="1752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B621-FEDD-4208-9174-13736D1865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4952880"/>
            <a:ext cx="2819160" cy="1524240"/>
          </a:xfrm>
          <a:prstGeom prst="roundRect">
            <a:avLst>
              <a:gd name="adj" fmla="val 16667"/>
            </a:avLst>
          </a:prstGeom>
          <a:solidFill>
            <a:srgbClr val="fde0bd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1280" y="3200400"/>
            <a:ext cx="175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" y="1927080"/>
            <a:ext cx="165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aim: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9720" y="2293920"/>
            <a:ext cx="173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800" y="2658960"/>
            <a:ext cx="243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an age is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0440" y="3025800"/>
            <a:ext cx="268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(Null Hypoth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733920"/>
            <a:ext cx="677880" cy="685800"/>
          </a:xfrm>
          <a:custGeom>
            <a:avLst/>
            <a:gdLst/>
            <a:ahLst/>
            <a:rect l="l" t="t" r="r" b="b"/>
            <a:pathLst>
              <a:path w="427" h="444">
                <a:moveTo>
                  <a:pt x="107" y="0"/>
                </a:moveTo>
                <a:lnTo>
                  <a:pt x="320" y="0"/>
                </a:lnTo>
                <a:lnTo>
                  <a:pt x="320" y="335"/>
                </a:lnTo>
                <a:lnTo>
                  <a:pt x="426" y="335"/>
                </a:lnTo>
                <a:lnTo>
                  <a:pt x="214" y="443"/>
                </a:lnTo>
                <a:lnTo>
                  <a:pt x="0" y="335"/>
                </a:lnTo>
                <a:lnTo>
                  <a:pt x="107" y="335"/>
                </a:lnTo>
                <a:lnTo>
                  <a:pt x="107" y="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5105520"/>
            <a:ext cx="914400" cy="687240"/>
          </a:xfrm>
          <a:custGeom>
            <a:avLst/>
            <a:gdLst/>
            <a:ahLst/>
            <a:rect l="l" t="t" r="r" b="b"/>
            <a:pathLst>
              <a:path w="576" h="433">
                <a:moveTo>
                  <a:pt x="575" y="324"/>
                </a:moveTo>
                <a:lnTo>
                  <a:pt x="107" y="324"/>
                </a:lnTo>
                <a:lnTo>
                  <a:pt x="107" y="432"/>
                </a:lnTo>
                <a:lnTo>
                  <a:pt x="0" y="215"/>
                </a:lnTo>
                <a:lnTo>
                  <a:pt x="107" y="0"/>
                </a:lnTo>
                <a:lnTo>
                  <a:pt x="107" y="107"/>
                </a:lnTo>
                <a:lnTo>
                  <a:pt x="575" y="10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2160" y="5562720"/>
            <a:ext cx="138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4876920"/>
            <a:ext cx="533520" cy="610920"/>
          </a:xfrm>
          <a:custGeom>
            <a:avLst/>
            <a:gdLst/>
            <a:ahLst/>
            <a:rect l="l" t="t" r="r" b="b"/>
            <a:pathLst>
              <a:path w="336" h="385">
                <a:moveTo>
                  <a:pt x="335" y="288"/>
                </a:moveTo>
                <a:lnTo>
                  <a:pt x="63" y="288"/>
                </a:lnTo>
                <a:lnTo>
                  <a:pt x="63" y="384"/>
                </a:lnTo>
                <a:lnTo>
                  <a:pt x="0" y="191"/>
                </a:lnTo>
                <a:lnTo>
                  <a:pt x="63" y="0"/>
                </a:lnTo>
                <a:lnTo>
                  <a:pt x="63" y="95"/>
                </a:lnTo>
                <a:lnTo>
                  <a:pt x="335" y="95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65560" y="2324160"/>
            <a:ext cx="933480" cy="677880"/>
          </a:xfrm>
          <a:custGeom>
            <a:avLst/>
            <a:gdLst/>
            <a:ahLst/>
            <a:rect l="l" t="t" r="r" b="b"/>
            <a:pathLst>
              <a:path w="588" h="427">
                <a:moveTo>
                  <a:pt x="0" y="320"/>
                </a:moveTo>
                <a:lnTo>
                  <a:pt x="0" y="106"/>
                </a:lnTo>
                <a:lnTo>
                  <a:pt x="479" y="106"/>
                </a:lnTo>
                <a:lnTo>
                  <a:pt x="479" y="0"/>
                </a:lnTo>
                <a:lnTo>
                  <a:pt x="587" y="214"/>
                </a:lnTo>
                <a:lnTo>
                  <a:pt x="479" y="426"/>
                </a:lnTo>
                <a:lnTo>
                  <a:pt x="479" y="320"/>
                </a:lnTo>
                <a:lnTo>
                  <a:pt x="0" y="32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92560" y="2324160"/>
            <a:ext cx="915840" cy="687240"/>
          </a:xfrm>
          <a:custGeom>
            <a:avLst/>
            <a:gdLst/>
            <a:ahLst/>
            <a:rect l="l" t="t" r="r" b="b"/>
            <a:pathLst>
              <a:path w="577" h="433">
                <a:moveTo>
                  <a:pt x="0" y="107"/>
                </a:moveTo>
                <a:lnTo>
                  <a:pt x="467" y="107"/>
                </a:lnTo>
                <a:lnTo>
                  <a:pt x="467" y="0"/>
                </a:lnTo>
                <a:lnTo>
                  <a:pt x="576" y="217"/>
                </a:lnTo>
                <a:lnTo>
                  <a:pt x="467" y="432"/>
                </a:lnTo>
                <a:lnTo>
                  <a:pt x="467" y="324"/>
                </a:lnTo>
                <a:lnTo>
                  <a:pt x="0" y="32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16080" y="46782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59040" y="478008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3040" y="4952880"/>
            <a:ext cx="1774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1600" y="5638680"/>
            <a:ext cx="1980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20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X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832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832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79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688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688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735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976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976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023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116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116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163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6000" y="2211480"/>
            <a:ext cx="365040" cy="903240"/>
          </a:xfrm>
          <a:custGeom>
            <a:avLst/>
            <a:gdLst/>
            <a:ahLst/>
            <a:rect l="l" t="t" r="r" b="b"/>
            <a:pathLst>
              <a:path w="230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6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9" y="320"/>
                </a:lnTo>
                <a:lnTo>
                  <a:pt x="229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8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8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26000" y="2405160"/>
            <a:ext cx="365040" cy="709560"/>
          </a:xfrm>
          <a:custGeom>
            <a:avLst/>
            <a:gdLst/>
            <a:ahLst/>
            <a:rect l="l" t="t" r="r" b="b"/>
            <a:pathLst>
              <a:path w="230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6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307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4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4" y="68"/>
                </a:lnTo>
                <a:lnTo>
                  <a:pt x="0" y="49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04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90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90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04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51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548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8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548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59560" y="221148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0" y="2211480"/>
            <a:ext cx="363600" cy="903240"/>
          </a:xfrm>
          <a:custGeom>
            <a:avLst/>
            <a:gdLst/>
            <a:ahLst/>
            <a:rect l="l" t="t" r="r" b="b"/>
            <a:pathLst>
              <a:path w="229" h="569">
                <a:moveTo>
                  <a:pt x="127" y="539"/>
                </a:moveTo>
                <a:lnTo>
                  <a:pt x="130" y="552"/>
                </a:lnTo>
                <a:lnTo>
                  <a:pt x="139" y="564"/>
                </a:lnTo>
                <a:lnTo>
                  <a:pt x="153" y="568"/>
                </a:lnTo>
                <a:lnTo>
                  <a:pt x="157" y="568"/>
                </a:lnTo>
                <a:lnTo>
                  <a:pt x="171" y="564"/>
                </a:lnTo>
                <a:lnTo>
                  <a:pt x="181" y="552"/>
                </a:lnTo>
                <a:lnTo>
                  <a:pt x="184" y="539"/>
                </a:lnTo>
                <a:lnTo>
                  <a:pt x="184" y="331"/>
                </a:lnTo>
                <a:lnTo>
                  <a:pt x="184" y="168"/>
                </a:lnTo>
                <a:lnTo>
                  <a:pt x="185" y="163"/>
                </a:lnTo>
                <a:lnTo>
                  <a:pt x="189" y="161"/>
                </a:lnTo>
                <a:lnTo>
                  <a:pt x="193" y="163"/>
                </a:lnTo>
                <a:lnTo>
                  <a:pt x="195" y="168"/>
                </a:lnTo>
                <a:lnTo>
                  <a:pt x="195" y="320"/>
                </a:lnTo>
                <a:lnTo>
                  <a:pt x="197" y="327"/>
                </a:lnTo>
                <a:lnTo>
                  <a:pt x="203" y="334"/>
                </a:lnTo>
                <a:lnTo>
                  <a:pt x="212" y="336"/>
                </a:lnTo>
                <a:lnTo>
                  <a:pt x="221" y="334"/>
                </a:lnTo>
                <a:lnTo>
                  <a:pt x="227" y="327"/>
                </a:lnTo>
                <a:lnTo>
                  <a:pt x="228" y="320"/>
                </a:lnTo>
                <a:lnTo>
                  <a:pt x="228" y="140"/>
                </a:lnTo>
                <a:lnTo>
                  <a:pt x="227" y="130"/>
                </a:lnTo>
                <a:lnTo>
                  <a:pt x="221" y="122"/>
                </a:lnTo>
                <a:lnTo>
                  <a:pt x="212" y="120"/>
                </a:lnTo>
                <a:lnTo>
                  <a:pt x="17" y="120"/>
                </a:lnTo>
                <a:lnTo>
                  <a:pt x="8" y="122"/>
                </a:lnTo>
                <a:lnTo>
                  <a:pt x="2" y="130"/>
                </a:lnTo>
                <a:lnTo>
                  <a:pt x="0" y="140"/>
                </a:lnTo>
                <a:lnTo>
                  <a:pt x="0" y="320"/>
                </a:lnTo>
                <a:lnTo>
                  <a:pt x="2" y="327"/>
                </a:lnTo>
                <a:lnTo>
                  <a:pt x="8" y="334"/>
                </a:lnTo>
                <a:lnTo>
                  <a:pt x="17" y="336"/>
                </a:lnTo>
                <a:lnTo>
                  <a:pt x="26" y="334"/>
                </a:lnTo>
                <a:lnTo>
                  <a:pt x="32" y="327"/>
                </a:lnTo>
                <a:lnTo>
                  <a:pt x="34" y="320"/>
                </a:lnTo>
                <a:lnTo>
                  <a:pt x="34" y="168"/>
                </a:lnTo>
                <a:lnTo>
                  <a:pt x="36" y="163"/>
                </a:lnTo>
                <a:lnTo>
                  <a:pt x="42" y="161"/>
                </a:lnTo>
                <a:lnTo>
                  <a:pt x="44" y="163"/>
                </a:lnTo>
                <a:lnTo>
                  <a:pt x="46" y="168"/>
                </a:lnTo>
                <a:lnTo>
                  <a:pt x="46" y="331"/>
                </a:lnTo>
                <a:lnTo>
                  <a:pt x="46" y="539"/>
                </a:lnTo>
                <a:lnTo>
                  <a:pt x="48" y="552"/>
                </a:lnTo>
                <a:lnTo>
                  <a:pt x="58" y="564"/>
                </a:lnTo>
                <a:lnTo>
                  <a:pt x="71" y="568"/>
                </a:lnTo>
                <a:lnTo>
                  <a:pt x="78" y="568"/>
                </a:lnTo>
                <a:lnTo>
                  <a:pt x="91" y="564"/>
                </a:lnTo>
                <a:lnTo>
                  <a:pt x="100" y="552"/>
                </a:lnTo>
                <a:lnTo>
                  <a:pt x="104" y="539"/>
                </a:lnTo>
                <a:lnTo>
                  <a:pt x="104" y="342"/>
                </a:lnTo>
                <a:lnTo>
                  <a:pt x="106" y="334"/>
                </a:lnTo>
                <a:lnTo>
                  <a:pt x="115" y="331"/>
                </a:lnTo>
                <a:lnTo>
                  <a:pt x="123" y="334"/>
                </a:lnTo>
                <a:lnTo>
                  <a:pt x="127" y="342"/>
                </a:lnTo>
                <a:lnTo>
                  <a:pt x="127" y="539"/>
                </a:lnTo>
                <a:lnTo>
                  <a:pt x="64" y="52"/>
                </a:lnTo>
                <a:lnTo>
                  <a:pt x="67" y="34"/>
                </a:lnTo>
                <a:lnTo>
                  <a:pt x="76" y="19"/>
                </a:lnTo>
                <a:lnTo>
                  <a:pt x="89" y="7"/>
                </a:lnTo>
                <a:lnTo>
                  <a:pt x="106" y="0"/>
                </a:lnTo>
                <a:lnTo>
                  <a:pt x="123" y="0"/>
                </a:lnTo>
                <a:lnTo>
                  <a:pt x="139" y="7"/>
                </a:lnTo>
                <a:lnTo>
                  <a:pt x="155" y="19"/>
                </a:lnTo>
                <a:lnTo>
                  <a:pt x="161" y="34"/>
                </a:lnTo>
                <a:lnTo>
                  <a:pt x="165" y="52"/>
                </a:lnTo>
                <a:lnTo>
                  <a:pt x="161" y="72"/>
                </a:lnTo>
                <a:lnTo>
                  <a:pt x="155" y="89"/>
                </a:lnTo>
                <a:lnTo>
                  <a:pt x="139" y="100"/>
                </a:lnTo>
                <a:lnTo>
                  <a:pt x="123" y="106"/>
                </a:lnTo>
                <a:lnTo>
                  <a:pt x="106" y="106"/>
                </a:lnTo>
                <a:lnTo>
                  <a:pt x="89" y="100"/>
                </a:lnTo>
                <a:lnTo>
                  <a:pt x="76" y="89"/>
                </a:lnTo>
                <a:lnTo>
                  <a:pt x="67" y="72"/>
                </a:lnTo>
                <a:lnTo>
                  <a:pt x="64" y="52"/>
                </a:lnTo>
                <a:lnTo>
                  <a:pt x="127" y="539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2405160"/>
            <a:ext cx="36360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7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2211480"/>
            <a:ext cx="147600" cy="15084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4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4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4876920"/>
            <a:ext cx="365040" cy="707760"/>
          </a:xfrm>
          <a:custGeom>
            <a:avLst/>
            <a:gdLst/>
            <a:ahLst/>
            <a:rect l="l" t="t" r="r" b="b"/>
            <a:pathLst>
              <a:path w="230" h="446">
                <a:moveTo>
                  <a:pt x="127" y="417"/>
                </a:moveTo>
                <a:lnTo>
                  <a:pt x="129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4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676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4" y="32"/>
                </a:lnTo>
                <a:lnTo>
                  <a:pt x="10" y="19"/>
                </a:lnTo>
                <a:lnTo>
                  <a:pt x="25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5" y="94"/>
                </a:lnTo>
                <a:lnTo>
                  <a:pt x="10" y="84"/>
                </a:lnTo>
                <a:lnTo>
                  <a:pt x="4" y="68"/>
                </a:lnTo>
                <a:lnTo>
                  <a:pt x="0" y="50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4876920"/>
            <a:ext cx="365040" cy="707760"/>
          </a:xfrm>
          <a:custGeom>
            <a:avLst/>
            <a:gdLst/>
            <a:ahLst/>
            <a:rect l="l" t="t" r="r" b="b"/>
            <a:pathLst>
              <a:path w="230" h="446">
                <a:moveTo>
                  <a:pt x="127" y="417"/>
                </a:moveTo>
                <a:lnTo>
                  <a:pt x="129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3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248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3" y="32"/>
                </a:lnTo>
                <a:lnTo>
                  <a:pt x="10" y="19"/>
                </a:lnTo>
                <a:lnTo>
                  <a:pt x="25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5" y="94"/>
                </a:lnTo>
                <a:lnTo>
                  <a:pt x="10" y="84"/>
                </a:lnTo>
                <a:lnTo>
                  <a:pt x="3" y="68"/>
                </a:lnTo>
                <a:lnTo>
                  <a:pt x="0" y="50"/>
                </a:lnTo>
              </a:path>
            </a:pathLst>
          </a:custGeom>
          <a:solidFill>
            <a:srgbClr val="00a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4876920"/>
            <a:ext cx="365040" cy="707760"/>
          </a:xfrm>
          <a:custGeom>
            <a:avLst/>
            <a:gdLst/>
            <a:ahLst/>
            <a:rect l="l" t="t" r="r" b="b"/>
            <a:pathLst>
              <a:path w="230" h="446">
                <a:moveTo>
                  <a:pt x="127" y="417"/>
                </a:moveTo>
                <a:lnTo>
                  <a:pt x="129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9" y="198"/>
                </a:lnTo>
                <a:lnTo>
                  <a:pt x="229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3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820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3" y="32"/>
                </a:lnTo>
                <a:lnTo>
                  <a:pt x="10" y="19"/>
                </a:lnTo>
                <a:lnTo>
                  <a:pt x="25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5" y="94"/>
                </a:lnTo>
                <a:lnTo>
                  <a:pt x="10" y="84"/>
                </a:lnTo>
                <a:lnTo>
                  <a:pt x="3" y="68"/>
                </a:lnTo>
                <a:lnTo>
                  <a:pt x="0" y="50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34520" y="4876920"/>
            <a:ext cx="363240" cy="707760"/>
          </a:xfrm>
          <a:custGeom>
            <a:avLst/>
            <a:gdLst/>
            <a:ahLst/>
            <a:rect l="l" t="t" r="r" b="b"/>
            <a:pathLst>
              <a:path w="229" h="446">
                <a:moveTo>
                  <a:pt x="127" y="417"/>
                </a:moveTo>
                <a:lnTo>
                  <a:pt x="128" y="430"/>
                </a:lnTo>
                <a:lnTo>
                  <a:pt x="137" y="442"/>
                </a:lnTo>
                <a:lnTo>
                  <a:pt x="151" y="445"/>
                </a:lnTo>
                <a:lnTo>
                  <a:pt x="158" y="445"/>
                </a:lnTo>
                <a:lnTo>
                  <a:pt x="171" y="442"/>
                </a:lnTo>
                <a:lnTo>
                  <a:pt x="181" y="430"/>
                </a:lnTo>
                <a:lnTo>
                  <a:pt x="184" y="417"/>
                </a:lnTo>
                <a:lnTo>
                  <a:pt x="184" y="209"/>
                </a:lnTo>
                <a:lnTo>
                  <a:pt x="184" y="47"/>
                </a:lnTo>
                <a:lnTo>
                  <a:pt x="184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19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19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0" y="40"/>
                </a:lnTo>
                <a:lnTo>
                  <a:pt x="44" y="42"/>
                </a:lnTo>
                <a:lnTo>
                  <a:pt x="44" y="47"/>
                </a:lnTo>
                <a:lnTo>
                  <a:pt x="44" y="209"/>
                </a:lnTo>
                <a:lnTo>
                  <a:pt x="44" y="417"/>
                </a:lnTo>
                <a:lnTo>
                  <a:pt x="48" y="430"/>
                </a:lnTo>
                <a:lnTo>
                  <a:pt x="58" y="442"/>
                </a:lnTo>
                <a:lnTo>
                  <a:pt x="71" y="445"/>
                </a:lnTo>
                <a:lnTo>
                  <a:pt x="78" y="445"/>
                </a:lnTo>
                <a:lnTo>
                  <a:pt x="91" y="442"/>
                </a:lnTo>
                <a:lnTo>
                  <a:pt x="100" y="430"/>
                </a:lnTo>
                <a:lnTo>
                  <a:pt x="102" y="417"/>
                </a:lnTo>
                <a:lnTo>
                  <a:pt x="102" y="221"/>
                </a:lnTo>
                <a:lnTo>
                  <a:pt x="106" y="213"/>
                </a:lnTo>
                <a:lnTo>
                  <a:pt x="113" y="209"/>
                </a:lnTo>
                <a:lnTo>
                  <a:pt x="123" y="213"/>
                </a:lnTo>
                <a:lnTo>
                  <a:pt x="127" y="221"/>
                </a:lnTo>
                <a:lnTo>
                  <a:pt x="127" y="417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639280" y="4681440"/>
            <a:ext cx="155520" cy="160560"/>
          </a:xfrm>
          <a:custGeom>
            <a:avLst/>
            <a:gdLst/>
            <a:ahLst/>
            <a:rect l="l" t="t" r="r" b="b"/>
            <a:pathLst>
              <a:path w="98" h="101">
                <a:moveTo>
                  <a:pt x="0" y="50"/>
                </a:moveTo>
                <a:lnTo>
                  <a:pt x="3" y="32"/>
                </a:lnTo>
                <a:lnTo>
                  <a:pt x="10" y="19"/>
                </a:lnTo>
                <a:lnTo>
                  <a:pt x="24" y="7"/>
                </a:lnTo>
                <a:lnTo>
                  <a:pt x="41" y="0"/>
                </a:lnTo>
                <a:lnTo>
                  <a:pt x="56" y="0"/>
                </a:lnTo>
                <a:lnTo>
                  <a:pt x="72" y="7"/>
                </a:lnTo>
                <a:lnTo>
                  <a:pt x="85" y="19"/>
                </a:lnTo>
                <a:lnTo>
                  <a:pt x="93" y="32"/>
                </a:lnTo>
                <a:lnTo>
                  <a:pt x="97" y="50"/>
                </a:lnTo>
                <a:lnTo>
                  <a:pt x="93" y="68"/>
                </a:lnTo>
                <a:lnTo>
                  <a:pt x="85" y="84"/>
                </a:lnTo>
                <a:lnTo>
                  <a:pt x="72" y="94"/>
                </a:lnTo>
                <a:lnTo>
                  <a:pt x="56" y="100"/>
                </a:lnTo>
                <a:lnTo>
                  <a:pt x="41" y="100"/>
                </a:lnTo>
                <a:lnTo>
                  <a:pt x="24" y="94"/>
                </a:lnTo>
                <a:lnTo>
                  <a:pt x="10" y="84"/>
                </a:lnTo>
                <a:lnTo>
                  <a:pt x="3" y="68"/>
                </a:lnTo>
                <a:lnTo>
                  <a:pt x="0" y="50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638680"/>
            <a:ext cx="126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1880" y="593568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ull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240" y="3919680"/>
            <a:ext cx="27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77560" y="4384800"/>
            <a:ext cx="45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120" y="4343400"/>
            <a:ext cx="2820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ikely if  </a:t>
            </a:r>
            <a:r>
              <a:rPr b="0" lang="el-GR" sz="32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 = 5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88480" y="434340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5640" y="4384800"/>
            <a:ext cx="33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380880"/>
            <a:ext cx="7248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ypothesis Test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5029200"/>
            <a:ext cx="22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 likel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37339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w select a random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4876920"/>
            <a:ext cx="36324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10480" y="46832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4876920"/>
            <a:ext cx="363240" cy="709560"/>
          </a:xfrm>
          <a:custGeom>
            <a:avLst/>
            <a:gdLst/>
            <a:ahLst/>
            <a:rect l="l" t="t" r="r" b="b"/>
            <a:pathLst>
              <a:path w="229" h="447">
                <a:moveTo>
                  <a:pt x="127" y="418"/>
                </a:moveTo>
                <a:lnTo>
                  <a:pt x="130" y="430"/>
                </a:lnTo>
                <a:lnTo>
                  <a:pt x="139" y="442"/>
                </a:lnTo>
                <a:lnTo>
                  <a:pt x="153" y="446"/>
                </a:lnTo>
                <a:lnTo>
                  <a:pt x="158" y="446"/>
                </a:lnTo>
                <a:lnTo>
                  <a:pt x="171" y="442"/>
                </a:lnTo>
                <a:lnTo>
                  <a:pt x="181" y="430"/>
                </a:lnTo>
                <a:lnTo>
                  <a:pt x="184" y="418"/>
                </a:lnTo>
                <a:lnTo>
                  <a:pt x="184" y="210"/>
                </a:lnTo>
                <a:lnTo>
                  <a:pt x="184" y="47"/>
                </a:lnTo>
                <a:lnTo>
                  <a:pt x="185" y="42"/>
                </a:lnTo>
                <a:lnTo>
                  <a:pt x="189" y="40"/>
                </a:lnTo>
                <a:lnTo>
                  <a:pt x="193" y="42"/>
                </a:lnTo>
                <a:lnTo>
                  <a:pt x="195" y="47"/>
                </a:lnTo>
                <a:lnTo>
                  <a:pt x="195" y="198"/>
                </a:lnTo>
                <a:lnTo>
                  <a:pt x="197" y="206"/>
                </a:lnTo>
                <a:lnTo>
                  <a:pt x="203" y="213"/>
                </a:lnTo>
                <a:lnTo>
                  <a:pt x="212" y="215"/>
                </a:lnTo>
                <a:lnTo>
                  <a:pt x="221" y="213"/>
                </a:lnTo>
                <a:lnTo>
                  <a:pt x="227" y="206"/>
                </a:lnTo>
                <a:lnTo>
                  <a:pt x="228" y="198"/>
                </a:lnTo>
                <a:lnTo>
                  <a:pt x="228" y="20"/>
                </a:lnTo>
                <a:lnTo>
                  <a:pt x="227" y="10"/>
                </a:lnTo>
                <a:lnTo>
                  <a:pt x="221" y="2"/>
                </a:lnTo>
                <a:lnTo>
                  <a:pt x="212" y="0"/>
                </a:lnTo>
                <a:lnTo>
                  <a:pt x="17" y="0"/>
                </a:lnTo>
                <a:lnTo>
                  <a:pt x="8" y="2"/>
                </a:lnTo>
                <a:lnTo>
                  <a:pt x="2" y="10"/>
                </a:lnTo>
                <a:lnTo>
                  <a:pt x="0" y="20"/>
                </a:lnTo>
                <a:lnTo>
                  <a:pt x="0" y="198"/>
                </a:lnTo>
                <a:lnTo>
                  <a:pt x="2" y="206"/>
                </a:lnTo>
                <a:lnTo>
                  <a:pt x="8" y="213"/>
                </a:lnTo>
                <a:lnTo>
                  <a:pt x="17" y="215"/>
                </a:lnTo>
                <a:lnTo>
                  <a:pt x="26" y="213"/>
                </a:lnTo>
                <a:lnTo>
                  <a:pt x="32" y="206"/>
                </a:lnTo>
                <a:lnTo>
                  <a:pt x="34" y="198"/>
                </a:lnTo>
                <a:lnTo>
                  <a:pt x="34" y="47"/>
                </a:lnTo>
                <a:lnTo>
                  <a:pt x="36" y="42"/>
                </a:lnTo>
                <a:lnTo>
                  <a:pt x="42" y="40"/>
                </a:lnTo>
                <a:lnTo>
                  <a:pt x="44" y="42"/>
                </a:lnTo>
                <a:lnTo>
                  <a:pt x="46" y="47"/>
                </a:lnTo>
                <a:lnTo>
                  <a:pt x="46" y="210"/>
                </a:lnTo>
                <a:lnTo>
                  <a:pt x="46" y="418"/>
                </a:lnTo>
                <a:lnTo>
                  <a:pt x="48" y="430"/>
                </a:lnTo>
                <a:lnTo>
                  <a:pt x="58" y="442"/>
                </a:lnTo>
                <a:lnTo>
                  <a:pt x="71" y="446"/>
                </a:lnTo>
                <a:lnTo>
                  <a:pt x="78" y="446"/>
                </a:lnTo>
                <a:lnTo>
                  <a:pt x="91" y="442"/>
                </a:lnTo>
                <a:lnTo>
                  <a:pt x="100" y="430"/>
                </a:lnTo>
                <a:lnTo>
                  <a:pt x="104" y="418"/>
                </a:lnTo>
                <a:lnTo>
                  <a:pt x="104" y="221"/>
                </a:lnTo>
                <a:lnTo>
                  <a:pt x="106" y="213"/>
                </a:lnTo>
                <a:lnTo>
                  <a:pt x="115" y="210"/>
                </a:lnTo>
                <a:lnTo>
                  <a:pt x="123" y="213"/>
                </a:lnTo>
                <a:lnTo>
                  <a:pt x="127" y="221"/>
                </a:lnTo>
                <a:lnTo>
                  <a:pt x="127" y="418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10480" y="4683240"/>
            <a:ext cx="155520" cy="158760"/>
          </a:xfrm>
          <a:custGeom>
            <a:avLst/>
            <a:gdLst/>
            <a:ahLst/>
            <a:rect l="l" t="t" r="r" b="b"/>
            <a:pathLst>
              <a:path w="98" h="100">
                <a:moveTo>
                  <a:pt x="0" y="49"/>
                </a:moveTo>
                <a:lnTo>
                  <a:pt x="3" y="31"/>
                </a:lnTo>
                <a:lnTo>
                  <a:pt x="12" y="18"/>
                </a:lnTo>
                <a:lnTo>
                  <a:pt x="25" y="6"/>
                </a:lnTo>
                <a:lnTo>
                  <a:pt x="41" y="0"/>
                </a:lnTo>
                <a:lnTo>
                  <a:pt x="56" y="0"/>
                </a:lnTo>
                <a:lnTo>
                  <a:pt x="72" y="6"/>
                </a:lnTo>
                <a:lnTo>
                  <a:pt x="87" y="18"/>
                </a:lnTo>
                <a:lnTo>
                  <a:pt x="93" y="31"/>
                </a:lnTo>
                <a:lnTo>
                  <a:pt x="97" y="49"/>
                </a:lnTo>
                <a:lnTo>
                  <a:pt x="93" y="68"/>
                </a:lnTo>
                <a:lnTo>
                  <a:pt x="87" y="83"/>
                </a:lnTo>
                <a:lnTo>
                  <a:pt x="72" y="93"/>
                </a:lnTo>
                <a:lnTo>
                  <a:pt x="56" y="99"/>
                </a:lnTo>
                <a:lnTo>
                  <a:pt x="41" y="99"/>
                </a:lnTo>
                <a:lnTo>
                  <a:pt x="25" y="93"/>
                </a:lnTo>
                <a:lnTo>
                  <a:pt x="12" y="83"/>
                </a:lnTo>
                <a:lnTo>
                  <a:pt x="3" y="68"/>
                </a:lnTo>
                <a:lnTo>
                  <a:pt x="0" y="49"/>
                </a:ln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038480"/>
            <a:ext cx="53341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70640" y="3429000"/>
            <a:ext cx="1833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1c1c1c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= 50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419720"/>
            <a:ext cx="304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319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6095880"/>
            <a:ext cx="228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3809880"/>
            <a:ext cx="1905120" cy="609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181480" y="4495680"/>
            <a:ext cx="1524240" cy="33624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449568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4495680"/>
            <a:ext cx="990720" cy="336240"/>
          </a:xfrm>
          <a:prstGeom prst="rect">
            <a:avLst/>
          </a:prstGeom>
          <a:solidFill>
            <a:srgbClr val="faf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ject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390800" y="3809880"/>
            <a:ext cx="84276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828800"/>
            <a:ext cx="3048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are two cutoff value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(critical values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defining the regions of rejection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73836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mpling Distribution of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3809880"/>
            <a:ext cx="833400" cy="228600"/>
          </a:xfrm>
          <a:custGeom>
            <a:avLst/>
            <a:gdLst/>
            <a:ahLst/>
            <a:rect l="l" t="t" r="r" b="b"/>
            <a:pathLst>
              <a:path w="582" h="183">
                <a:moveTo>
                  <a:pt x="9" y="177"/>
                </a:moveTo>
                <a:lnTo>
                  <a:pt x="0" y="132"/>
                </a:lnTo>
                <a:lnTo>
                  <a:pt x="258" y="114"/>
                </a:lnTo>
                <a:lnTo>
                  <a:pt x="423" y="66"/>
                </a:lnTo>
                <a:lnTo>
                  <a:pt x="504" y="48"/>
                </a:lnTo>
                <a:lnTo>
                  <a:pt x="582" y="0"/>
                </a:lnTo>
                <a:lnTo>
                  <a:pt x="582" y="183"/>
                </a:lnTo>
                <a:lnTo>
                  <a:pt x="9" y="182"/>
                </a:lnTo>
                <a:lnTo>
                  <a:pt x="9" y="177"/>
                </a:lnTo>
              </a:path>
            </a:pathLst>
          </a:custGeom>
          <a:solidFill>
            <a:srgbClr val="c3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666880"/>
            <a:ext cx="2362320" cy="1295640"/>
          </a:xfrm>
          <a:custGeom>
            <a:avLst/>
            <a:gdLst/>
            <a:ahLst/>
            <a:rect l="l" t="t" r="r" b="b"/>
            <a:pathLst>
              <a:path w="600" h="576">
                <a:moveTo>
                  <a:pt x="0" y="575"/>
                </a:moveTo>
                <a:lnTo>
                  <a:pt x="63" y="570"/>
                </a:lnTo>
                <a:lnTo>
                  <a:pt x="95" y="562"/>
                </a:lnTo>
                <a:lnTo>
                  <a:pt x="127" y="553"/>
                </a:lnTo>
                <a:lnTo>
                  <a:pt x="158" y="540"/>
                </a:lnTo>
                <a:lnTo>
                  <a:pt x="190" y="521"/>
                </a:lnTo>
                <a:lnTo>
                  <a:pt x="222" y="498"/>
                </a:lnTo>
                <a:lnTo>
                  <a:pt x="284" y="432"/>
                </a:lnTo>
                <a:lnTo>
                  <a:pt x="347" y="338"/>
                </a:lnTo>
                <a:lnTo>
                  <a:pt x="410" y="224"/>
                </a:lnTo>
                <a:lnTo>
                  <a:pt x="441" y="167"/>
                </a:lnTo>
                <a:lnTo>
                  <a:pt x="473" y="114"/>
                </a:lnTo>
                <a:lnTo>
                  <a:pt x="505" y="67"/>
                </a:lnTo>
                <a:lnTo>
                  <a:pt x="535" y="31"/>
                </a:lnTo>
                <a:lnTo>
                  <a:pt x="567" y="8"/>
                </a:lnTo>
                <a:lnTo>
                  <a:pt x="5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2666880"/>
            <a:ext cx="2209680" cy="129564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5" y="575"/>
                </a:moveTo>
                <a:lnTo>
                  <a:pt x="515" y="570"/>
                </a:lnTo>
                <a:lnTo>
                  <a:pt x="484" y="562"/>
                </a:lnTo>
                <a:lnTo>
                  <a:pt x="455" y="553"/>
                </a:lnTo>
                <a:lnTo>
                  <a:pt x="424" y="540"/>
                </a:lnTo>
                <a:lnTo>
                  <a:pt x="393" y="521"/>
                </a:lnTo>
                <a:lnTo>
                  <a:pt x="364" y="498"/>
                </a:lnTo>
                <a:lnTo>
                  <a:pt x="303" y="432"/>
                </a:lnTo>
                <a:lnTo>
                  <a:pt x="242" y="338"/>
                </a:lnTo>
                <a:lnTo>
                  <a:pt x="182" y="224"/>
                </a:lnTo>
                <a:lnTo>
                  <a:pt x="151" y="167"/>
                </a:lnTo>
                <a:lnTo>
                  <a:pt x="120" y="114"/>
                </a:lnTo>
                <a:lnTo>
                  <a:pt x="91" y="67"/>
                </a:lnTo>
                <a:lnTo>
                  <a:pt x="60" y="31"/>
                </a:lnTo>
                <a:lnTo>
                  <a:pt x="30" y="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4038480"/>
            <a:ext cx="510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35053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199680" y="3048120"/>
            <a:ext cx="76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2666880"/>
            <a:ext cx="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40384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449568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4495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48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1600200"/>
            <a:ext cx="1752840" cy="10040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= 50    H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: </a:t>
            </a:r>
            <a:r>
              <a:rPr b="1" lang="el-GR" sz="2400" spc="-1" strike="noStrike">
                <a:solidFill>
                  <a:srgbClr val="008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40384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44956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543440" y="3505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771680" y="3048120"/>
            <a:ext cx="76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5410080"/>
            <a:ext cx="14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Lower critical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548640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Upper critical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18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452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343400" y="48002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391520" y="48002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781680" y="457200"/>
                <a:ext cx="55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3733920" y="3809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50292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50292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ly Sample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5257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4BD8-9568-496F-B6A0-21F9B9A1D2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9:15:53Z</dcterms:created>
  <dc:creator>Dirk Yandell</dc:creator>
  <dc:description/>
  <dc:language>en-US</dc:language>
  <cp:lastModifiedBy>HP Pavilion</cp:lastModifiedBy>
  <cp:lastPrinted>1998-11-22T23:37:53Z</cp:lastPrinted>
  <dcterms:modified xsi:type="dcterms:W3CDTF">2004-10-15T14:00:40Z</dcterms:modified>
  <cp:revision>56</cp:revision>
  <dc:subject>Chapter  8</dc:subject>
  <dc:title>Statistics for Managers Using Microsoft Excel, 4/e</dc:title>
</cp:coreProperties>
</file>