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2012-94B7-4388-8F2D-14DB6934C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0A9A-C515-45B4-8FF1-BB4E40116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0244-30B1-47B1-B2C2-17FDAA0EC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230D-8D33-4B75-83A2-87DEF1D1F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C3010-F9CE-455D-B38E-E95024A7B9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7C020-B603-4BBD-AB91-A86A97A0B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90AA6-5A4C-4EC9-BD34-AE5B87EEA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EA973-622E-415B-9C3E-4D1D450908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61809-9D35-492B-942C-07C82857FC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6FBF8-6274-49A0-8D23-A204EBFAC6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09C4C-9199-4080-9828-1956052CA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FD2E-AC1C-4152-AC3F-FE12FC867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5C60B-9910-4374-A7FF-36560DCAF9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F575D-055A-4C5E-9D33-DAFA513AE5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E09E9-E98B-4A42-90C4-4AC60640B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C554D-A0CB-4452-823D-23AAFCFF0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8F334-3966-418A-91C2-AC0BF142D5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3411-7D71-485D-98F9-FA8B1C6D4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99EF-C424-43B7-A50A-FF66381AE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F343-4883-47D3-B64B-CA53BDEC4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34CD-82D9-4600-8D8E-551A79477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FB9C-4F2D-4A7B-921C-3E030548E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9C4A-DB51-4583-B211-2305966CE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BFD0-F9BF-4ED4-98D9-118A46511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3-</a:t>
            </a:r>
            <a:fld id="{E8ACE8C5-55BF-45D3-BD4C-D59F1D6C5B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3-</a:t>
            </a:r>
            <a:fld id="{E6B8AB80-2ECC-4FFB-8989-00550BE1F4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3657600"/>
            <a:ext cx="7543800" cy="2062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duction to Multiple Regre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67107-227E-4620-9612-38D901F431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867280" y="3657600"/>
            <a:ext cx="266724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657600"/>
            <a:ext cx="2666880" cy="2590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Multiple Regression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" y="1523880"/>
                <a:ext cx="8283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2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19520" y="3657600"/>
            <a:ext cx="26668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-24.97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decrease, on average, by 24.9751 pies per week for each $1 increase in selling price, net of the effects of changes due to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657600"/>
            <a:ext cx="26672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74.13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les will increase, on average, by 74.1310 pies per week for each $100 increase in advertising, net of the effects of changes due to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5909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ales is in number of pie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ice is in 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vertising is in $100’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9810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6024-A9F2-4A5E-AED0-7266B29F1B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2895480"/>
            <a:ext cx="7543800" cy="1828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The Model to Make Predic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3400" y="1747800"/>
            <a:ext cx="785808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sales for a week in which the selling price is $5.50 and advertising is $3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5257800"/>
            <a:ext cx="2743200" cy="9421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sales is 428.62 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90720" y="3089160"/>
                <a:ext cx="73911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 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 4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V="1">
            <a:off x="2514600" y="45716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5029200"/>
            <a:ext cx="2743200" cy="949320"/>
          </a:xfrm>
          <a:prstGeom prst="rect">
            <a:avLst/>
          </a:prstGeom>
          <a:solidFill>
            <a:srgbClr val="bef8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dvertising is in $100’s, so $350 means that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934320" y="411480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048120"/>
            <a:ext cx="609480" cy="7596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B824-7A42-4DD7-BF29-A7F9FEE22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s 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6629400" cy="587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Stat | regression | multiple regress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6324480" cy="4476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58000" y="4876920"/>
            <a:ext cx="205740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“confidence and prediction interval estimates”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5715000"/>
            <a:ext cx="2590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7280" y="5410080"/>
            <a:ext cx="9907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C9E8-7D35-4BBE-8803-4A8AA9CC8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105160" y="2743200"/>
            <a:ext cx="251460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edictions in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156200" cy="4647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0" y="2819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25909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3886200"/>
            <a:ext cx="761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3733920"/>
            <a:ext cx="2819520" cy="4572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87000"/>
          </a:bodyPr>
          <a:p>
            <a:pPr marL="279000" indent="-279000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 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6750360" y="3686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724280" y="396252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4343400"/>
            <a:ext cx="3429000" cy="11430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the mean Y value, given these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6368760" y="4616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5562720"/>
            <a:ext cx="3353040" cy="1066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11040" indent="-31104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for an individual  Y value, given these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6901920" y="5835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723920" y="4952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723920" y="6095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B8A1-6679-47B6-800B-D33513349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Multiple Determin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the proportion of total variation in Y explained by all X variables take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23960" y="3352680"/>
                <a:ext cx="77518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sum of squar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4C7C-0FE6-4894-A9C8-F6BADB58E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76520"/>
          <a:ext cx="8763120" cy="462276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10400" y="1828800"/>
            <a:ext cx="1381320" cy="7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53000" y="1828800"/>
                <a:ext cx="3624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4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4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V="1">
            <a:off x="3124080" y="22096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2666880"/>
            <a:ext cx="42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52.1% of the variation in pie sales is explained by the variation in price and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e Coefficient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Determin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962520" y="2590560"/>
            <a:ext cx="3808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1F08-9330-4737-A6EB-B1FEA42A2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justed 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ver decreases when a new  X  variable is added to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 disadvantage when compar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net effect of adding a new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ose a degree of freedom when a new  X variable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new  X  variable add enough explanatory power to offset the loss of one degree of freed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8219-11F0-4047-B558-6415C60669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1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portion of variation in Y expla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ll X variabl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justed for the number of X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bl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n = sample size, k = number of independent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-243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alize excessive use of unimportant independ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-243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ha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080" indent="-243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aring amo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justed r</a:t>
            </a:r>
            <a:r>
              <a:rPr b="0" lang="en-US" sz="4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70200" y="2859120"/>
                <a:ext cx="56862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983E-CCA5-475B-A332-31496C0F95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1676520"/>
          <a:ext cx="8763120" cy="463860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693960" y="1722600"/>
                <a:ext cx="17431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 flipV="1">
            <a:off x="304812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236232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4.2% of the variation in pie sales is explained by the variation in price and advertising, taking into account the sample size and number of independ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e Coefficient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Determin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D9A9-B834-44E4-B71D-8457C824C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idual Plots Use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 Multiple Regress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residual plots are used in multiple reg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vs.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s vs.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i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3702600" y="2772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84B9-4E16-49A6-957B-F97A860D6B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8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multiple regression analysis to business decision-making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nd interpret the computer output for a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residual analysis for the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he significance of the independent variables in a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0102-6002-4A83-9A9C-3B35DC0F8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676520" y="1447920"/>
          <a:ext cx="586728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47920"/>
                    <a:ext cx="5867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828800" y="4038480"/>
          <a:ext cx="5791320" cy="281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038480"/>
                    <a:ext cx="57913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219320" y="152280"/>
            <a:ext cx="707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idual Plots Pie Example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ools | Data Analysis |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97D0-FBDD-4B84-B633-B4579AB7E8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152280"/>
            <a:ext cx="707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idual Plots Pie Example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Tools | Data Analysis |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1600200"/>
          <a:ext cx="64008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00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7CAE-040F-43CE-84BC-704DB87D79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47920" y="4495680"/>
            <a:ext cx="7391160" cy="14479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s the Model Significant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-Test for Overall Significance of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if there is a linear relationship between all of the  X  variables considered together and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 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0  (no linear relationship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938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at least one  </a:t>
            </a:r>
            <a:r>
              <a:rPr b="0" lang="el-GR" sz="25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0   (at least on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40000"/>
              </a:lnSpc>
              <a:spcBef>
                <a:spcPts val="10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ble affects 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AC70-B31D-4341-AE70-11C166436F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57600" y="2133720"/>
                <a:ext cx="40384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172200" y="289512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69608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676520"/>
          <a:ext cx="8763120" cy="462276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Overall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971800"/>
            <a:ext cx="2361960" cy="5806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2 and 12 degrees of free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3048120"/>
            <a:ext cx="1295280" cy="580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-value for the F-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9EBA-D929-4728-AA8F-46513E282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1752480"/>
            <a:ext cx="381024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3848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1428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not both zer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2      df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733920"/>
            <a:ext cx="3733920" cy="9356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value=.012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5181480"/>
            <a:ext cx="4495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re is evidence that at least one independent variable affects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5486400"/>
            <a:ext cx="1555920" cy="223920"/>
          </a:xfrm>
          <a:custGeom>
            <a:avLst/>
            <a:gdLst/>
            <a:ahLst/>
            <a:rect l="l" t="t" r="r" b="b"/>
            <a:pathLst>
              <a:path w="980" h="154">
                <a:moveTo>
                  <a:pt x="4" y="154"/>
                </a:moveTo>
                <a:lnTo>
                  <a:pt x="0" y="0"/>
                </a:lnTo>
                <a:lnTo>
                  <a:pt x="83" y="39"/>
                </a:lnTo>
                <a:lnTo>
                  <a:pt x="154" y="61"/>
                </a:lnTo>
                <a:lnTo>
                  <a:pt x="209" y="76"/>
                </a:lnTo>
                <a:lnTo>
                  <a:pt x="283" y="91"/>
                </a:lnTo>
                <a:lnTo>
                  <a:pt x="428" y="111"/>
                </a:lnTo>
                <a:lnTo>
                  <a:pt x="592" y="126"/>
                </a:lnTo>
                <a:lnTo>
                  <a:pt x="979" y="141"/>
                </a:lnTo>
                <a:lnTo>
                  <a:pt x="980" y="154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2960" y="4100400"/>
            <a:ext cx="3513240" cy="161460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8640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5880" y="441972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4343400"/>
            <a:ext cx="34290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486400"/>
            <a:ext cx="144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361960" y="5257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4952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57400" y="5715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6840" y="5943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0574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5867280"/>
            <a:ext cx="990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586728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648320" y="2209680"/>
                <a:ext cx="283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895480" y="3886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895480" y="2742840"/>
            <a:ext cx="17528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-Test for Overall Signific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5638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1562040" y="24001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04C5-0588-46DB-BB0E-B8F062EC75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3352680"/>
            <a:ext cx="6858000" cy="1447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 Individual Variables Significant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se t-tests of individual variable sl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s if there is a linear relationship between the variable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 (no linear relationsh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  (linear relationship does ex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wee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09880" y="5181480"/>
                <a:ext cx="1371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486400" y="5562720"/>
            <a:ext cx="2209680" cy="4572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84960" y="5562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f = n – k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DEA7-3B63-407E-9E3C-EC626DB6A8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676520"/>
          <a:ext cx="8763120" cy="462276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276720" y="1752480"/>
            <a:ext cx="4419360" cy="16614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-value for Price is  t = -2.306, with p-value .0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-value for Advertising is t = 2.855, with p-value .0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 Individual Variables Significant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715000"/>
            <a:ext cx="1752840" cy="609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8581-101A-4665-93F1-911946E3F3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flipH="1">
            <a:off x="304920" y="4495680"/>
            <a:ext cx="1828800" cy="7027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5-2-1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752480" cy="1066680"/>
          </a:xfrm>
          <a:prstGeom prst="rect">
            <a:avLst/>
          </a:prstGeom>
          <a:solidFill>
            <a:srgbClr val="fde0bd"/>
          </a:solidFill>
          <a:ln w="284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3276720"/>
            <a:ext cx="5562720" cy="838080"/>
          </a:xfrm>
          <a:prstGeom prst="rect">
            <a:avLst/>
          </a:prstGeom>
          <a:solidFill>
            <a:srgbClr val="c7da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for each variable falls in the rejection region (p-values &lt; 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5334120"/>
            <a:ext cx="3971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evidence that both Price and Advertising affect pie sales 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1600200"/>
            <a:ext cx="366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4572000"/>
            <a:ext cx="397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90920" y="2133720"/>
          <a:ext cx="6400800" cy="1004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1032120"/>
                <a:gridCol w="9493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4114800" y="4114800"/>
            <a:ext cx="4572000" cy="13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1981080"/>
            <a:ext cx="10670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01000" y="1981080"/>
            <a:ext cx="106668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3200400"/>
            <a:ext cx="1752480" cy="1066680"/>
          </a:xfrm>
          <a:prstGeom prst="rect">
            <a:avLst/>
          </a:prstGeom>
          <a:solidFill>
            <a:srgbClr val="fde0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1071-9711-44AE-89E8-DD4CC24AE0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1523880"/>
            <a:ext cx="731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terval for the population slop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5334120"/>
            <a:ext cx="7696080" cy="1162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cel output also reports these interval end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sales are estimated to be reduced by between 1.37 to 48.58 pies for each increase of $1 in the selling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90720" y="3809880"/>
          <a:ext cx="7238880" cy="121284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534960"/>
                <a:gridCol w="1218960"/>
                <a:gridCol w="1219320"/>
              </a:tblGrid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5791320" y="4343400"/>
            <a:ext cx="2666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7173600">
            <a:off x="8096040" y="4781160"/>
            <a:ext cx="511200" cy="397080"/>
          </a:xfrm>
          <a:custGeom>
            <a:avLst/>
            <a:gdLst>
              <a:gd name="textAreaLeft" fmla="*/ 0 w 511200"/>
              <a:gd name="textAreaRight" fmla="*/ 511560 w 51120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95280" y="2286000"/>
                <a:ext cx="2362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4038480" y="2286000"/>
            <a:ext cx="3200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 – k – 1)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5 – 2 – 1) = 12  d.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471D-DCFF-4E44-9741-E6AFE08E35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Partial Determination for k variable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8076960" cy="2246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the proportion of variation in the dependent variable that is explained by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le controlling for (holding constant) the other explanatory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979560" y="2033640"/>
                <a:ext cx="764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l variables except j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SSR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ll variables except 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S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l variable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l variables except j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BCE1-ECCC-4CB2-A96D-396FE9E4D3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1532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efficient of partial determination to test portions of the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qualitative variables into the regression model by using dumm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action terms in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3F08-BEDD-45DB-91E4-832721232F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efficient of Partial Determination in Exc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fficients of Partial Determination can be found using Ex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Stat | regression | multiple regress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“coefficient of partial determination”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2FC1-E5B8-4AFE-B302-037620BC44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Dummy Variab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ummy variable is a categorical explanatory variable with two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es or no, on or off, male or fem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ded as 0 or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intercepts are different if the variable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equal slopes for other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two levels, the number of dummy variables needed is (number of levels 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38CC8-F059-4C39-981B-F4CF56EB75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ummy-Variable Model Example  (with 2 Levels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2895480"/>
            <a:ext cx="8458200" cy="29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 = pi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li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f a holiday occurred during the wee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f there was no holiday that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819520" y="2666880"/>
                <a:ext cx="35542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0EF9-C488-43E7-8B2C-E0EE39141B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0880" y="2362320"/>
            <a:ext cx="8229600" cy="609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752480"/>
            <a:ext cx="8229600" cy="609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6840" y="3048120"/>
            <a:ext cx="106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ummy-Variable Model Exampl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with 2 Levels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88620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71480" y="6400800"/>
            <a:ext cx="4513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495680"/>
            <a:ext cx="3581280" cy="1143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6388200"/>
            <a:ext cx="1444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350532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(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19112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48038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80880" y="1752480"/>
                <a:ext cx="66265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7165800" y="1828800"/>
            <a:ext cx="152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22600" y="3048120"/>
            <a:ext cx="1371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fferent 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46640" y="1676520"/>
            <a:ext cx="152388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5440" y="1600200"/>
            <a:ext cx="3808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5181480"/>
            <a:ext cx="3581280" cy="11430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970800">
            <a:off x="2564280" y="4688280"/>
            <a:ext cx="246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iday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970800">
            <a:off x="2399400" y="5389560"/>
            <a:ext cx="3122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oliday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24480" y="3962520"/>
            <a:ext cx="2514600" cy="2025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  is rejected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” has a significant effect on pi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122868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A5B7-3483-478A-B14D-76A79F82EF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40240" y="2438280"/>
            <a:ext cx="592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: number of pies sol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:  pie price in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i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ing the Dummy Variable Coefficient (with 2 Levels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03480" y="175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" y="1676520"/>
            <a:ext cx="1663560" cy="5205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55480" y="345456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If a holiday occurred during the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55120" y="391176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If no holiday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4648320"/>
            <a:ext cx="8321760" cy="14328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: on average, sales were 15 pies greater in weeks with a holiday than in weeks without a holiday, given the sam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78080" y="358308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133720" y="1701720"/>
                <a:ext cx="6400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l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00 - 3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olida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400800" y="6062760"/>
            <a:ext cx="1152360" cy="64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17F9-8165-4BE8-956C-9B1F777D6E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62120" y="1600200"/>
            <a:ext cx="8076960" cy="9144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ummy-Variable Model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more than 2 Levels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dummy variables is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ne less than the number of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Aft>
                <a:spcPts val="1049"/>
              </a:spcAft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house price ;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quare fe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yle of the house is also thought to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nch,  split level,  c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4724280" y="266652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648320"/>
            <a:ext cx="4038840" cy="82548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, so two dummy variabl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066680" y="571500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vanced concept not included in homework or on the ex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F659-4922-415C-95DD-0683598C00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action Between Explanatory Variab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zes interaction between pairs of X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to one X variable may vary at different levels of another X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two-way cross product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 (no interaction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act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19320" y="3581280"/>
                <a:ext cx="519408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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257800" y="3581280"/>
            <a:ext cx="53352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34340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7143600">
            <a:off x="5744520" y="4008960"/>
            <a:ext cx="380880" cy="287280"/>
          </a:xfrm>
          <a:custGeom>
            <a:avLst/>
            <a:gdLst>
              <a:gd name="textAreaLeft" fmla="*/ 0 w 380880"/>
              <a:gd name="textAreaRight" fmla="*/ 381240 w 3808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31D4-502F-4C10-869E-4CAFC633C4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078680" cy="1295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action Regression Model Workshee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11360" y="5351400"/>
            <a:ext cx="6400800" cy="106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regress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66680" y="1868400"/>
          <a:ext cx="7543800" cy="3313080"/>
        </p:xfrm>
        <a:graphic>
          <a:graphicData uri="http://schemas.openxmlformats.org/drawingml/2006/table">
            <a:tbl>
              <a:tblPr/>
              <a:tblGrid>
                <a:gridCol w="1508400"/>
                <a:gridCol w="1509480"/>
                <a:gridCol w="1508040"/>
                <a:gridCol w="1509840"/>
                <a:gridCol w="15080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,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X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5F39-6AFF-4F7B-9752-FDB18618B0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he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the significance of the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djusted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residual plots to check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individual regress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portions of th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dumm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 interac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0C28-467F-47D1-B72F-BF4A7A49E5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Multiple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835280"/>
            <a:ext cx="807732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of the multiple regression model are estimated using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599840" y="4065480"/>
            <a:ext cx="15228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04960" y="3836880"/>
            <a:ext cx="1600200" cy="6858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836880"/>
            <a:ext cx="838440" cy="6098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52880" y="3836880"/>
            <a:ext cx="609840" cy="6098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79640" y="4248000"/>
                <a:ext cx="75960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2437920" y="3913200"/>
            <a:ext cx="685800" cy="6094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379680"/>
            <a:ext cx="1447920" cy="7077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predic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532320"/>
            <a:ext cx="2743200" cy="3322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slop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922480"/>
            <a:ext cx="4800600" cy="39384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d multiple regression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3456000"/>
            <a:ext cx="1143000" cy="50796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410080"/>
            <a:ext cx="80773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hapter we will always use Excel to obtain the regression slope coefficients and other regression summary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D627-CB49-46BF-9ADD-EA09C79FF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flipV="1">
            <a:off x="609480" y="5181480"/>
            <a:ext cx="190512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800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14360" y="3143160"/>
            <a:ext cx="5562720" cy="2428920"/>
          </a:xfrm>
          <a:custGeom>
            <a:avLst/>
            <a:gdLst/>
            <a:ahLst/>
            <a:rect l="l" t="t" r="r" b="b"/>
            <a:pathLst>
              <a:path w="3504" h="1530">
                <a:moveTo>
                  <a:pt x="0" y="1530"/>
                </a:moveTo>
                <a:lnTo>
                  <a:pt x="1140" y="522"/>
                </a:lnTo>
                <a:lnTo>
                  <a:pt x="3504" y="0"/>
                </a:lnTo>
                <a:lnTo>
                  <a:pt x="2346" y="1128"/>
                </a:lnTo>
                <a:lnTo>
                  <a:pt x="0" y="153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e Regression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523880"/>
            <a:ext cx="3124080" cy="4546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aria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236196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867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029200" y="480024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019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4648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681520" y="2255760"/>
                <a:ext cx="3310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638680" y="2666880"/>
            <a:ext cx="557280" cy="704880"/>
          </a:xfrm>
          <a:custGeom>
            <a:avLst/>
            <a:gdLst/>
            <a:ahLst/>
            <a:rect l="l" t="t" r="r" b="b"/>
            <a:pathLst>
              <a:path w="351" h="444">
                <a:moveTo>
                  <a:pt x="116" y="0"/>
                </a:moveTo>
                <a:cubicBezTo>
                  <a:pt x="105" y="45"/>
                  <a:pt x="0" y="196"/>
                  <a:pt x="39" y="270"/>
                </a:cubicBezTo>
                <a:cubicBezTo>
                  <a:pt x="78" y="344"/>
                  <a:pt x="286" y="408"/>
                  <a:pt x="351" y="44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1600">
            <a:off x="1154160" y="418680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977800">
            <a:off x="2060280" y="5180760"/>
            <a:ext cx="25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 for variabl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3E37-F482-47E0-ACDE-6EAB44102E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 Independent Variab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ributor of frozen desert pies wants to evaluate factors thought to influence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Dependent variable:       Pie sales (units per wee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Arial"/>
              </a:rPr>
              <a:t>Independent variables: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ice (in 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vertising ($100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collected for 15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29400" y="4859280"/>
            <a:ext cx="2143080" cy="1197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29200" y="33526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9317-0BAC-4C01-86E9-DF2CE8F2EA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67080" y="2209680"/>
            <a:ext cx="4267440" cy="1295640"/>
          </a:xfrm>
          <a:prstGeom prst="rect">
            <a:avLst/>
          </a:prstGeom>
          <a:solidFill>
            <a:srgbClr val="bef8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ie Sales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19360" y="2361960"/>
            <a:ext cx="434340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i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verti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579680"/>
          <a:ext cx="3505320" cy="5064120"/>
        </p:xfrm>
        <a:graphic>
          <a:graphicData uri="http://schemas.openxmlformats.org/drawingml/2006/table">
            <a:tbl>
              <a:tblPr/>
              <a:tblGrid>
                <a:gridCol w="685800"/>
                <a:gridCol w="839880"/>
                <a:gridCol w="760320"/>
                <a:gridCol w="12193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100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4572000" y="2282760"/>
            <a:ext cx="604800" cy="155520"/>
          </a:xfrm>
          <a:custGeom>
            <a:avLst/>
            <a:gdLst/>
            <a:ahLst/>
            <a:rect l="l" t="t" r="r" b="b"/>
            <a:pathLst>
              <a:path w="381" h="98">
                <a:moveTo>
                  <a:pt x="0" y="96"/>
                </a:moveTo>
                <a:lnTo>
                  <a:pt x="192" y="0"/>
                </a:lnTo>
                <a:lnTo>
                  <a:pt x="381" y="98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600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0120" y="5715000"/>
            <a:ext cx="13809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093C-46A5-4C9E-A95F-8399FC9AF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ng a Multiple Linea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gression Equ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will be used to generate the coefficients and measures of goodness of fit for multiple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... /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HStat / Regression / Multiple Regress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AD08-6398-41E5-A69A-B9F490BCB4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ultiple Regression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676520"/>
          <a:ext cx="8763120" cy="4636800"/>
        </p:xfrm>
        <a:graphic>
          <a:graphicData uri="http://schemas.openxmlformats.org/drawingml/2006/table">
            <a:tbl>
              <a:tblPr/>
              <a:tblGrid>
                <a:gridCol w="1706400"/>
                <a:gridCol w="1162080"/>
                <a:gridCol w="1397160"/>
                <a:gridCol w="1068480"/>
                <a:gridCol w="914400"/>
                <a:gridCol w="1371600"/>
                <a:gridCol w="1143000"/>
              </a:tblGrid>
              <a:tr h="291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2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4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.463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60.0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30.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38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33.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2.7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493.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.526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.253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8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9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588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.46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.975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32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.576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73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vertis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130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967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4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53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.70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43800" y="1828800"/>
            <a:ext cx="1380960" cy="7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00400" y="2666880"/>
                <a:ext cx="5638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62 - 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1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dvertisin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V="1">
            <a:off x="3124080" y="3352680"/>
            <a:ext cx="762120" cy="228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A513-9B54-4D29-B72B-32C4AB64A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2:54:40Z</dcterms:created>
  <dc:creator>Drik Yandell</dc:creator>
  <dc:description/>
  <dc:language>en-US</dc:language>
  <cp:lastModifiedBy>HP Pavilion</cp:lastModifiedBy>
  <cp:lastPrinted>1998-11-22T23:37:53Z</cp:lastPrinted>
  <dcterms:modified xsi:type="dcterms:W3CDTF">2004-11-24T16:36:17Z</dcterms:modified>
  <cp:revision>56</cp:revision>
  <dc:subject>Chapter 13</dc:subject>
  <dc:title>Statistics for Managers Using Microsoft Excel, 4/e</dc:title>
</cp:coreProperties>
</file>