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1371600" y="457200"/>
            <a:ext cx="4114800" cy="266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20680" y="3581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0680" y="3886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20680" y="41911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20680" y="44956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20680" y="48006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0680" y="54100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20680" y="57150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20680" y="60199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0680" y="63244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20680" y="66294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20680" y="69343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20680" y="72388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20680" y="75438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20680" y="78487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20680" y="8153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20680" y="8458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3800" y="876312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60" y="61920"/>
            <a:ext cx="67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ctr" pos="32576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</a:t>
            </a:r>
            <a:fld id="{A239332E-F744-41E0-88DB-4BC52F2F7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280" y="8818560"/>
            <a:ext cx="6715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858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stics for Managers Using Microsoft Excel, 4/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Prentice 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body"/>
          </p:nvPr>
        </p:nvSpPr>
        <p:spPr>
          <a:xfrm>
            <a:off x="914400" y="441972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BD4B9-B6DC-43CE-982E-2E64F04F0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987E-6B37-4FCC-AFC6-205BEDFDE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85C2F-BFAD-42E2-8E77-B147A4FA3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0734-CDCA-417E-86D4-2C4D04CC3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D8A94-8B2B-4244-ABA7-5B607D61CA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5CC01-601F-4D6D-BD22-DD0D2A7B0D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03F7A-889E-4E50-981B-A72885F8A3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3689F-9204-4330-8B9F-8C3C735755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0B363-094C-4F4A-927C-EA1C31B59F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078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11582-F524-4E8D-8DD6-4318E68FFE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FE943-676B-4AC7-A7B0-D8F82E905D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036D-5180-4EB3-8BD1-51384384B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ED2ED-17F2-46A1-A66F-4693F25F1D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FA45B-0D32-4795-9C6A-E5618A0C18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5BEF7-9391-4B7E-98CD-F03B410985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96A31-567B-498D-9CB5-C08B0B5C3A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6D3EB-9A40-4AD5-8E98-CE8E2A606D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E752-A2CD-44DD-8A45-EF1D79F04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248CC-56D3-4382-BB79-8E5295A55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E2DEA-5835-43B0-9B3C-6DE043797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078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D1DC-E699-4BC7-AF68-9DBF6A0B6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BF19-3527-4BF6-906E-D4A54FF36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F88D-EFFB-4795-BCEB-085282AD1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EA0DD-A130-4D9D-8EA1-B65483333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09480"/>
            <a:ext cx="9009000" cy="1181160"/>
            <a:chOff x="0" y="609480"/>
            <a:chExt cx="9009000" cy="1181160"/>
          </a:xfrm>
        </p:grpSpPr>
        <p:grpSp>
          <p:nvGrpSpPr>
            <p:cNvPr id="3" name=""/>
            <p:cNvGrpSpPr/>
            <p:nvPr/>
          </p:nvGrpSpPr>
          <p:grpSpPr>
            <a:xfrm>
              <a:off x="290520" y="717480"/>
              <a:ext cx="711360" cy="471600"/>
              <a:chOff x="290520" y="717480"/>
              <a:chExt cx="711360" cy="47160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7174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73560" y="7174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85800" y="11365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8800" y="11365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8600" y="13716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0652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5040" y="6094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316080" y="14284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ftr" idx="1"/>
          </p:nvPr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857640" y="6533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12-</a:t>
            </a:r>
            <a:fld id="{7F60D35D-9790-4456-BDB5-16D229413D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8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5000" y="2438280"/>
            <a:ext cx="9009000" cy="1181160"/>
            <a:chOff x="135000" y="2438280"/>
            <a:chExt cx="9009000" cy="1181160"/>
          </a:xfrm>
        </p:grpSpPr>
        <p:grpSp>
          <p:nvGrpSpPr>
            <p:cNvPr id="52" name=""/>
            <p:cNvGrpSpPr/>
            <p:nvPr/>
          </p:nvGrpSpPr>
          <p:grpSpPr>
            <a:xfrm>
              <a:off x="425520" y="2546280"/>
              <a:ext cx="711360" cy="471600"/>
              <a:chOff x="425520" y="2546280"/>
              <a:chExt cx="711360" cy="471600"/>
            </a:xfrm>
          </p:grpSpPr>
          <p:sp>
            <p:nvSpPr>
              <p:cNvPr id="53" name=""/>
              <p:cNvSpPr/>
              <p:nvPr/>
            </p:nvSpPr>
            <p:spPr>
              <a:xfrm>
                <a:off x="425520" y="25462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08560" y="25462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820800" y="29653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3800" y="29653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3600" y="32004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000" y="28940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0040" y="24382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1080" y="32572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2"/>
          <p:cNvSpPr>
            <a:spLocks noGrp="1"/>
          </p:cNvSpPr>
          <p:nvPr>
            <p:ph type="ftr" idx="3"/>
          </p:nvPr>
        </p:nvSpPr>
        <p:spPr>
          <a:xfrm>
            <a:off x="152280" y="653724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4"/>
          </p:nvPr>
        </p:nvSpPr>
        <p:spPr>
          <a:xfrm>
            <a:off x="68576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12-</a:t>
            </a:r>
            <a:fld id="{A0C6EC62-11C4-4BF1-B2EE-A6500D1F90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51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67652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mple Linear Regres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838080"/>
            <a:ext cx="70102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atistics for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ing Microsoft</a:t>
            </a:r>
            <a:r>
              <a:rPr b="0" lang="en-US" sz="4000" spc="-1" strike="noStrike" baseline="30000">
                <a:solidFill>
                  <a:srgbClr val="3333cc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Excel</a:t>
            </a: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5C970-8EDF-4C25-8A64-B84A612769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643040" y="3581280"/>
                <a:ext cx="60879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3579480" y="50292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pulation Linear Regression Equ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3520" y="1711440"/>
            <a:ext cx="472428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regression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33720" y="2514600"/>
            <a:ext cx="1523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 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2362320"/>
            <a:ext cx="1447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Slo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772400" y="2286000"/>
            <a:ext cx="11476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 term, or res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3124080"/>
            <a:ext cx="1838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971800" y="320040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95280" y="365760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358760" y="3388320"/>
            <a:ext cx="385920" cy="44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38680" y="2514600"/>
            <a:ext cx="160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 rot="16200000">
            <a:off x="4569120" y="3659400"/>
            <a:ext cx="228600" cy="2662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120 h 2662200"/>
              <a:gd name="textAreaBottom" fmla="*/ 2593080 h 26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57040" y="3317760"/>
            <a:ext cx="298440" cy="3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 rot="16200000">
            <a:off x="7124400" y="4517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450120" y="50896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7DD3-133E-4FAC-A380-85E29D007F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482920" y="4275000"/>
                <a:ext cx="37940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1143000" y="1600200"/>
            <a:ext cx="7086600" cy="8254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 linear regression equation provides an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opulation regre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ample Linear Regression Equ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2959200"/>
            <a:ext cx="1828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410080" y="3035160"/>
            <a:ext cx="2057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the regression slop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394956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409720" y="372096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2654280"/>
            <a:ext cx="1752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 (or predicted) Y value for observation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133720" y="394956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4102200"/>
            <a:ext cx="1752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X for observation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095880" y="448308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5778360"/>
            <a:ext cx="6781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 individual random error terms 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have a mean of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8A14B-6831-4B73-8740-1B606F2235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inding the Least Squares Equ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coefficients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and  b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, and other regression results in this chapter, will be found using Exc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523880" y="4724280"/>
            <a:ext cx="6172200" cy="89820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s are shown in the text at the end of the chapter for those who are inter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DB6F3-3014-41B4-9ECC-BF040DA211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1828800"/>
            <a:ext cx="8153280" cy="13716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imple Linear Regression Ex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eal estate agent wishes to examine the relationship between the selling price of a home and its size (measured in square fee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andom sample of 10 houses is selec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Dependent variable (Y) = house price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in $1000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Independent variable (X) = square fe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981080" cy="13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EA54D-484A-43C6-A303-B0781CC5A5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mple Data for House Price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523880" y="1600200"/>
          <a:ext cx="6096240" cy="4462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A13D-1DC6-4B4D-8C67-15A1899F10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1447920" y="2286000"/>
          <a:ext cx="57150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150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raphical Present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52120" y="1952280"/>
            <a:ext cx="5791320" cy="1174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price model:  scatter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76D8-A689-4E07-AD73-8BCDC09ECA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gression Using Exc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s / Data Analysis / Reg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6858000" cy="447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7992B-DF8C-4C5B-98F8-F0D2E0D03A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010280" y="6056280"/>
            <a:ext cx="1219320" cy="801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276720" y="2286000"/>
            <a:ext cx="5715000" cy="5335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cel Outpu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533520" y="1676520"/>
          <a:ext cx="8229600" cy="432432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>
            <a:off x="380880" y="4952880"/>
            <a:ext cx="312444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666880" y="2819520"/>
            <a:ext cx="1447920" cy="2209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828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regression equ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276720" y="2438280"/>
                <a:ext cx="57355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>
            <a:off x="365760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2CB0-D510-4CB8-9A66-98D886C978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2209680" y="2514600"/>
          <a:ext cx="4876920" cy="33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8769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1828800" y="5715000"/>
            <a:ext cx="6019920" cy="6858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raphical Presen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use price model:  scatter plot and regression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981080" y="5943600"/>
                <a:ext cx="5735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 flipH="1">
            <a:off x="2819520" y="388620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38280" y="5867280"/>
            <a:ext cx="62892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10280" y="3124080"/>
            <a:ext cx="1371600" cy="69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09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066680" y="4724280"/>
            <a:ext cx="1219320" cy="79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98.24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6019920" y="243828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00800" y="304812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384" y="288"/>
                </a:moveTo>
                <a:cubicBezTo>
                  <a:pt x="272" y="288"/>
                  <a:pt x="160" y="288"/>
                  <a:pt x="96" y="240"/>
                </a:cubicBezTo>
                <a:cubicBezTo>
                  <a:pt x="32" y="192"/>
                  <a:pt x="16" y="96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0" y="4572000"/>
            <a:ext cx="762120" cy="635040"/>
          </a:xfrm>
          <a:custGeom>
            <a:avLst/>
            <a:gdLst/>
            <a:ahLst/>
            <a:rect l="l" t="t" r="r" b="b"/>
            <a:pathLst>
              <a:path w="480" h="400">
                <a:moveTo>
                  <a:pt x="0" y="384"/>
                </a:moveTo>
                <a:cubicBezTo>
                  <a:pt x="152" y="392"/>
                  <a:pt x="304" y="400"/>
                  <a:pt x="384" y="336"/>
                </a:cubicBezTo>
                <a:cubicBezTo>
                  <a:pt x="464" y="272"/>
                  <a:pt x="464" y="56"/>
                  <a:pt x="48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129528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1D5BA-0655-4E4E-9699-5712E14D0F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629400" y="4267080"/>
            <a:ext cx="2057400" cy="457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1905120"/>
            <a:ext cx="1752480" cy="457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erpretation of the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ercept,  b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8077320" cy="337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stimated average value of Y when the value of X is zero (if X = 0 is in the range of observed X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re, no houses had 0 square feet, so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98.24833 just indicates that, for houses within the range of sizes observed, $98,248.33 is the portion of the house price not explained by square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96ACA-E9E2-4524-9AA5-28347060E2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470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imple linear regression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nd interpret the simple linear regression equation for a se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regression residuals for aptness of the fitt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assumptions behind regre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measures of variation and determine whether the independent variable is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3EA17-121F-4902-82C7-2728300577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209680" y="4343400"/>
            <a:ext cx="1676520" cy="45720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609120" y="2742840"/>
            <a:ext cx="8077320" cy="2972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sures the estimated change in the average value of Y as a result of a one-unit change in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re,  b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.10977 tells us that the average value of a house increases by .10977($1000) = $109.77, on average, for each additional one square foot of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00600" y="1905120"/>
            <a:ext cx="1523880" cy="4572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erpretation of the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lope Coefficient,  b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3520" y="1905120"/>
                <a:ext cx="8001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77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uare fee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1219320" y="182880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1676520"/>
            <a:ext cx="830592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6858000" y="5867280"/>
            <a:ext cx="1295280" cy="8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E313-28FD-42EB-A47D-997FDA46A5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7848720" y="5715000"/>
            <a:ext cx="1143000" cy="75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371600" y="2978280"/>
                <a:ext cx="5943600" cy="21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 price 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rPr>
                            <m:lit/>
                            <m:nor/>
                          </m:rPr>
                          <m:t xml:space="preserve">3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1981080" y="2895480"/>
            <a:ext cx="62892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09680" y="1600200"/>
            <a:ext cx="4876920" cy="9723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dict the price for a house with 2000 square fee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3520" y="5257800"/>
            <a:ext cx="7315200" cy="97236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predicted price for a house with 2000 square feet is 317.85($1,000s) = $317,85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edictions using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gression Analys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20383-2192-47FC-94F7-A8B165E1EB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152280" y="3543480"/>
          <a:ext cx="4876920" cy="33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43480"/>
                    <a:ext cx="487692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erpolation vs. Extrapol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102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using a regression model for prediction, only predict within the relevant range of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762120" y="4915080"/>
            <a:ext cx="1676160" cy="7617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3962520" y="3467160"/>
            <a:ext cx="1676160" cy="7621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0" y="3581280"/>
            <a:ext cx="0" cy="2438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3581280"/>
            <a:ext cx="0" cy="2438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3047760" y="2743200"/>
            <a:ext cx="304920" cy="1676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2743200"/>
            <a:ext cx="2286000" cy="7038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t range for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105520" y="5105520"/>
            <a:ext cx="2286000" cy="13136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try to extrapolate beyond the range of observed X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4571640" y="3962160"/>
            <a:ext cx="609480" cy="1143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1599840" y="5333760"/>
            <a:ext cx="350532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2C2BB-48DA-4773-8681-0C07A8A43A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990720" y="1639800"/>
            <a:ext cx="76197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coefficient of determin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portion of the total variation in the dependent variable that is explained by variation in the independent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efficient of determination is also called </a:t>
            </a:r>
            <a:br>
              <a:rPr sz="2600"/>
            </a:b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r-squar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is denoted as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0" lang="en-US" sz="26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efficient of Determination, r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809880" y="5715000"/>
                <a:ext cx="18320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2895480" y="5867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905120" y="4495680"/>
                <a:ext cx="57927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gression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rPr>
                            <m:lit/>
                            <m:nor/>
                          </m:rPr>
                          <m:t xml:space="preserve"> of squares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rPr>
                            <m:lit/>
                            <m:nor/>
                          </m:rPr>
                          <m:t xml:space="preserve"> sum of squar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B3C6-2821-4613-95BF-171F9A40FF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6934320" y="6019920"/>
            <a:ext cx="1066680" cy="7016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533520" y="4648320"/>
            <a:ext cx="990360" cy="2286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4114800"/>
            <a:ext cx="990360" cy="2286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0880" y="2133720"/>
            <a:ext cx="3124440" cy="457200"/>
          </a:xfrm>
          <a:prstGeom prst="ellipse">
            <a:avLst/>
          </a:prstGeom>
          <a:solidFill>
            <a:srgbClr val="c7daf7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733920" y="3809880"/>
            <a:ext cx="380880" cy="2286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657600" y="4648320"/>
            <a:ext cx="990720" cy="2286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57600" y="4114800"/>
            <a:ext cx="990720" cy="2286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cel Outpu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533520" y="1676520"/>
          <a:ext cx="8229600" cy="435744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"/>
          <p:cNvSpPr/>
          <p:nvPr/>
        </p:nvSpPr>
        <p:spPr>
          <a:xfrm flipV="1">
            <a:off x="3429000" y="1980720"/>
            <a:ext cx="533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105520" y="2446560"/>
            <a:ext cx="3692520" cy="10087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8.08% of the variation in house prices is explained by variation in square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523880" y="4191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23880" y="4800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011480" y="1523880"/>
                <a:ext cx="4579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6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0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 flipV="1">
            <a:off x="4114800" y="2286000"/>
            <a:ext cx="6094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3581280"/>
            <a:ext cx="419112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C35EE-78EE-4D52-AFA5-9B1B70B9CF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tandard Error of Estimat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tandard deviation of the variation of observations around the regression line is estimated 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209680" y="3200400"/>
                <a:ext cx="4484880" cy="15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SE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1447920" y="508968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E  = error sum of squ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36747-ADCE-4C55-B70E-FC4286578A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6781680" y="6019920"/>
            <a:ext cx="1143000" cy="7524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04920" y="2666880"/>
            <a:ext cx="3124080" cy="457200"/>
          </a:xfrm>
          <a:prstGeom prst="ellipse">
            <a:avLst/>
          </a:prstGeom>
          <a:solidFill>
            <a:srgbClr val="fde0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cel Outpu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533520" y="1676520"/>
          <a:ext cx="8229600" cy="4352760"/>
        </p:xfrm>
        <a:graphic>
          <a:graphicData uri="http://schemas.openxmlformats.org/drawingml/2006/table">
            <a:tbl>
              <a:tblPr/>
              <a:tblGrid>
                <a:gridCol w="1600200"/>
                <a:gridCol w="1066680"/>
                <a:gridCol w="1447920"/>
                <a:gridCol w="1079280"/>
                <a:gridCol w="792360"/>
                <a:gridCol w="1252440"/>
                <a:gridCol w="990720"/>
              </a:tblGrid>
              <a:tr h="276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6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0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justed 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8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3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nificance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34.9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8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65.56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8.19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00.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1" name=""/>
          <p:cNvSpPr/>
          <p:nvPr/>
        </p:nvSpPr>
        <p:spPr>
          <a:xfrm flipV="1">
            <a:off x="3276720" y="2133360"/>
            <a:ext cx="6094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886200" y="1828800"/>
                <a:ext cx="26877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0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1BA3B-38F2-4DDD-9D9D-2697CA35EC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ng Standard Err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97480" y="282096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413320" y="2973240"/>
            <a:ext cx="257508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4317200">
            <a:off x="5625720" y="38872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4317200">
            <a:off x="5625720" y="3582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4317200">
            <a:off x="7378200" y="25920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4317200">
            <a:off x="7530840" y="29728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14317200">
            <a:off x="6082920" y="381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14317200">
            <a:off x="7378200" y="32014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14317200">
            <a:off x="6921000" y="381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14317200">
            <a:off x="6997320" y="25920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14317200">
            <a:off x="6463800" y="27442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14317200">
            <a:off x="5549400" y="32014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14317200">
            <a:off x="5778000" y="2820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14317200">
            <a:off x="6159240" y="3389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4317200">
            <a:off x="6997320" y="3354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14317200">
            <a:off x="6616440" y="3506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14317200">
            <a:off x="6463800" y="3963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70600" y="2514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97480" y="4268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14317200">
            <a:off x="7759440" y="34300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14317200">
            <a:off x="6921000" y="3049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4317200">
            <a:off x="6768720" y="27442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14317200">
            <a:off x="6235200" y="3049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4317200">
            <a:off x="7461000" y="3590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65120" y="282096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380960" y="2973240"/>
            <a:ext cx="2575080" cy="87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4317200">
            <a:off x="1517400" y="3811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4317200">
            <a:off x="1593360" y="3582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14317200">
            <a:off x="3727080" y="28206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14317200">
            <a:off x="3498480" y="29728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4317200">
            <a:off x="1974600" y="3582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4317200">
            <a:off x="3346200" y="32014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14317200">
            <a:off x="3117600" y="29728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14317200">
            <a:off x="1821960" y="34300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14317200">
            <a:off x="2203200" y="32014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4317200">
            <a:off x="2964960" y="3354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14317200">
            <a:off x="2584080" y="35064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14317200">
            <a:off x="2279160" y="3582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038600" y="2514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65120" y="4268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14317200">
            <a:off x="2660400" y="32778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14317200">
            <a:off x="2889000" y="3049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rot="14317200">
            <a:off x="2431800" y="32014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14317200">
            <a:off x="3727080" y="304920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576960" y="41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15440" y="4199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1870200" y="4368960"/>
                <a:ext cx="11602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mall 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5981760" y="4370400"/>
                <a:ext cx="11365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rge 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1371600" y="1523880"/>
            <a:ext cx="6400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measure of the variation of observed Y values from the regre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66680" y="5029200"/>
            <a:ext cx="7467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always be judged relative to the size of the Y values in the samp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5791320"/>
            <a:ext cx="7467840" cy="74556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$41.33K i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ly small relative to house prices in the $200 - $300K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C9CE-D055-4A25-B220-34B9EA49F2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ssumptions of Regress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rmality of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values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re normally distributed for any given value of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moscedas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distribution of the errors has constant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dependence of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values are statistically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4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2236-AFE7-47D1-B35F-F78FD8ECF7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0284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idual Analysis for Linearit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523800" y="5943600"/>
          <a:ext cx="533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94360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1662120" y="5946840"/>
            <a:ext cx="184320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234120" y="6022800"/>
            <a:ext cx="126216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67440" y="5867280"/>
            <a:ext cx="13046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2400" y="4576680"/>
            <a:ext cx="0" cy="11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52400" y="5029200"/>
            <a:ext cx="3514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12394200">
            <a:off x="600840" y="4612320"/>
            <a:ext cx="5188680" cy="35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10"/>
                </a:moveTo>
                <a:arcTo wR="10800" hR="10800" stAng="3036" swAng="5969082"/>
                <a:lnTo>
                  <a:pt x="10800" y="10800"/>
                </a:lnTo>
                <a:close/>
              </a:path>
              <a:path fill="none" w="21600" h="21600">
                <a:moveTo>
                  <a:pt x="21600" y="10810"/>
                </a:moveTo>
                <a:arcTo wR="10800" hR="10800" stAng="3036" swAng="5969082"/>
              </a:path>
            </a:pathLst>
          </a:custGeom>
          <a:noFill/>
          <a:ln cap="rnd"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12394200">
            <a:off x="768960" y="5490720"/>
            <a:ext cx="5187600" cy="35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10"/>
                </a:moveTo>
                <a:arcTo wR="10800" hR="10800" stAng="3036" swAng="5717185"/>
                <a:lnTo>
                  <a:pt x="10800" y="10800"/>
                </a:lnTo>
                <a:close/>
              </a:path>
              <a:path fill="none" w="21600" h="21600">
                <a:moveTo>
                  <a:pt x="21600" y="10810"/>
                </a:moveTo>
                <a:arcTo wR="10800" hR="10800" stAng="3036" swAng="5717185"/>
              </a:path>
            </a:pathLst>
          </a:custGeom>
          <a:noFill/>
          <a:ln cap="rnd"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81000" y="5334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285920" y="5334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3384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962440" y="4495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26700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666800" y="5181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35268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81280" y="5181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58128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8620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96244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27664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0524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2400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20960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43820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431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58120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81944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038480" y="5334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04804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267080" y="4800600"/>
            <a:ext cx="38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16200000">
            <a:off x="-15012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172120" y="5033880"/>
            <a:ext cx="350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172120" y="441972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610480" y="4800600"/>
            <a:ext cx="40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14960" y="4576680"/>
            <a:ext cx="3195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91280" y="5491080"/>
            <a:ext cx="3119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57920" y="4805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553000" y="4653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17212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32440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48440" y="4653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23880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238800" y="4576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5300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000920" y="4576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543720" y="472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391440" y="5262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3424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686720" y="4805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000920" y="518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696000" y="5033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86720" y="5110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15320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305840" y="5262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81800" y="472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67600" y="5262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915320" y="4653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296200" y="4881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915320" y="495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52400" y="236700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52400" y="388620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752400" y="228564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14317200">
            <a:off x="1133280" y="3580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4317200">
            <a:off x="1514160" y="3428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14317200">
            <a:off x="288576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rot="14317200">
            <a:off x="31143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14317200">
            <a:off x="3580920" y="2133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14317200">
            <a:off x="181908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14317200">
            <a:off x="341928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rot="14317200">
            <a:off x="380952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14317200">
            <a:off x="380952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4317200">
            <a:off x="411444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4317200">
            <a:off x="3276360" y="2057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4317200">
            <a:off x="242856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14317200">
            <a:off x="258084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4317200">
            <a:off x="2285640" y="2361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14317200">
            <a:off x="136188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14317200">
            <a:off x="159048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rot="14317200">
            <a:off x="189504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14317200">
            <a:off x="273348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14317200">
            <a:off x="19713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14317200">
            <a:off x="4190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14317200">
            <a:off x="219996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353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038480" y="3657600"/>
            <a:ext cx="46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5105160" y="2325600"/>
            <a:ext cx="6120" cy="156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5111640" y="224424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rot="14317200">
            <a:off x="5171760" y="3504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rot="14317200">
            <a:off x="540036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14317200">
            <a:off x="7076880" y="2133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14317200">
            <a:off x="72291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14317200">
            <a:off x="783864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14317200">
            <a:off x="562896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14317200">
            <a:off x="73814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rot="14317200">
            <a:off x="783864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14317200">
            <a:off x="7991280" y="1939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14317200">
            <a:off x="753408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14317200">
            <a:off x="6467040" y="3123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4317200">
            <a:off x="6543360" y="2514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rot="14317200">
            <a:off x="6162480" y="2361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14317200">
            <a:off x="524808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rot="14317200">
            <a:off x="5552640" y="2742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14317200">
            <a:off x="5857560" y="293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14317200">
            <a:off x="677196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4317200">
            <a:off x="623844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14317200">
            <a:off x="821988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14317200">
            <a:off x="60098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rot="14317200">
            <a:off x="8372160" y="2133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787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381880" y="3657600"/>
            <a:ext cx="39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095800" y="3886200"/>
            <a:ext cx="335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4317200">
            <a:off x="707688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426888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875A-C5FE-48FE-B36C-4E2E8597A0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824120"/>
            <a:ext cx="7924680" cy="4728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and interpret confidence intervals for the regression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urbin-Watson statistic to check for auto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confidence and prediction intervals around an estimated Y value for a give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some potential problems if regression analysis is used in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803DC-3F50-4604-BF13-25A2B6576A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idual Analysis for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moscedasticity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452520" y="5715000"/>
          <a:ext cx="576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5715000"/>
                    <a:ext cx="576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/>
          <p:cNvSpPr/>
          <p:nvPr/>
        </p:nvSpPr>
        <p:spPr>
          <a:xfrm>
            <a:off x="1138320" y="5791320"/>
            <a:ext cx="335736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stant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181480" y="5565600"/>
            <a:ext cx="9144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864400" y="5732640"/>
            <a:ext cx="297468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909720" y="4424400"/>
            <a:ext cx="0" cy="136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914400" y="5029200"/>
            <a:ext cx="32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219320" y="4114440"/>
            <a:ext cx="2738160" cy="757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219320" y="5257800"/>
            <a:ext cx="2662200" cy="452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290600" y="4915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09920" y="4610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51920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67148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05272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1286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433600" y="4915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82412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7288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043080" y="53722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95720" y="4762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967120" y="4457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814480" y="4838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738520" y="5067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509920" y="5219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652920" y="48387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58128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576600" y="5448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271680" y="5143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1148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253120" y="5029200"/>
            <a:ext cx="32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253120" y="4390920"/>
            <a:ext cx="0" cy="136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458200" y="48006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524560" y="4572000"/>
            <a:ext cx="2967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524560" y="5410080"/>
            <a:ext cx="2967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4817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09120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7103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86260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32908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48172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31052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31980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472080" y="4572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70068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92928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624720" y="502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7677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005600" y="4800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23420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76772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539120" y="4876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8224920" y="4648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996320" y="495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377200" y="5105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909720" y="2519280"/>
            <a:ext cx="0" cy="15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909720" y="4038480"/>
            <a:ext cx="3352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909720" y="243792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rot="14317200">
            <a:off x="12139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14317200">
            <a:off x="15951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4317200">
            <a:off x="2814120" y="1980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4317200">
            <a:off x="3119040" y="3123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14317200">
            <a:off x="3423960" y="2057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14317200">
            <a:off x="197604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14317200">
            <a:off x="33476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14317200">
            <a:off x="365256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14317200">
            <a:off x="3499920" y="1676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14317200">
            <a:off x="3652560" y="2285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rot="14317200">
            <a:off x="3195360" y="2361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rot="14317200">
            <a:off x="250956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rot="14317200">
            <a:off x="281412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rot="14317200">
            <a:off x="243324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14317200">
            <a:off x="14425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rot="14317200">
            <a:off x="17474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rot="14317200">
            <a:off x="2128320" y="32763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rot="14317200">
            <a:off x="27381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14317200">
            <a:off x="3804840" y="2742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rot="14317200">
            <a:off x="235692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7600" y="205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1214280" y="1752480"/>
            <a:ext cx="1905120" cy="15242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1214280" y="3657240"/>
            <a:ext cx="2743200" cy="4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191120" y="380988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8534520" y="37339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5181120" y="2325600"/>
            <a:ext cx="11160" cy="163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181480" y="39625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192640" y="2320560"/>
            <a:ext cx="34290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rot="14317200">
            <a:off x="5328720" y="32349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rot="14317200">
            <a:off x="548136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rot="14317200">
            <a:off x="708624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rot="14317200">
            <a:off x="776736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14317200">
            <a:off x="586224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rot="14317200">
            <a:off x="7538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14317200">
            <a:off x="7767360" y="2819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rot="14317200">
            <a:off x="7935480" y="2437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rot="14317200">
            <a:off x="7310160" y="2209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rot="14317200">
            <a:off x="662436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rot="14317200">
            <a:off x="6700320" y="2666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rot="14317200">
            <a:off x="6395760" y="2590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rot="14317200">
            <a:off x="5557320" y="3352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rot="14317200">
            <a:off x="5709960" y="3082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rot="14317200">
            <a:off x="6090840" y="3200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rot="14317200">
            <a:off x="6928920" y="29714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rot="14317200">
            <a:off x="8224560" y="2625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rot="14317200">
            <a:off x="6243120" y="28951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970520" y="1940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rot="14317200">
            <a:off x="8071920" y="1980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481720" y="1905120"/>
            <a:ext cx="2666880" cy="9144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634000" y="2971800"/>
            <a:ext cx="2666880" cy="838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rot="16200000">
            <a:off x="-7416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rot="16200000">
            <a:off x="4345200" y="48751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0471-FFBF-41D5-9E9B-A785866559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295280" y="2124000"/>
            <a:ext cx="2667240" cy="4669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715000" y="2514600"/>
            <a:ext cx="2362320" cy="4665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304920" y="1752480"/>
          <a:ext cx="104112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10411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9" name=""/>
          <p:cNvSpPr/>
          <p:nvPr/>
        </p:nvSpPr>
        <p:spPr>
          <a:xfrm>
            <a:off x="1143000" y="307800"/>
            <a:ext cx="696924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idual Analysis for In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278000" y="2116080"/>
            <a:ext cx="331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t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867280" y="2496960"/>
            <a:ext cx="283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066680" y="2946240"/>
            <a:ext cx="0" cy="1390680"/>
          </a:xfrm>
          <a:prstGeom prst="line">
            <a:avLst/>
          </a:prstGeom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066680" y="3575160"/>
            <a:ext cx="3073680" cy="0"/>
          </a:xfrm>
          <a:prstGeom prst="line">
            <a:avLst/>
          </a:prstGeom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173480" y="335592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349280" y="2895120"/>
            <a:ext cx="2559240" cy="7556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1501920" y="3352320"/>
            <a:ext cx="2482560" cy="7556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600200" y="35402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523880" y="37688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05120" y="3463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828800" y="3692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209680" y="3463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219320" y="3616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971800" y="3235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743200" y="33876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514600" y="3311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657600" y="31590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352680" y="30830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200400" y="331164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886200" y="3006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43600" y="3809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257800" y="3562200"/>
            <a:ext cx="0" cy="1390680"/>
          </a:xfrm>
          <a:prstGeom prst="line">
            <a:avLst/>
          </a:prstGeom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257800" y="4191120"/>
            <a:ext cx="3073320" cy="0"/>
          </a:xfrm>
          <a:prstGeom prst="line">
            <a:avLst/>
          </a:prstGeom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288280" y="396252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391000" y="3733920"/>
            <a:ext cx="2787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391000" y="4572000"/>
            <a:ext cx="2787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94360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715000" y="4114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1008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257800" y="3962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562720" y="3809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934320" y="3809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78168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629400" y="4114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400800" y="43434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477120" y="3809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172200" y="39625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54380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238880" y="4038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010280" y="4114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848720" y="4114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8001000" y="37339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543800" y="3886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8077320" y="42670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16200000">
            <a:off x="77760" y="3420360"/>
            <a:ext cx="130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16200000">
            <a:off x="4344840" y="4036320"/>
            <a:ext cx="130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66680" y="4857840"/>
            <a:ext cx="0" cy="1390680"/>
          </a:xfrm>
          <a:prstGeom prst="line">
            <a:avLst/>
          </a:prstGeom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066680" y="5486400"/>
            <a:ext cx="3073680" cy="0"/>
          </a:xfrm>
          <a:prstGeom prst="line">
            <a:avLst/>
          </a:prstGeom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173480" y="5257800"/>
            <a:ext cx="4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52480" y="51814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447920" y="5257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905120" y="53751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3720" y="5638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362320" y="57913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219320" y="55278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971800" y="514656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743200" y="52992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90920" y="5638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581280" y="56386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52680" y="548640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200400" y="522288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886200" y="5562720"/>
            <a:ext cx="228600" cy="22860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rot="16200000">
            <a:off x="78120" y="533232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116000" y="5003640"/>
            <a:ext cx="3303720" cy="657360"/>
          </a:xfrm>
          <a:custGeom>
            <a:avLst/>
            <a:gdLst/>
            <a:ahLst/>
            <a:rect l="l" t="t" r="r" b="b"/>
            <a:pathLst>
              <a:path w="2081" h="414">
                <a:moveTo>
                  <a:pt x="11" y="388"/>
                </a:moveTo>
                <a:cubicBezTo>
                  <a:pt x="20" y="381"/>
                  <a:pt x="0" y="414"/>
                  <a:pt x="65" y="352"/>
                </a:cubicBezTo>
                <a:cubicBezTo>
                  <a:pt x="130" y="290"/>
                  <a:pt x="273" y="8"/>
                  <a:pt x="401" y="16"/>
                </a:cubicBezTo>
                <a:cubicBezTo>
                  <a:pt x="529" y="24"/>
                  <a:pt x="697" y="400"/>
                  <a:pt x="833" y="400"/>
                </a:cubicBezTo>
                <a:cubicBezTo>
                  <a:pt x="969" y="400"/>
                  <a:pt x="1073" y="32"/>
                  <a:pt x="1217" y="16"/>
                </a:cubicBezTo>
                <a:cubicBezTo>
                  <a:pt x="1361" y="0"/>
                  <a:pt x="1553" y="280"/>
                  <a:pt x="1697" y="304"/>
                </a:cubicBezTo>
                <a:cubicBezTo>
                  <a:pt x="1841" y="328"/>
                  <a:pt x="2017" y="184"/>
                  <a:pt x="2081" y="16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192320" y="5551560"/>
            <a:ext cx="3398760" cy="668160"/>
          </a:xfrm>
          <a:custGeom>
            <a:avLst/>
            <a:gdLst/>
            <a:ahLst/>
            <a:rect l="l" t="t" r="r" b="b"/>
            <a:pathLst>
              <a:path w="2141" h="421">
                <a:moveTo>
                  <a:pt x="11" y="397"/>
                </a:moveTo>
                <a:cubicBezTo>
                  <a:pt x="20" y="392"/>
                  <a:pt x="0" y="421"/>
                  <a:pt x="65" y="359"/>
                </a:cubicBezTo>
                <a:cubicBezTo>
                  <a:pt x="130" y="297"/>
                  <a:pt x="273" y="15"/>
                  <a:pt x="401" y="23"/>
                </a:cubicBezTo>
                <a:cubicBezTo>
                  <a:pt x="529" y="31"/>
                  <a:pt x="697" y="407"/>
                  <a:pt x="833" y="407"/>
                </a:cubicBezTo>
                <a:cubicBezTo>
                  <a:pt x="969" y="407"/>
                  <a:pt x="1072" y="46"/>
                  <a:pt x="1217" y="23"/>
                </a:cubicBezTo>
                <a:cubicBezTo>
                  <a:pt x="1362" y="0"/>
                  <a:pt x="1549" y="262"/>
                  <a:pt x="1703" y="271"/>
                </a:cubicBezTo>
                <a:cubicBezTo>
                  <a:pt x="1857" y="280"/>
                  <a:pt x="2050" y="119"/>
                  <a:pt x="2141" y="79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72428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105520" y="2286000"/>
            <a:ext cx="9144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CE17-5DA6-4E78-B377-98CC57A91FB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7" name=""/>
          <p:cNvGraphicFramePr/>
          <p:nvPr/>
        </p:nvGraphicFramePr>
        <p:xfrm>
          <a:off x="3352680" y="1828800"/>
          <a:ext cx="57150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828800"/>
                    <a:ext cx="5715000" cy="41148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cel Residual Outpu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228600" y="1981080"/>
          <a:ext cx="3048120" cy="4057920"/>
        </p:xfrm>
        <a:graphic>
          <a:graphicData uri="http://schemas.openxmlformats.org/drawingml/2006/table">
            <a:tbl>
              <a:tblPr/>
              <a:tblGrid>
                <a:gridCol w="533520"/>
                <a:gridCol w="1295280"/>
                <a:gridCol w="1219320"/>
              </a:tblGrid>
              <a:tr h="3222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 OUTPU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icted House Pric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ua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.923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.9231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3.876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123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.8534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4.06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371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.99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.99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8.38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9.388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6.202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797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7.179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3.179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.66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.332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4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9.85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>
            <a:off x="3886200" y="6019920"/>
            <a:ext cx="51814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appear to vio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regression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9165-A697-4E01-A9FA-02108AA2A0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1066680" y="22093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data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llected over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ct if autocorrelation i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correlation exists if residuals in one time period are related to residuals in another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asuring Autocorrelation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Durbin-Watson Statistic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72E5B-02FC-489F-9DD0-401942CE92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4800600" y="3352680"/>
            <a:ext cx="2166840" cy="1122480"/>
          </a:xfrm>
          <a:custGeom>
            <a:avLst/>
            <a:gdLst/>
            <a:ahLst/>
            <a:rect l="l" t="t" r="r" b="b"/>
            <a:pathLst>
              <a:path w="1566" h="852">
                <a:moveTo>
                  <a:pt x="0" y="486"/>
                </a:moveTo>
                <a:lnTo>
                  <a:pt x="318" y="64"/>
                </a:lnTo>
                <a:lnTo>
                  <a:pt x="626" y="852"/>
                </a:lnTo>
                <a:lnTo>
                  <a:pt x="952" y="424"/>
                </a:lnTo>
                <a:lnTo>
                  <a:pt x="1264" y="0"/>
                </a:lnTo>
                <a:lnTo>
                  <a:pt x="1566" y="592"/>
                </a:ln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utocorrel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1174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utocorrelation is correlation of the errors (residuals)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2120" y="54100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ates the regression assumption that residuals are random and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3429000" y="2362320"/>
          <a:ext cx="4648320" cy="297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362320"/>
                    <a:ext cx="4648320" cy="29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"/>
          <p:cNvSpPr/>
          <p:nvPr/>
        </p:nvSpPr>
        <p:spPr>
          <a:xfrm>
            <a:off x="380880" y="342900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, residuals show a cyclic pattern, not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EDD3-5B23-4BA5-96EC-D685254DF9D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Durbin-Watson Statistic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523880" y="4191120"/>
                <a:ext cx="219096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4343400" y="4114800"/>
            <a:ext cx="45720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he possible range is 0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≤ D ≤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D should be close to 2 if H</a:t>
            </a:r>
            <a:r>
              <a:rPr b="0" lang="en-US" sz="2000" spc="-1" strike="noStrike" baseline="-25000">
                <a:solidFill>
                  <a:srgbClr val="1c1c1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D less than 2 may signal positive autocorrelation, D greater than 2 may signal negative auto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95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urbin-Watson statistic is used to test for auto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286000" y="2637000"/>
            <a:ext cx="4495680" cy="95004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siduals are not cor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correlation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2F35-E915-4094-8970-B1277044F88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for Positive Autocorrel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2743200"/>
            <a:ext cx="79246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Durbin-Watson test statistic =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Durbin-Watson Statistic can be found using PHSt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4495680"/>
            <a:ext cx="4648320" cy="5101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rule: 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D &lt;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676520" y="1600200"/>
            <a:ext cx="5943600" cy="11167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itive autocorrelation does no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itive autocorrelation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600200" y="5715000"/>
            <a:ext cx="647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600200" y="5486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657600" y="5486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867280" y="5486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8077320" y="5486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44792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715000" y="5943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924680" y="5943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429000" y="5943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057400" y="5334120"/>
            <a:ext cx="1066680" cy="370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172200" y="5334120"/>
            <a:ext cx="1752480" cy="3708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85800" y="3657600"/>
            <a:ext cx="792468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value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Durbin-Watson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sample size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umber of independent variables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5334120"/>
            <a:ext cx="1371600" cy="3373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nc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590920" y="4952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81FF4-21B8-431A-95EB-5919F754C2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657600" y="4724280"/>
            <a:ext cx="0" cy="381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3505320" cy="587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with  n = 2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380880" y="2666880"/>
          <a:ext cx="3733560" cy="2073240"/>
        </p:xfrm>
        <a:graphic>
          <a:graphicData uri="http://schemas.openxmlformats.org/drawingml/2006/table">
            <a:tbl>
              <a:tblPr/>
              <a:tblGrid>
                <a:gridCol w="2361960"/>
                <a:gridCol w="1371600"/>
              </a:tblGrid>
              <a:tr h="33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rbin-Watson Calcu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 of Squared Difference of Res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96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 of Squared Res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9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rbin-Watson Stat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4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b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7" name=""/>
          <p:cNvGraphicFramePr/>
          <p:nvPr/>
        </p:nvGraphicFramePr>
        <p:xfrm>
          <a:off x="4038480" y="1447920"/>
          <a:ext cx="4876920" cy="33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447920"/>
                    <a:ext cx="487692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PlaceHolder 2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for Positive Autocorrel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62912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0492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/PHStat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2287440" y="5124600"/>
                <a:ext cx="443232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9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49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0019-7B97-4233-9506-7E58E2DB5C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2971800" y="51055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n = 25 and there is k = 1 one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Durbin-Watson table,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1.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 = 1.00494 &lt; d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1.29, 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nclude that significant positive autocorrelation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the linear model is not the appropriate model to forecas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for Positive Autocorrel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62912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143000" y="4267080"/>
            <a:ext cx="3581280" cy="9460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ci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1.00494 &lt;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600200" y="5562720"/>
            <a:ext cx="647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60020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65760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86728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807732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44792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334120" y="5867280"/>
            <a:ext cx="121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=1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9246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124080" y="5867280"/>
            <a:ext cx="114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=1.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057400" y="5597640"/>
            <a:ext cx="1066680" cy="370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172200" y="5597640"/>
            <a:ext cx="1752480" cy="37080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038480" y="5597640"/>
            <a:ext cx="1371600" cy="33732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nc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1AFE8-5BF7-41AD-9E2B-27B2D0045C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1676520" y="2895480"/>
            <a:ext cx="6324480" cy="8384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ference about the Slope: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 T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143000" y="1563840"/>
            <a:ext cx="7848720" cy="4913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test for a population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linear relationship between X and 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 and alternative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linear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inear relationship does ex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3048120" y="4419720"/>
                <a:ext cx="19476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3200400" y="6019920"/>
                <a:ext cx="1676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5" name=""/>
          <p:cNvSpPr/>
          <p:nvPr/>
        </p:nvSpPr>
        <p:spPr>
          <a:xfrm>
            <a:off x="5486400" y="4343400"/>
            <a:ext cx="350532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gression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hypothesized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f the 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35435-C934-4F11-A18B-C59E39CC26D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rrelation vs. Regress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3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scatter pl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or scatter diagram) can be used to show the relationship between two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Corre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alysis is used to measure strength of the association (linear relationship) between two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 is only concerned with strength of the relations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ausal effect is implied with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 was first presented in Chapt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B8C5D-523F-4E0D-B664-44B0C2C5BD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228600" y="1905120"/>
          <a:ext cx="2819520" cy="39672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 Price in $1000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 Fee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027320" y="2438280"/>
                <a:ext cx="4233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use pri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83 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8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8" name=""/>
          <p:cNvSpPr/>
          <p:nvPr/>
        </p:nvSpPr>
        <p:spPr>
          <a:xfrm>
            <a:off x="4419720" y="2362320"/>
            <a:ext cx="628560" cy="85680"/>
          </a:xfrm>
          <a:custGeom>
            <a:avLst/>
            <a:gdLst/>
            <a:ahLst/>
            <a:rect l="l" t="t" r="r" b="b"/>
            <a:pathLst>
              <a:path w="396" h="54">
                <a:moveTo>
                  <a:pt x="0" y="48"/>
                </a:moveTo>
                <a:lnTo>
                  <a:pt x="204" y="0"/>
                </a:lnTo>
                <a:lnTo>
                  <a:pt x="396" y="54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505320" y="1747800"/>
            <a:ext cx="502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d Regress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809880" y="3505320"/>
            <a:ext cx="4800600" cy="13766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 of this model is 0.10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quare footage of the house affect its sales p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ference about the Slope: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 T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295640" cy="8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4EF4-28FA-464C-AECA-92C528DF264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 Ex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68040"/>
            <a:ext cx="1524240" cy="11034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514600" y="22096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2743200" y="2743200"/>
          <a:ext cx="6324480" cy="957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938" name=""/>
          <p:cNvSpPr/>
          <p:nvPr/>
        </p:nvSpPr>
        <p:spPr>
          <a:xfrm>
            <a:off x="4495680" y="3429000"/>
            <a:ext cx="1105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7153200" y="338148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5448240" y="2514600"/>
            <a:ext cx="102888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6934320" y="3733920"/>
            <a:ext cx="5331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324480" y="2057400"/>
            <a:ext cx="533520" cy="5101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1828800" y="3886200"/>
                <a:ext cx="509112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977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29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93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il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438280" y="5797440"/>
                <a:ext cx="4496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DIST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3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39398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5" name=""/>
          <p:cNvSpPr/>
          <p:nvPr/>
        </p:nvSpPr>
        <p:spPr>
          <a:xfrm flipV="1">
            <a:off x="6934320" y="3809520"/>
            <a:ext cx="1752480" cy="2133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8143920" y="335268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4739-9958-4041-A5EA-9AB9D51C25C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ferences about the Slope: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 Ex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1600200" cy="9907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1080" y="1523880"/>
            <a:ext cx="4038840" cy="53352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: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 = 3.3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572000" y="5262480"/>
            <a:ext cx="4572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re is sufficient evidence that square footage affects house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514600" y="2209680"/>
            <a:ext cx="366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xcel out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800600" y="4343400"/>
            <a:ext cx="3971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3" name=""/>
          <p:cNvGraphicFramePr/>
          <p:nvPr/>
        </p:nvGraphicFramePr>
        <p:xfrm>
          <a:off x="2743200" y="2743200"/>
          <a:ext cx="6324480" cy="957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676160"/>
                <a:gridCol w="955800"/>
                <a:gridCol w="94932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954" name=""/>
          <p:cNvSpPr/>
          <p:nvPr/>
        </p:nvSpPr>
        <p:spPr>
          <a:xfrm>
            <a:off x="4495680" y="3429000"/>
            <a:ext cx="1105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8143920" y="3352680"/>
            <a:ext cx="1000080" cy="352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5448240" y="2514600"/>
            <a:ext cx="102888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8001000" y="2438280"/>
            <a:ext cx="38088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772400" y="2057400"/>
            <a:ext cx="380880" cy="4597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324480" y="2057400"/>
            <a:ext cx="533520" cy="5101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114800" y="3962520"/>
            <a:ext cx="45720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0481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04920" y="5562720"/>
            <a:ext cx="99036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814480" y="4775040"/>
            <a:ext cx="851040" cy="561960"/>
          </a:xfrm>
          <a:custGeom>
            <a:avLst/>
            <a:gdLst/>
            <a:ahLst/>
            <a:rect l="l" t="t" r="r" b="b"/>
            <a:pathLst>
              <a:path w="536" h="354">
                <a:moveTo>
                  <a:pt x="536" y="351"/>
                </a:moveTo>
                <a:lnTo>
                  <a:pt x="535" y="312"/>
                </a:lnTo>
                <a:lnTo>
                  <a:pt x="315" y="273"/>
                </a:lnTo>
                <a:lnTo>
                  <a:pt x="188" y="208"/>
                </a:lnTo>
                <a:lnTo>
                  <a:pt x="117" y="153"/>
                </a:lnTo>
                <a:lnTo>
                  <a:pt x="3" y="0"/>
                </a:lnTo>
                <a:lnTo>
                  <a:pt x="0" y="354"/>
                </a:lnTo>
                <a:lnTo>
                  <a:pt x="527" y="351"/>
                </a:lnTo>
                <a:lnTo>
                  <a:pt x="527" y="347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17680" y="4842000"/>
            <a:ext cx="853920" cy="495000"/>
          </a:xfrm>
          <a:custGeom>
            <a:avLst/>
            <a:gdLst/>
            <a:ahLst/>
            <a:rect l="l" t="t" r="r" b="b"/>
            <a:pathLst>
              <a:path w="538" h="312">
                <a:moveTo>
                  <a:pt x="0" y="312"/>
                </a:moveTo>
                <a:lnTo>
                  <a:pt x="0" y="267"/>
                </a:lnTo>
                <a:lnTo>
                  <a:pt x="219" y="235"/>
                </a:lnTo>
                <a:lnTo>
                  <a:pt x="330" y="190"/>
                </a:lnTo>
                <a:lnTo>
                  <a:pt x="403" y="141"/>
                </a:lnTo>
                <a:lnTo>
                  <a:pt x="537" y="0"/>
                </a:lnTo>
                <a:lnTo>
                  <a:pt x="538" y="309"/>
                </a:lnTo>
                <a:lnTo>
                  <a:pt x="18" y="309"/>
                </a:lnTo>
                <a:lnTo>
                  <a:pt x="18" y="305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33520" y="3962520"/>
            <a:ext cx="160020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133720" y="3962520"/>
            <a:ext cx="15238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57200" y="53341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990720" y="480060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380880" y="4495680"/>
            <a:ext cx="106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3720" y="3962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7160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371600" y="5562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295280" y="5562720"/>
            <a:ext cx="1524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28600" y="5562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9051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819520" y="5410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971800" y="4770360"/>
            <a:ext cx="204840" cy="411120"/>
          </a:xfrm>
          <a:custGeom>
            <a:avLst/>
            <a:gdLst/>
            <a:ahLst/>
            <a:rect l="l" t="t" r="r" b="b"/>
            <a:pathLst>
              <a:path w="48" h="249">
                <a:moveTo>
                  <a:pt x="48" y="0"/>
                </a:moveTo>
                <a:lnTo>
                  <a:pt x="0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2894760" y="449568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=.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3351960" y="6019920"/>
            <a:ext cx="83844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152280" y="3809880"/>
            <a:ext cx="1524240" cy="332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10-2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819520" y="55627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505320" y="533376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114800" y="3962520"/>
            <a:ext cx="2514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E42B2-BE6D-450D-B049-612EA557AEA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fidence Interval Estimate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or the Slop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066680" y="1600200"/>
            <a:ext cx="77058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fidence Interval Estimate of the Slop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04920" y="3352680"/>
            <a:ext cx="450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Printout for House Pr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5181480"/>
            <a:ext cx="7858080" cy="8204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95% level of confidence, the confidence interval for the slope is (0.0337, 0.18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490920" y="2133720"/>
                <a:ext cx="2695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990" name=""/>
          <p:cNvGraphicFramePr/>
          <p:nvPr/>
        </p:nvGraphicFramePr>
        <p:xfrm>
          <a:off x="304920" y="3733920"/>
          <a:ext cx="8381880" cy="8665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991" name=""/>
          <p:cNvSpPr/>
          <p:nvPr/>
        </p:nvSpPr>
        <p:spPr>
          <a:xfrm>
            <a:off x="662004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776304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248520" y="365760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057400" y="42670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552360" y="2438280"/>
            <a:ext cx="1143000" cy="33228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f. = n -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84170-386A-4430-A2D9-D754B207270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1143000" y="3200400"/>
            <a:ext cx="6934320" cy="155196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units of the house price variable is $1000s, we are 95% confident that the average impact on sales price is between $33.70 and $185.80 per square foot of hous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304920" y="1905120"/>
          <a:ext cx="8381880" cy="866520"/>
        </p:xfrm>
        <a:graphic>
          <a:graphicData uri="http://schemas.openxmlformats.org/drawingml/2006/table">
            <a:tbl>
              <a:tblPr/>
              <a:tblGrid>
                <a:gridCol w="1447560"/>
                <a:gridCol w="1219320"/>
                <a:gridCol w="1447920"/>
                <a:gridCol w="990360"/>
                <a:gridCol w="881280"/>
                <a:gridCol w="1252440"/>
                <a:gridCol w="114300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effici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Err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St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-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cep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248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.03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92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5.577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.073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uare Fe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9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2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29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33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5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998" name=""/>
          <p:cNvSpPr/>
          <p:nvPr/>
        </p:nvSpPr>
        <p:spPr>
          <a:xfrm>
            <a:off x="6620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76304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248520" y="1828800"/>
            <a:ext cx="259056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057400" y="2438280"/>
            <a:ext cx="1000080" cy="428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219320" y="5029200"/>
            <a:ext cx="6867360" cy="11624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95% confidence interval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not includ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is a significant relationship between house price and square feet at the .05 level of signific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fidence Interval Estimate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or the Slop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07EF0-7E68-49E3-BC95-6DF7DBF04F4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fidence Interval for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Average Y, Given X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914400" y="1676520"/>
            <a:ext cx="7391520" cy="8830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an value of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486400" y="4495680"/>
            <a:ext cx="3505320" cy="6375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interval varies according to distance away from mean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209680" y="2819520"/>
                <a:ext cx="518184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nfidence interval for μ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8534520" y="48420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rot="5400000">
            <a:off x="5676480" y="495612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89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941480" y="5527800"/>
                <a:ext cx="48024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S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91621-70BB-4E14-9CEA-52E1A31C4A3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ediction Interval for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 Individual Y, Given X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38200" y="160020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914400" y="1676520"/>
            <a:ext cx="7391520" cy="8830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 for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dividual value of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n a particula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5562720" y="434304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581280" y="5054760"/>
            <a:ext cx="525780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tra term adds to the interval width to reflect the added uncertainty for an individual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217600" y="2819520"/>
                <a:ext cx="502128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nfidence interval for Y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5410080" y="3657600"/>
            <a:ext cx="381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48D4-8BD1-483A-A55A-8C2BC00C0A2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stimation of Mean Values: Ex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95% confidence interval for the mean price of 2,000 square-foot ho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590920" y="3200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1366920" y="1600200"/>
            <a:ext cx="6786360" cy="57456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 for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|X=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274760" y="4114800"/>
                <a:ext cx="65674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2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8" name=""/>
          <p:cNvSpPr/>
          <p:nvPr/>
        </p:nvSpPr>
        <p:spPr>
          <a:xfrm>
            <a:off x="838080" y="5486400"/>
            <a:ext cx="7696440" cy="8204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dence interval endpoints are 280.66 -- 354.90, or from $280,660 -- $354,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EADA-EE72-471D-BC79-ACC62A09BC6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stimation of Individual Values: Ex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09480" y="2362320"/>
            <a:ext cx="8001000" cy="88092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95% confidence interval for an individual house with 2,000 square f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57200" y="3505320"/>
            <a:ext cx="807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Pric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17.85 ($1,0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590920" y="320040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4513320" y="3308400"/>
                <a:ext cx="163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5" name=""/>
          <p:cNvSpPr/>
          <p:nvPr/>
        </p:nvSpPr>
        <p:spPr>
          <a:xfrm>
            <a:off x="1600200" y="1600200"/>
            <a:ext cx="6176880" cy="5745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on Interval Estimate for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=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998640" y="4114800"/>
                <a:ext cx="71215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7" name=""/>
          <p:cNvSpPr/>
          <p:nvPr/>
        </p:nvSpPr>
        <p:spPr>
          <a:xfrm>
            <a:off x="838080" y="5486400"/>
            <a:ext cx="7696440" cy="8204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diction interval endpoints are 215.50 -- 420.07, or from $215,500 -- $420,0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3CD0-9708-49F7-921C-9C384F44364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inding Confidence and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ediction Intervals in Exc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Excel, us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HStat | regression | simple linear regression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eck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nfidence and prediction interval for X=”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x and enter the X-value and confidence level desi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1FF8-C5FA-4538-99F8-406EF33F162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7868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gression Analysi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gression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the value of a dependent variable based on the value of at least one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act of changes in an independent variable on the 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1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Dependent variab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 we wish to ex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1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Independent variab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 used to expl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the 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D260D-9560-4E9F-BFEC-5A69C51493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4114800" y="2438280"/>
            <a:ext cx="2666880" cy="503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title"/>
          </p:nvPr>
        </p:nvSpPr>
        <p:spPr>
          <a:xfrm>
            <a:off x="761760" y="3808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inding Confidence and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ediction Intervals in Exc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164040" cy="457200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3048120" y="2286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971800" y="4876920"/>
            <a:ext cx="106668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971800" y="5715000"/>
            <a:ext cx="106668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038480" y="5029200"/>
            <a:ext cx="4648320" cy="43560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Estimate fo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|X=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038480" y="5867280"/>
            <a:ext cx="4343400" cy="4356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Interval Estimate for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=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191120" y="4341960"/>
            <a:ext cx="46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194000" y="4038480"/>
            <a:ext cx="106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3809880" y="45720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048120" y="4419720"/>
            <a:ext cx="761760" cy="30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C867D-BB80-4DCB-8F03-BFAAA52EED4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itfalls of Regression Analys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05920" cy="4303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ing an awareness of the assumptions underlying least-squares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knowing how to evaluate the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knowing the alternatives to least-squares regression if a particular assumption is vio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regression model without knowledge of the subject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polating outside the relevant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DFC2-498F-4B16-A983-82AD47C9176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types of regression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assumptions of regression and corre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determining the simple linear regression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s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residual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measuring auto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AC475-2EC2-4533-9621-6B0B211266A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inference about the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d estimation of mean values and prediction of individu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possible pitfalls in regression and recommended strategies to avoi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4667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E5BD-6BA0-4310-9DA4-B2DD1C5DAF2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07868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imple Linear Regression Mod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2036520"/>
            <a:ext cx="6933960" cy="38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1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one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independent variabl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lationship between  X  and  Y  is described by a linear 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51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ges in  Y  are assumed to be caused by changes in  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83BEB-A3ED-4D8A-B6CD-8F9576CF0C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ypes of Relationship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4317200">
            <a:off x="266652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4317200">
            <a:off x="20570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4317200">
            <a:off x="182844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4317200">
            <a:off x="21333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76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0704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4317200">
            <a:off x="289512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4317200">
            <a:off x="25142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4317200">
            <a:off x="220932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4317200">
            <a:off x="1294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4317200">
            <a:off x="15998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76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317200">
            <a:off x="31237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070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4317200">
            <a:off x="601956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4317200">
            <a:off x="632412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4317200">
            <a:off x="7848360" y="4495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4317200">
            <a:off x="777204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4317200">
            <a:off x="64004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4317200">
            <a:off x="74671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4317200">
            <a:off x="73911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4317200">
            <a:off x="7314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4317200">
            <a:off x="761976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4317200">
            <a:off x="66290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4317200">
            <a:off x="7619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4317200">
            <a:off x="6857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82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4317200">
            <a:off x="60195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4317200">
            <a:off x="815292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4317200">
            <a:off x="66290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4317200">
            <a:off x="815292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4317200">
            <a:off x="784836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4317200">
            <a:off x="73911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4317200">
            <a:off x="70099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4317200">
            <a:off x="61718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4317200">
            <a:off x="64004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4317200">
            <a:off x="67053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4317200">
            <a:off x="7314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882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4317200">
            <a:off x="792432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076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3140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15000" y="1676520"/>
            <a:ext cx="320040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143000" y="2590560"/>
            <a:ext cx="236232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4724280"/>
            <a:ext cx="182880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2692440"/>
            <a:ext cx="2210040" cy="1117440"/>
          </a:xfrm>
          <a:custGeom>
            <a:avLst/>
            <a:gdLst/>
            <a:ahLst/>
            <a:rect l="l" t="t" r="r" b="b"/>
            <a:pathLst>
              <a:path w="1392" h="704">
                <a:moveTo>
                  <a:pt x="0" y="704"/>
                </a:moveTo>
                <a:cubicBezTo>
                  <a:pt x="244" y="384"/>
                  <a:pt x="488" y="64"/>
                  <a:pt x="720" y="32"/>
                </a:cubicBezTo>
                <a:cubicBezTo>
                  <a:pt x="952" y="0"/>
                  <a:pt x="1172" y="256"/>
                  <a:pt x="1392" y="512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4419720"/>
            <a:ext cx="1828800" cy="144756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912"/>
                </a:moveTo>
                <a:cubicBezTo>
                  <a:pt x="312" y="844"/>
                  <a:pt x="624" y="776"/>
                  <a:pt x="816" y="624"/>
                </a:cubicBezTo>
                <a:cubicBezTo>
                  <a:pt x="1008" y="472"/>
                  <a:pt x="1080" y="236"/>
                  <a:pt x="1152" y="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CBE0-F09A-4F5D-9508-8734346E67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ypes of Relationship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4317200">
            <a:off x="274284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4317200">
            <a:off x="137124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4317200">
            <a:off x="3123720" y="5790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4317200">
            <a:off x="17521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4317200">
            <a:off x="2514240" y="5486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4317200">
            <a:off x="281916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4317200">
            <a:off x="21333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4317200">
            <a:off x="129492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4317200">
            <a:off x="1599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4317200">
            <a:off x="19047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4317200">
            <a:off x="24379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4317200">
            <a:off x="236196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4317200">
            <a:off x="213336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76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0704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4317200">
            <a:off x="121896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4317200">
            <a:off x="14475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4317200">
            <a:off x="312372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4317200">
            <a:off x="32763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4317200">
            <a:off x="1676160" y="3504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4317200">
            <a:off x="3428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4317200">
            <a:off x="25905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4317200">
            <a:off x="25905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4317200">
            <a:off x="29714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4317200">
            <a:off x="2285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4317200">
            <a:off x="1676160" y="3200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4317200">
            <a:off x="1904760" y="308268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4317200">
            <a:off x="28191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4317200">
            <a:off x="228564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4317200">
            <a:off x="205704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76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070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47242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4317200">
            <a:off x="60955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4317200">
            <a:off x="6095520" y="4647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4317200">
            <a:off x="655272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4317200">
            <a:off x="7391160" y="5866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4317200">
            <a:off x="624816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4317200">
            <a:off x="693396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4317200">
            <a:off x="7314840" y="5409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4317200">
            <a:off x="723852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4317200">
            <a:off x="69339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4317200">
            <a:off x="6552720" y="4800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4317200">
            <a:off x="754344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4317200">
            <a:off x="7009920" y="5333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4317200">
            <a:off x="6781320" y="5714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88200" y="4465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943600" y="6172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24382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4317200">
            <a:off x="7086240" y="2514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4317200">
            <a:off x="6248160" y="3352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4317200">
            <a:off x="73148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4317200">
            <a:off x="7695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4317200">
            <a:off x="655272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4317200">
            <a:off x="6629040" y="36572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4317200">
            <a:off x="68576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4317200">
            <a:off x="739116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4317200">
            <a:off x="68576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4317200">
            <a:off x="624816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4317200">
            <a:off x="617184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4317200">
            <a:off x="67053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4317200">
            <a:off x="761976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4317200">
            <a:off x="708624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4317200">
            <a:off x="731484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88200" y="2255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39625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4317200">
            <a:off x="8152920" y="23619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0764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31400" y="606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1676520"/>
            <a:ext cx="266688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19920" y="1676520"/>
            <a:ext cx="259056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k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48320" y="1676520"/>
            <a:ext cx="0" cy="472428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47684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4317200">
            <a:off x="80006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14317200">
            <a:off x="784836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4317200">
            <a:off x="7619760" y="5562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4317200">
            <a:off x="8000640" y="5257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4317200">
            <a:off x="78483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4317200">
            <a:off x="8000640" y="5638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4317200">
            <a:off x="7314840" y="4723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4317200">
            <a:off x="6629040" y="43430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219320" y="2209320"/>
            <a:ext cx="205740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752480" y="2666520"/>
            <a:ext cx="205740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943600" y="20570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010280" y="2895480"/>
            <a:ext cx="16765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00200" y="45720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43000" y="4952880"/>
            <a:ext cx="167652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86600" y="4267080"/>
            <a:ext cx="152388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0" y="54864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371600" y="2514600"/>
            <a:ext cx="205740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95280" y="4724280"/>
            <a:ext cx="190512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172200" y="2209320"/>
            <a:ext cx="205740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24480" y="4724280"/>
            <a:ext cx="175284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4620-1D34-4008-B57C-74C86C4D72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ypes of Relationship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46483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4317200">
            <a:off x="54860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4317200">
            <a:off x="388584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4317200">
            <a:off x="540972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4317200">
            <a:off x="41144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4317200">
            <a:off x="502884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4317200">
            <a:off x="518112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4317200">
            <a:off x="4419360" y="5028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4317200">
            <a:off x="35049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4317200">
            <a:off x="3733560" y="4876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4317200">
            <a:off x="4190760" y="5105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4317200">
            <a:off x="487656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4317200">
            <a:off x="4647960" y="4952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4317200">
            <a:off x="4571640" y="5181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973600" y="4389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29000" y="60958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93040" y="5989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23623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4317200">
            <a:off x="4876560" y="2133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4317200">
            <a:off x="3580920" y="30477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4317200">
            <a:off x="540972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4317200">
            <a:off x="5562360" y="25905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4317200">
            <a:off x="396216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4317200">
            <a:off x="4114440" y="22093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4317200">
            <a:off x="4876560" y="28951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4317200">
            <a:off x="50288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4317200">
            <a:off x="5486040" y="2285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4317200">
            <a:off x="4571640" y="24379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4317200">
            <a:off x="3962160" y="31237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4317200">
            <a:off x="4190760" y="27428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4317200">
            <a:off x="518112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4317200">
            <a:off x="4571640" y="29714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4317200">
            <a:off x="4343040" y="32763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973600" y="2179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29000" y="3886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93040" y="3780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1600200"/>
            <a:ext cx="2133720" cy="3988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46676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4317200">
            <a:off x="3657240" y="266652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4317200">
            <a:off x="4800240" y="342864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4317200">
            <a:off x="5257440" y="2819160"/>
            <a:ext cx="228600" cy="228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81280" y="289548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05320" y="5181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8232F-9AFD-468E-8DC2-E27382C2CA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21:09:31Z</dcterms:created>
  <dc:creator>Dirk Yandell</dc:creator>
  <dc:description/>
  <dc:language>en-US</dc:language>
  <cp:lastModifiedBy>HP Pavilion</cp:lastModifiedBy>
  <cp:lastPrinted>1998-11-22T23:37:53Z</cp:lastPrinted>
  <dcterms:modified xsi:type="dcterms:W3CDTF">2004-11-24T16:16:47Z</dcterms:modified>
  <cp:revision>66</cp:revision>
  <dc:subject>Chapter 12</dc:subject>
  <dc:title>Statistics for Managers Using Microsoft Excel, 4/e</dc:title>
</cp:coreProperties>
</file>