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3.xlsx" ContentType="application/vnd.openxmlformats-officedocument.spreadsheetml.sheet"/>
  <Override PartName="/ppt/media/image9.wmf" ContentType="image/x-wmf"/>
  <Override PartName="/ppt/media/image13.wmf" ContentType="image/x-wmf"/>
  <Override PartName="/ppt/media/image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12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F6DE7-1897-4633-AB6E-D030BEA395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807732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236120"/>
            <a:ext cx="807732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B7E8F-04DD-4AFF-BC3B-117E4D24DE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2361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77000" y="42361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4FB7B-EC81-42C9-97ED-CBBA75F681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68680" y="186840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00000" y="186840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23612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68680" y="423612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00000" y="423612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D8937-0477-4E08-BEF9-E3A0581D53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0DD6F5-5D76-4C06-9412-CB2EF28C351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837720" y="18684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5E1C57-6750-4E23-A5B2-DBE896D130F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8A087D-3D30-498C-B4B3-16961B17CA6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1B336A-1185-4012-BEF4-7D597FFFCCD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408D6F-99B3-4C50-A8D5-C7842B70D28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228600"/>
            <a:ext cx="70786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4BFA10-2A86-428E-B3BB-B1C21CCC3EC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7720" y="42361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056715-8B81-4C09-9E7A-250071ACE4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8684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CA309-0CE3-4474-91C6-6116C735A4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77000" y="42361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ED1C87-C785-416F-A9D1-B6167D3CB99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7720" y="4236120"/>
            <a:ext cx="807732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0124B1-9327-4CA9-BC9B-AB0354EC190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807732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837720" y="4236120"/>
            <a:ext cx="807732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8E808E-EB0D-45A1-91D5-4F867331EDB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37720" y="42361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977000" y="42361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2E229D-E332-4644-BD02-3F5C9AD9BD6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68680" y="186840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300000" y="186840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837720" y="423612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68680" y="423612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300000" y="423612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EEBA7D-7DAF-429E-8266-846759BA27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2AB21-73F3-4689-9C53-A93BBB54F2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309E7-5AF2-4207-964C-4ED19AB927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715E0-F161-4A6A-9B98-6977430904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228600"/>
            <a:ext cx="70786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68083-F360-4CB0-ADDF-3FCADFD27C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2361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F11B6-CE30-4376-8788-2881BF36FB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77000" y="42361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3FCFE-AAF9-44FA-8B74-252A0D1634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236120"/>
            <a:ext cx="807732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4D689-D965-418B-8483-CDE5B96690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7720" y="18684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94000" indent="-2127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19160" indent="-212760">
              <a:spcBef>
                <a:spcPts val="700"/>
              </a:spcBef>
              <a:buClr>
                <a:srgbClr val="fd2b4e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609480"/>
            <a:ext cx="9009000" cy="1181160"/>
            <a:chOff x="0" y="609480"/>
            <a:chExt cx="9009000" cy="1181160"/>
          </a:xfrm>
        </p:grpSpPr>
        <p:grpSp>
          <p:nvGrpSpPr>
            <p:cNvPr id="3" name=""/>
            <p:cNvGrpSpPr/>
            <p:nvPr/>
          </p:nvGrpSpPr>
          <p:grpSpPr>
            <a:xfrm>
              <a:off x="290520" y="717480"/>
              <a:ext cx="711360" cy="471600"/>
              <a:chOff x="290520" y="717480"/>
              <a:chExt cx="711360" cy="471600"/>
            </a:xfrm>
          </p:grpSpPr>
          <p:sp>
            <p:nvSpPr>
              <p:cNvPr id="4" name=""/>
              <p:cNvSpPr/>
              <p:nvPr/>
            </p:nvSpPr>
            <p:spPr>
              <a:xfrm>
                <a:off x="290520" y="717480"/>
                <a:ext cx="437400" cy="4716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73560" y="717480"/>
                <a:ext cx="328320" cy="471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685800" y="1136520"/>
              <a:ext cx="466560" cy="473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88800" y="1136520"/>
              <a:ext cx="297000" cy="4730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28600" y="1371600"/>
              <a:ext cx="560520" cy="4190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1065240"/>
              <a:ext cx="560520" cy="4190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5040" y="609480"/>
              <a:ext cx="31680" cy="104796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316080" y="1428480"/>
              <a:ext cx="8692920" cy="54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ftr" idx="1"/>
          </p:nvPr>
        </p:nvSpPr>
        <p:spPr>
          <a:xfrm>
            <a:off x="152280" y="6537240"/>
            <a:ext cx="4648320" cy="324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marL="216000"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tatistics for Managers Using Microsoft Excel, 4e © 2004 Prentice-Hall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sldNum" idx="2"/>
          </p:nvPr>
        </p:nvSpPr>
        <p:spPr>
          <a:xfrm>
            <a:off x="6857640" y="65368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marL="216000"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hap 15-</a:t>
            </a:r>
            <a:fld id="{CFBEE994-5526-4037-8D95-EFC9A1FB457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833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9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35000" y="2438280"/>
            <a:ext cx="9009000" cy="1181160"/>
            <a:chOff x="135000" y="2438280"/>
            <a:chExt cx="9009000" cy="1181160"/>
          </a:xfrm>
        </p:grpSpPr>
        <p:grpSp>
          <p:nvGrpSpPr>
            <p:cNvPr id="52" name=""/>
            <p:cNvGrpSpPr/>
            <p:nvPr/>
          </p:nvGrpSpPr>
          <p:grpSpPr>
            <a:xfrm>
              <a:off x="425520" y="2546280"/>
              <a:ext cx="711360" cy="471600"/>
              <a:chOff x="425520" y="2546280"/>
              <a:chExt cx="711360" cy="471600"/>
            </a:xfrm>
          </p:grpSpPr>
          <p:sp>
            <p:nvSpPr>
              <p:cNvPr id="53" name=""/>
              <p:cNvSpPr/>
              <p:nvPr/>
            </p:nvSpPr>
            <p:spPr>
              <a:xfrm>
                <a:off x="425520" y="2546280"/>
                <a:ext cx="437400" cy="4716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08560" y="2546280"/>
                <a:ext cx="328320" cy="471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820800" y="2965320"/>
              <a:ext cx="466560" cy="473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23800" y="2965320"/>
              <a:ext cx="297000" cy="4730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63600" y="3200400"/>
              <a:ext cx="560520" cy="4190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5000" y="2894040"/>
              <a:ext cx="560520" cy="4190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70040" y="2438280"/>
              <a:ext cx="31680" cy="104796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51080" y="3257280"/>
              <a:ext cx="8692920" cy="54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2"/>
          <p:cNvSpPr>
            <a:spLocks noGrp="1"/>
          </p:cNvSpPr>
          <p:nvPr>
            <p:ph type="ftr" idx="3"/>
          </p:nvPr>
        </p:nvSpPr>
        <p:spPr>
          <a:xfrm>
            <a:off x="152280" y="6537240"/>
            <a:ext cx="4648320" cy="324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marL="216000"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tatistics for Managers Using Microsoft Excel, 4e © 2004 Prentice-Hall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Num" idx="4"/>
          </p:nvPr>
        </p:nvSpPr>
        <p:spPr>
          <a:xfrm>
            <a:off x="6857640" y="65368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marL="216000"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hap 15-</a:t>
            </a:r>
            <a:fld id="{075EF61C-302E-4A80-ADF3-B50D0AD3CDB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0" algn="ctr"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2480" algn="ctr"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81240" algn="ctr">
              <a:spcBef>
                <a:spcPts val="451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06400" algn="ctr">
              <a:spcBef>
                <a:spcPts val="451"/>
              </a:spcBef>
              <a:buClr>
                <a:srgbClr val="fd2b4e"/>
              </a:buClr>
              <a:buSzPct val="50000"/>
              <a:buFont typeface="Wingdings" charset="2"/>
              <a:buChar char=""/>
              <a:tabLst>
                <a:tab algn="l" pos="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0640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0640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219320" y="350496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Chapter 15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ime Series Forecasting and Index Numbe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47920" y="838080"/>
            <a:ext cx="7010280" cy="20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tatistics for Manag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Using Microsoft</a:t>
            </a:r>
            <a:r>
              <a:rPr b="0" lang="en-US" sz="4000" spc="-1" strike="noStrike" baseline="30000">
                <a:solidFill>
                  <a:srgbClr val="3333cc"/>
                </a:solidFill>
                <a:latin typeface="Arial"/>
                <a:ea typeface="Arial"/>
              </a:rPr>
              <a:t>®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 Excel</a:t>
            </a:r>
            <a:r>
              <a:rPr b="0" lang="en-US" sz="41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41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4</a:t>
            </a:r>
            <a:r>
              <a:rPr b="0" lang="en-US" sz="3600" spc="-1" strike="noStrike" baseline="30000">
                <a:solidFill>
                  <a:srgbClr val="3333cc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 Ed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B0F182-D05E-46CA-A2D8-91FAAD03E3F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yclical Componen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8077320" cy="22669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Long-ter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ave-like pattern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-7 year cy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occur but may vary in 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measured peak to peak or trough to tr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1976040" y="4267080"/>
            <a:ext cx="4680" cy="1982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981080" y="6248520"/>
            <a:ext cx="5475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3809880"/>
            <a:ext cx="1069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828800" y="5486400"/>
            <a:ext cx="304920" cy="3049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895480" y="4952880"/>
            <a:ext cx="304920" cy="3049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791320" y="5410080"/>
            <a:ext cx="304560" cy="3049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934320" y="4191120"/>
            <a:ext cx="304560" cy="30456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225000">
            <a:off x="3351240" y="3962520"/>
            <a:ext cx="3735360" cy="390240"/>
          </a:xfrm>
          <a:custGeom>
            <a:avLst/>
            <a:gdLst/>
            <a:ahLst/>
            <a:rect l="l" t="t" r="r" b="b"/>
            <a:pathLst>
              <a:path w="1285" h="246">
                <a:moveTo>
                  <a:pt x="1284" y="54"/>
                </a:moveTo>
                <a:lnTo>
                  <a:pt x="1273" y="27"/>
                </a:lnTo>
                <a:lnTo>
                  <a:pt x="1247" y="9"/>
                </a:lnTo>
                <a:lnTo>
                  <a:pt x="1210" y="0"/>
                </a:lnTo>
                <a:lnTo>
                  <a:pt x="1167" y="0"/>
                </a:lnTo>
                <a:lnTo>
                  <a:pt x="727" y="62"/>
                </a:lnTo>
                <a:lnTo>
                  <a:pt x="684" y="62"/>
                </a:lnTo>
                <a:lnTo>
                  <a:pt x="647" y="54"/>
                </a:lnTo>
                <a:lnTo>
                  <a:pt x="621" y="36"/>
                </a:lnTo>
                <a:lnTo>
                  <a:pt x="610" y="9"/>
                </a:lnTo>
                <a:lnTo>
                  <a:pt x="605" y="40"/>
                </a:lnTo>
                <a:lnTo>
                  <a:pt x="589" y="67"/>
                </a:lnTo>
                <a:lnTo>
                  <a:pt x="557" y="85"/>
                </a:lnTo>
                <a:lnTo>
                  <a:pt x="514" y="98"/>
                </a:lnTo>
                <a:lnTo>
                  <a:pt x="95" y="156"/>
                </a:lnTo>
                <a:lnTo>
                  <a:pt x="53" y="169"/>
                </a:lnTo>
                <a:lnTo>
                  <a:pt x="26" y="187"/>
                </a:lnTo>
                <a:lnTo>
                  <a:pt x="5" y="214"/>
                </a:lnTo>
                <a:lnTo>
                  <a:pt x="0" y="245"/>
                </a:lnTo>
              </a:path>
            </a:pathLst>
          </a:custGeom>
          <a:noFill/>
          <a:ln cap="rnd"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95680" y="3429000"/>
            <a:ext cx="1371600" cy="45468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200400" y="4648320"/>
            <a:ext cx="304920" cy="30456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581280" y="4952880"/>
            <a:ext cx="304920" cy="3049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62520" y="4800600"/>
            <a:ext cx="304560" cy="3049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267080" y="5257800"/>
            <a:ext cx="304920" cy="3049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648320" y="5105520"/>
            <a:ext cx="304560" cy="30456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029200" y="5334120"/>
            <a:ext cx="304920" cy="30456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410080" y="5562720"/>
            <a:ext cx="304920" cy="30456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019920" y="4952880"/>
            <a:ext cx="304560" cy="3049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248520" y="4419720"/>
            <a:ext cx="304560" cy="30456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629400" y="4495680"/>
            <a:ext cx="304920" cy="3049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438280" y="4876920"/>
            <a:ext cx="304920" cy="30456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209680" y="5257800"/>
            <a:ext cx="304920" cy="3049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4495680"/>
            <a:ext cx="304920" cy="3049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696080" y="4572000"/>
            <a:ext cx="304920" cy="3049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934320" y="6172200"/>
            <a:ext cx="1069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352680" y="43434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086600" y="43434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B6994-ED8E-418D-9288-A5BABC0624E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Irregular Componen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predictable, random, “residual” fluct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 to random variations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id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unusu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repe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5791320" y="4267080"/>
          <a:ext cx="2527200" cy="12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4267080"/>
                    <a:ext cx="2527200" cy="12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BFC0B-EAC9-42F2-BC74-6AD431E9711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Multiplicative Time-Series Model for Annual Data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primarily for economic foreca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erved value in time series is the product of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00200" y="4572000"/>
            <a:ext cx="662940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Trend value at year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Cyclical value at year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3200400" y="3429000"/>
                <a:ext cx="256536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29A58-0C39-40AF-900C-69E6DC5C4A4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Multiplicative Time-Series Model with a Seasonal Componen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primarily for economic foreca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consideration of seasonal var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00200" y="4572000"/>
            <a:ext cx="6629400" cy="19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Trend value at time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Seasonal value at time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Cyclical value at time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2736720" y="3200400"/>
                <a:ext cx="348804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D489F-66F7-474D-8C2C-0EB9C26A9CB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Multiplicative Time-Series Model for Business Application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primarily for business foreca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consideration of seasonal var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600200" y="4572000"/>
            <a:ext cx="662940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Trend value at time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Seasonal value at time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3220920" y="3200400"/>
                <a:ext cx="251964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90FC6-E2F0-4279-B9BE-4064E8C057E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38088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Smoothing th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Annual Time Serie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848720" cy="38102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ing averages are not used by forecasting software as they are to simplist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most all software for inventory control use exponential smo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3535E-9690-4D19-BDC0-76E4B1A25A0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Exponential Smoothing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42640" y="1905120"/>
            <a:ext cx="7467480" cy="39448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weigh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oving a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11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s decline expon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11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recent observation weighted m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11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for smoothing and short term forecasting (often one period into the futu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7FB60-FD03-4E03-A427-47B3ABC36D8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Exponential Smoothing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eight (smoothing coefficient) is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jectively determined or calculated from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from 0 to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er W gives more smoothing, larger W gives quicker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53160" y="121932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6BDFD-D5B8-4131-BCAB-7E68DC240A6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Exponential Smoothing Model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90720" y="1523880"/>
            <a:ext cx="7162560" cy="502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xponential smoothing mod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3603600" y="2155680"/>
                <a:ext cx="1744560" cy="7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2021040" y="3048120"/>
                <a:ext cx="499572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W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W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5" name=""/>
          <p:cNvSpPr/>
          <p:nvPr/>
        </p:nvSpPr>
        <p:spPr>
          <a:xfrm>
            <a:off x="1523880" y="4495680"/>
            <a:ext cx="6553440" cy="20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exponentially smoothed value for period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exponentially smoothed value alre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d for period i -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observed value in period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 = weight (smoothing coefficient), 0 &lt; W &lt;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530400" y="3940200"/>
            <a:ext cx="24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i = 2, 3, 4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6BC38-3292-4E01-8D99-23E7DF7CFBA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Exponential Smoothing Exampl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72464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we use weight W = 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228600" y="1981080"/>
          <a:ext cx="6934320" cy="4637160"/>
        </p:xfrm>
        <a:graphic>
          <a:graphicData uri="http://schemas.openxmlformats.org/drawingml/2006/table">
            <a:tbl>
              <a:tblPr/>
              <a:tblGrid>
                <a:gridCol w="1143000"/>
                <a:gridCol w="1066680"/>
                <a:gridCol w="1447920"/>
                <a:gridCol w="3276720"/>
              </a:tblGrid>
              <a:tr h="95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me Period (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Y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ecast from prior period (E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-1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onentially Smoothed Value for this period (E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</a:tr>
              <a:tr h="3713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tc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c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.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.2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4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.5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.8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.8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.6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c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2)(40)+(.8)(23)=26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2)(25)+(.8)(26.4)=26.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2)(27)+(.8)(26.12)=26.2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2)(32)+(.8)(26.296)=27.4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2)(48)+(.8)(27.437)=31.5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2)(48)+(.8)(31.549)=31.8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2)(33)+(.8)(31.840)=32.8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2)(37)+(.8)(32.872)=33.6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2)(50)+(.8)(33.697)=36.9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c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7473960" y="4572000"/>
                <a:ext cx="147636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1" name=""/>
          <p:cNvSpPr/>
          <p:nvPr/>
        </p:nvSpPr>
        <p:spPr>
          <a:xfrm>
            <a:off x="7772400" y="2895480"/>
            <a:ext cx="144792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ince no prior information ex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095880" y="31240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3352320" y="3200400"/>
            <a:ext cx="2057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3429000" y="3505320"/>
            <a:ext cx="2666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ED167-321C-443D-9024-34B128DCC6E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hapter Goal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458200" cy="40406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fter completing this chapter, you should be able t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2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he components present in a time s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2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and implement basic forecasting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12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trend-based forecasting models, including linear and nonlinear trend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12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 and interpret basic index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28201-3EB4-441C-B095-8A5AAD4DB4C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Sales vs. Smoothed Sale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819520" cy="457200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uctuations have been smoot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NOTE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the smoothed value in this case is generally a little low, since the trend is upward sloping and the weighting factor is only .2. A model with trend is need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3352680" y="2438280"/>
          <a:ext cx="5591160" cy="3368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2438280"/>
                    <a:ext cx="5591160" cy="336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F2EE8-EC2D-4118-BC62-442B9208484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Forecasting Time Period i + 1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38080" y="1752480"/>
            <a:ext cx="769644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smoothed value in the current period (i) is used as the forecast value for next period (i + 1) 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computations presented represent the basic exponential smoothing model.  Software packages use a model with trend and seasonal adjustment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3276720" y="3200400"/>
                <a:ext cx="197316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9A7FD-B579-496D-A9AD-5326D1C51B4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7644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Exponential Smoothing in Excel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5867280" cy="25909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ools / data analysis /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onential smoo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“damping factor” is  (1 - 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4800600" y="4191120"/>
            <a:ext cx="3800520" cy="224784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2971800" y="4038480"/>
            <a:ext cx="1752480" cy="838440"/>
          </a:xfrm>
          <a:custGeom>
            <a:avLst/>
            <a:gdLst/>
            <a:ahLst/>
            <a:rect l="l" t="t" r="r" b="b"/>
            <a:pathLst>
              <a:path w="1104" h="432">
                <a:moveTo>
                  <a:pt x="0" y="0"/>
                </a:moveTo>
                <a:lnTo>
                  <a:pt x="0" y="432"/>
                </a:lnTo>
                <a:lnTo>
                  <a:pt x="1104" y="432"/>
                </a:lnTo>
              </a:path>
            </a:pathLst>
          </a:custGeom>
          <a:noFill/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724280" y="4724280"/>
            <a:ext cx="114300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27531-E6B3-4970-A9DF-8BFC9CBD520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rend-Based Forecasting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8077320" cy="5032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79000"/>
          </a:bodyPr>
          <a:p>
            <a:pPr marL="253080" indent="-25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imate a trend line using simple linear regression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1066680" y="2819520"/>
          <a:ext cx="3200400" cy="3795480"/>
        </p:xfrm>
        <a:graphic>
          <a:graphicData uri="http://schemas.openxmlformats.org/drawingml/2006/table">
            <a:tbl>
              <a:tblPr/>
              <a:tblGrid>
                <a:gridCol w="914400"/>
                <a:gridCol w="1219320"/>
                <a:gridCol w="1066680"/>
              </a:tblGrid>
              <a:tr h="119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d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es (Y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</a:tr>
              <a:tr h="267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5029200" y="5029200"/>
                <a:ext cx="293364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1" name=""/>
          <p:cNvSpPr/>
          <p:nvPr/>
        </p:nvSpPr>
        <p:spPr>
          <a:xfrm>
            <a:off x="4495680" y="2971800"/>
            <a:ext cx="42674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ded (X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s the independent var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es as the 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41A51-8B89-4B10-8C65-6156AC6E455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rend-Based Forecasting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809520" y="1868400"/>
            <a:ext cx="4038840" cy="5032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inear trend model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3476520" y="2895480"/>
          <a:ext cx="5515200" cy="3733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76520" y="2895480"/>
                    <a:ext cx="551520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6" name=""/>
          <p:cNvGraphicFramePr/>
          <p:nvPr/>
        </p:nvGraphicFramePr>
        <p:xfrm>
          <a:off x="228600" y="1905120"/>
          <a:ext cx="3200400" cy="3905280"/>
        </p:xfrm>
        <a:graphic>
          <a:graphicData uri="http://schemas.openxmlformats.org/drawingml/2006/table">
            <a:tbl>
              <a:tblPr/>
              <a:tblGrid>
                <a:gridCol w="914400"/>
                <a:gridCol w="1219320"/>
                <a:gridCol w="1066680"/>
              </a:tblGrid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ded (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es (Y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</a:tr>
              <a:tr h="267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4460760" y="2209680"/>
                <a:ext cx="386244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05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14 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8" name=""/>
          <p:cNvSpPr/>
          <p:nvPr/>
        </p:nvSpPr>
        <p:spPr>
          <a:xfrm>
            <a:off x="7629120" y="121932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B72B4-6DE2-4A28-8E02-B87022C6EDF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rend-Based Forecasting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428640" y="15238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ecast for time period 6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228600" y="2057400"/>
          <a:ext cx="2895480" cy="3651120"/>
        </p:xfrm>
        <a:graphic>
          <a:graphicData uri="http://schemas.openxmlformats.org/drawingml/2006/table">
            <a:tbl>
              <a:tblPr/>
              <a:tblGrid>
                <a:gridCol w="826920"/>
                <a:gridCol w="1103400"/>
                <a:gridCol w="965160"/>
              </a:tblGrid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Period (X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es (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</a:tr>
              <a:tr h="260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?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</a:tbl>
          </a:graphicData>
        </a:graphic>
      </p:graphicFrame>
      <p:sp>
        <p:nvSpPr>
          <p:cNvPr id="292" name=""/>
          <p:cNvSpPr/>
          <p:nvPr/>
        </p:nvSpPr>
        <p:spPr>
          <a:xfrm>
            <a:off x="7629120" y="121932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467480" y="1752480"/>
            <a:ext cx="609840" cy="381240"/>
          </a:xfrm>
          <a:custGeom>
            <a:avLst/>
            <a:gdLst/>
            <a:ahLst/>
            <a:rect l="l" t="t" r="r" b="b"/>
            <a:pathLst>
              <a:path w="384" h="339">
                <a:moveTo>
                  <a:pt x="0" y="0"/>
                </a:moveTo>
                <a:lnTo>
                  <a:pt x="384" y="0"/>
                </a:lnTo>
                <a:lnTo>
                  <a:pt x="383" y="339"/>
                </a:lnTo>
              </a:path>
            </a:pathLst>
          </a:custGeom>
          <a:noFill/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638680" y="3124080"/>
            <a:ext cx="7621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3476520" y="2895480"/>
          <a:ext cx="5515200" cy="3733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76520" y="2895480"/>
                    <a:ext cx="551520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"/>
          <p:cNvSpPr/>
          <p:nvPr/>
        </p:nvSpPr>
        <p:spPr>
          <a:xfrm>
            <a:off x="8096400" y="3746520"/>
            <a:ext cx="674640" cy="230040"/>
          </a:xfrm>
          <a:custGeom>
            <a:avLst/>
            <a:gdLst/>
            <a:ahLst/>
            <a:rect l="l" t="t" r="r" b="b"/>
            <a:pathLst>
              <a:path w="425" h="145">
                <a:moveTo>
                  <a:pt x="0" y="145"/>
                </a:moveTo>
                <a:lnTo>
                  <a:pt x="425" y="0"/>
                </a:lnTo>
              </a:path>
            </a:pathLst>
          </a:cu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686800" y="36576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38640" y="3755880"/>
            <a:ext cx="4572000" cy="1882800"/>
          </a:xfrm>
          <a:custGeom>
            <a:avLst/>
            <a:gdLst/>
            <a:ahLst/>
            <a:rect l="l" t="t" r="r" b="b"/>
            <a:pathLst>
              <a:path w="2953" h="1138">
                <a:moveTo>
                  <a:pt x="2953" y="1138"/>
                </a:moveTo>
                <a:lnTo>
                  <a:pt x="2953" y="0"/>
                </a:lnTo>
                <a:lnTo>
                  <a:pt x="0" y="7"/>
                </a:lnTo>
              </a:path>
            </a:pathLst>
          </a:cu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638680" y="3048120"/>
            <a:ext cx="129564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4295880" y="2044800"/>
                <a:ext cx="408600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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05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14 </m:t>
                        </m:r>
                        <m:r>
                          <m:t xml:space="preserve">(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</m:t>
                        </m:r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2" name=""/>
          <p:cNvSpPr/>
          <p:nvPr/>
        </p:nvSpPr>
        <p:spPr>
          <a:xfrm>
            <a:off x="4952880" y="2590920"/>
            <a:ext cx="1143000" cy="609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FB5DD-2138-4898-BDB0-381AA04BB7A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Nonlinear Trend Forecasting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88000"/>
          </a:bodyPr>
          <a:p>
            <a:pPr marL="282240" indent="-282240">
              <a:lnSpc>
                <a:spcPct val="105000"/>
              </a:lnSpc>
              <a:spcBef>
                <a:spcPts val="13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nonlinear regression model should be used when the time series exhibits a nonlinear tr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2240" indent="-282240">
              <a:lnSpc>
                <a:spcPct val="105000"/>
              </a:lnSpc>
              <a:spcBef>
                <a:spcPts val="13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Quadratic form is one type of a nonlinear model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2240" indent="0">
              <a:lnSpc>
                <a:spcPct val="105000"/>
              </a:lnSpc>
              <a:spcBef>
                <a:spcPts val="13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2240" indent="-282240">
              <a:lnSpc>
                <a:spcPct val="105000"/>
              </a:lnSpc>
              <a:spcBef>
                <a:spcPts val="13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quadratic model was presented in chapter 14 the only difference is the independent variable is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2240" indent="-282240">
              <a:lnSpc>
                <a:spcPct val="105000"/>
              </a:lnSpc>
              <a:spcBef>
                <a:spcPts val="13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re r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d standard erro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to that of linear model to see if this is an improv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2240" indent="-282240">
              <a:lnSpc>
                <a:spcPct val="105000"/>
              </a:lnSpc>
              <a:spcBef>
                <a:spcPts val="13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an try other functional forms to get best f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1905120" y="3276720"/>
                <a:ext cx="396216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D3500-0027-4F06-8E4E-EC759A31009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78680" cy="10670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Quadratic Model Workshee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1600200" y="1600200"/>
          <a:ext cx="6354720" cy="3581280"/>
        </p:xfrm>
        <a:graphic>
          <a:graphicData uri="http://schemas.openxmlformats.org/drawingml/2006/table">
            <a:tbl>
              <a:tblPr/>
              <a:tblGrid>
                <a:gridCol w="1554120"/>
                <a:gridCol w="1585800"/>
                <a:gridCol w="1660680"/>
                <a:gridCol w="1554120"/>
              </a:tblGrid>
              <a:tr h="51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, 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ded 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ded X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8" name=""/>
          <p:cNvSpPr/>
          <p:nvPr/>
        </p:nvSpPr>
        <p:spPr>
          <a:xfrm>
            <a:off x="1611360" y="5351400"/>
            <a:ext cx="6400800" cy="1156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 a multiple regression wit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s dependent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in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7819B-C661-4846-9617-E9CE6CE4961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he Quadratic Trend Model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685800" y="1752480"/>
                <a:ext cx="80010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071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79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89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311" name=""/>
          <p:cNvGraphicFramePr/>
          <p:nvPr/>
        </p:nvGraphicFramePr>
        <p:xfrm>
          <a:off x="147600" y="2971800"/>
          <a:ext cx="3357720" cy="108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00" y="2971800"/>
                    <a:ext cx="3357720" cy="108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"/>
          <p:cNvSpPr/>
          <p:nvPr/>
        </p:nvSpPr>
        <p:spPr>
          <a:xfrm>
            <a:off x="228600" y="2514600"/>
            <a:ext cx="2816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xcel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3352680" y="3200400"/>
          <a:ext cx="5562720" cy="2884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2680" y="3200400"/>
                    <a:ext cx="5562720" cy="28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" name=""/>
          <p:cNvSpPr/>
          <p:nvPr/>
        </p:nvSpPr>
        <p:spPr>
          <a:xfrm>
            <a:off x="7924680" y="3657600"/>
            <a:ext cx="674640" cy="306360"/>
          </a:xfrm>
          <a:custGeom>
            <a:avLst/>
            <a:gdLst/>
            <a:ahLst/>
            <a:rect l="l" t="t" r="r" b="b"/>
            <a:pathLst>
              <a:path w="425" h="145">
                <a:moveTo>
                  <a:pt x="0" y="145"/>
                </a:moveTo>
                <a:lnTo>
                  <a:pt x="425" y="0"/>
                </a:lnTo>
              </a:path>
            </a:pathLst>
          </a:cu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610480" y="350532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5E405-0B9E-4F68-87B1-74581CEC7D6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Exponential Trend Model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25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d exponential forecasting equ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3048120" y="1549440"/>
                <a:ext cx="22860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β</m:t>
                        </m:r>
                      </m:e>
                      <m:sub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sub>
                    </m:sSub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21" name=""/>
          <p:cNvSpPr/>
          <p:nvPr/>
        </p:nvSpPr>
        <p:spPr>
          <a:xfrm>
            <a:off x="1066680" y="42670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nterpre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1371600" y="4800600"/>
                <a:ext cx="185112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β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3" name=""/>
          <p:cNvSpPr/>
          <p:nvPr/>
        </p:nvSpPr>
        <p:spPr>
          <a:xfrm>
            <a:off x="3276720" y="4876920"/>
            <a:ext cx="525780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estimated annual comp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rate (in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1295280" y="2971800"/>
          <a:ext cx="190512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971800"/>
                    <a:ext cx="19051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6" name=""/>
          <p:cNvGraphicFramePr/>
          <p:nvPr/>
        </p:nvGraphicFramePr>
        <p:xfrm>
          <a:off x="3809880" y="2971800"/>
          <a:ext cx="441972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9880" y="2971800"/>
                    <a:ext cx="44197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2550E-0423-4BA1-BD88-7786CEBB09A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he Importance of Forecasting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9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overnments forecast unemployment, interest rates, and expected revenues from income taxes for policy purpo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9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rketing executives forecast demand, sales, and consumer preferences for strategic plan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9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llege administrators forecast enrollments to plan for facilities and for faculty recruit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9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tail stores forecast demand to control inventory levels, hire employees and provide trai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13667-1DDA-48F6-BAA8-9455A13AD2C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78680" cy="10670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Exponential Trend Workshee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1600200" y="1600200"/>
          <a:ext cx="6354720" cy="3581280"/>
        </p:xfrm>
        <a:graphic>
          <a:graphicData uri="http://schemas.openxmlformats.org/drawingml/2006/table">
            <a:tbl>
              <a:tblPr/>
              <a:tblGrid>
                <a:gridCol w="1554120"/>
                <a:gridCol w="1585800"/>
                <a:gridCol w="1660680"/>
                <a:gridCol w="1554120"/>
              </a:tblGrid>
              <a:tr h="51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, 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ded 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 Y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0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0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7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9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4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1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0" name=""/>
          <p:cNvSpPr/>
          <p:nvPr/>
        </p:nvSpPr>
        <p:spPr>
          <a:xfrm>
            <a:off x="990720" y="5410080"/>
            <a:ext cx="7608600" cy="942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 a simple linear regression with Log Y as dependent and Cod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 as indepen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24770-273D-4ABC-8754-32FE390C052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he Exponential Trend Model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4491000" y="2662200"/>
          <a:ext cx="36846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1000" y="2662200"/>
                    <a:ext cx="36846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4" name=""/>
          <p:cNvGraphicFramePr/>
          <p:nvPr/>
        </p:nvGraphicFramePr>
        <p:xfrm>
          <a:off x="609480" y="1676520"/>
          <a:ext cx="259092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1676520"/>
                    <a:ext cx="25909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"/>
          <p:cNvSpPr/>
          <p:nvPr/>
        </p:nvSpPr>
        <p:spPr>
          <a:xfrm>
            <a:off x="3430440" y="1754280"/>
            <a:ext cx="911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343400" y="4038480"/>
            <a:ext cx="4187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xcel Output of Values in lo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4464000" y="4491000"/>
          <a:ext cx="4343400" cy="9558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64000" y="4491000"/>
                    <a:ext cx="4343400" cy="9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"/>
          <p:cNvGraphicFramePr/>
          <p:nvPr/>
        </p:nvGraphicFramePr>
        <p:xfrm>
          <a:off x="4267080" y="1676520"/>
          <a:ext cx="4419720" cy="838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67080" y="1676520"/>
                    <a:ext cx="44197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>
            <a:off x="2514600" y="2666880"/>
            <a:ext cx="1219320" cy="3276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33520" y="2666880"/>
            <a:ext cx="1981080" cy="327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34960" y="2744640"/>
            <a:ext cx="3351240" cy="31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ear  Code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Sales (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9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0            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1           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2           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3            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4            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5            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20640" y="3200400"/>
            <a:ext cx="3036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 flipV="1">
            <a:off x="6310440" y="2350800"/>
            <a:ext cx="242640" cy="7729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8077320" y="2437920"/>
            <a:ext cx="228600" cy="1219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4511520" y="5562720"/>
                <a:ext cx="4235760" cy="92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49" name=""/>
          <p:cNvSpPr/>
          <p:nvPr/>
        </p:nvSpPr>
        <p:spPr>
          <a:xfrm>
            <a:off x="1219320" y="60958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tilog=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00C22-D518-4F92-BF58-9524931C8EF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rend-Based Forecasting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276360" y="1868400"/>
            <a:ext cx="5257800" cy="4939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ecast for time period 6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228600" y="2057400"/>
          <a:ext cx="2895480" cy="3651120"/>
        </p:xfrm>
        <a:graphic>
          <a:graphicData uri="http://schemas.openxmlformats.org/drawingml/2006/table">
            <a:tbl>
              <a:tblPr/>
              <a:tblGrid>
                <a:gridCol w="826920"/>
                <a:gridCol w="1103400"/>
                <a:gridCol w="965160"/>
              </a:tblGrid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Period (X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es (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</a:tr>
              <a:tr h="260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?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</a:tbl>
          </a:graphicData>
        </a:graphic>
      </p:graphicFrame>
      <p:sp>
        <p:nvSpPr>
          <p:cNvPr id="353" name=""/>
          <p:cNvSpPr/>
          <p:nvPr/>
        </p:nvSpPr>
        <p:spPr>
          <a:xfrm>
            <a:off x="7629120" y="121932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638680" y="3124080"/>
            <a:ext cx="7621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3629160" y="2819520"/>
          <a:ext cx="5514840" cy="3733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29160" y="2819520"/>
                    <a:ext cx="5514840" cy="37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7" name=""/>
          <p:cNvSpPr/>
          <p:nvPr/>
        </p:nvSpPr>
        <p:spPr>
          <a:xfrm>
            <a:off x="8229600" y="3809880"/>
            <a:ext cx="533520" cy="304920"/>
          </a:xfrm>
          <a:custGeom>
            <a:avLst/>
            <a:gdLst/>
            <a:ahLst/>
            <a:rect l="l" t="t" r="r" b="b"/>
            <a:pathLst>
              <a:path w="425" h="145">
                <a:moveTo>
                  <a:pt x="0" y="145"/>
                </a:moveTo>
                <a:lnTo>
                  <a:pt x="425" y="0"/>
                </a:lnTo>
              </a:path>
            </a:pathLst>
          </a:cu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8686800" y="37339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267080" y="3276720"/>
            <a:ext cx="4572000" cy="2187360"/>
          </a:xfrm>
          <a:custGeom>
            <a:avLst/>
            <a:gdLst/>
            <a:ahLst/>
            <a:rect l="l" t="t" r="r" b="b"/>
            <a:pathLst>
              <a:path w="2953" h="1138">
                <a:moveTo>
                  <a:pt x="2953" y="1138"/>
                </a:moveTo>
                <a:lnTo>
                  <a:pt x="2953" y="0"/>
                </a:lnTo>
                <a:lnTo>
                  <a:pt x="0" y="7"/>
                </a:lnTo>
              </a:path>
            </a:pathLst>
          </a:cu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4419720" y="2349360"/>
                <a:ext cx="335268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1" name=""/>
          <p:cNvSpPr/>
          <p:nvPr/>
        </p:nvSpPr>
        <p:spPr>
          <a:xfrm flipH="1">
            <a:off x="6705720" y="2209680"/>
            <a:ext cx="304560" cy="228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196F7-18F4-4A07-8C8B-7F8BCBF113E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5945040" cy="12193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he Least Square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rend Models in PHSta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7720" y="213336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Stat | Simple Linear Regres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linear trend and exponential trend models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Stat | Multiple Regress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quadratic trend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o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| Data Analysis… | Regress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ither simple or multiple reg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44F07-60FB-4120-BF07-BA803050DCB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990720" y="4724280"/>
                <a:ext cx="7013520" cy="6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-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-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⋯</m:t>
                    </m:r>
                    <m:r>
                      <m:rPr>
                        <m:lit/>
                        <m:nor/>
                      </m:rPr>
                      <m:t xml:space="preserve">+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-p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Autoregressive Modeling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for foreca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s advantage of autocorre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st order - correlation between consecutive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nd order - correlation between values 2 periods a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Autoregressive mode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86600" y="5562720"/>
            <a:ext cx="19018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H="1" flipV="1">
            <a:off x="7772400" y="5181480"/>
            <a:ext cx="76320" cy="457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69318-F269-4D0C-BAE0-4EC155DFC46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50560" y="38088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Autoregressive Model: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209680" y="3505320"/>
            <a:ext cx="13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4495680" y="3809880"/>
          <a:ext cx="2070360" cy="17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3809880"/>
                    <a:ext cx="2070360" cy="17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3" name=""/>
          <p:cNvSpPr/>
          <p:nvPr/>
        </p:nvSpPr>
        <p:spPr>
          <a:xfrm>
            <a:off x="2057400" y="3124080"/>
            <a:ext cx="1676520" cy="29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ear    Uni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7        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8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9        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0         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4        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58640" y="1676520"/>
            <a:ext cx="8380440" cy="1186200"/>
          </a:xfrm>
          <a:prstGeom prst="rect">
            <a:avLst/>
          </a:pr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ffice Concept Corp. has acquired a number of office units (in thousands of square feet) over the last eight years. Develop the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econd ord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utoregressive mod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A3958-0F63-40E6-B24A-D4B32D83D47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4952880" y="1676520"/>
            <a:ext cx="3810240" cy="3352680"/>
          </a:xfrm>
          <a:prstGeom prst="rect">
            <a:avLst/>
          </a:prstGeom>
          <a:solidFill>
            <a:srgbClr val="c7da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50560" y="38088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Autoregressive Model: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Example Solution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954680" y="1677960"/>
            <a:ext cx="4035240" cy="34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ea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-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--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4        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9         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3        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0         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2        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1         2          3      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2          2        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4          2      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6          4      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029200" y="2133720"/>
            <a:ext cx="3646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533520" y="4038480"/>
          <a:ext cx="3670200" cy="1603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038480"/>
                    <a:ext cx="3670200" cy="16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1" name=""/>
          <p:cNvSpPr/>
          <p:nvPr/>
        </p:nvSpPr>
        <p:spPr>
          <a:xfrm>
            <a:off x="457200" y="3657600"/>
            <a:ext cx="2360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cel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58640" y="1703520"/>
            <a:ext cx="3808440" cy="188784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velop the 2nd order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Excel to estimate a regression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419720" y="5257800"/>
            <a:ext cx="0" cy="5335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895480" y="4952880"/>
            <a:ext cx="0" cy="838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874800" y="5791320"/>
                <a:ext cx="45687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8125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9375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86" name=""/>
          <p:cNvSpPr/>
          <p:nvPr/>
        </p:nvSpPr>
        <p:spPr>
          <a:xfrm>
            <a:off x="2895480" y="4952880"/>
            <a:ext cx="2286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038480" y="5257800"/>
            <a:ext cx="3812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019920" y="2895480"/>
            <a:ext cx="2438280" cy="2133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3962160" y="312408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400800" y="533412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endent 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 flipV="1">
            <a:off x="6400800" y="5105520"/>
            <a:ext cx="7632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F667B-1677-43A7-971B-F9332A9767A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078680" cy="12193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Autoregressive Model Example: Forecasting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65000" y="1905120"/>
            <a:ext cx="7769520" cy="97236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Use the second order model to forecast number of units for 2005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4540320" y="5037120"/>
          <a:ext cx="366480" cy="56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40320" y="5037120"/>
                    <a:ext cx="36648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1676520" y="3429000"/>
                <a:ext cx="6324480" cy="24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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8125Y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375Y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05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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125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04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75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03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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125</m:t>
                        </m:r>
                        <m:r>
                          <m:t xml:space="preserve">(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75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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9F183-E171-467B-8340-77EA311AC03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Autoregressive Modeling Step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hoose p   (note that  df = n – 2p –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Form a series of “lagged predictor”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,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, … 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-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Use Excel to run regression model using all p  variab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Test significance of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ull hypothesis rejected, this model is sel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ull hypothesis not rejected, decrease p by 1 and 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23E7A-BF83-4B51-BA50-CAF4BE87A79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Selecting A Forecasting Model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142640" y="1752480"/>
            <a:ext cx="76201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at a Scatter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appropriate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a residual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for pattern or dire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at the adjusted 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 residual error using M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simplest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ciple of parsimo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1F8F2-6244-4BAA-8863-5F187BF3447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600200" y="4267080"/>
            <a:ext cx="7162920" cy="53352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00200" y="4800600"/>
            <a:ext cx="7162920" cy="533520"/>
          </a:xfrm>
          <a:prstGeom prst="rect">
            <a:avLst/>
          </a:prstGeom>
          <a:solidFill>
            <a:srgbClr val="c7da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ime-Series Data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6000"/>
          </a:bodyPr>
          <a:p>
            <a:pPr marL="307800" indent="-307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data obtained at regular time interv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7800" indent="-307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ime intervals can be annually, quarterly, daily, hourl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7800" indent="-307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78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ar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99   2000   2001   2002  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78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75.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74.2    78.5    79.7    80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780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95E71-6275-4112-B786-32F61F4689D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Residual Analysi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09480" y="1685880"/>
            <a:ext cx="0" cy="1819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609480" y="3503160"/>
            <a:ext cx="30481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800600" y="1685880"/>
            <a:ext cx="0" cy="1819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4800600" y="3503160"/>
            <a:ext cx="3809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09480" y="4200480"/>
            <a:ext cx="0" cy="1819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4191120"/>
            <a:ext cx="0" cy="1828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609480" y="6017760"/>
            <a:ext cx="31244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4876920" y="6008400"/>
            <a:ext cx="3809880" cy="11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068480" y="3583080"/>
            <a:ext cx="2055600" cy="393840"/>
          </a:xfrm>
          <a:prstGeom prst="rect">
            <a:avLst/>
          </a:pr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ndom err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11280" y="6095880"/>
            <a:ext cx="3122640" cy="393840"/>
          </a:xfrm>
          <a:prstGeom prst="rect">
            <a:avLst/>
          </a:pr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end not accounted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572000" y="3581280"/>
            <a:ext cx="4341960" cy="393840"/>
          </a:xfrm>
          <a:prstGeom prst="rect">
            <a:avLst/>
          </a:pr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clical effects not accounted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572000" y="6095880"/>
            <a:ext cx="4419720" cy="393840"/>
          </a:xfrm>
          <a:prstGeom prst="rect">
            <a:avLst/>
          </a:pr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asonal effects not accounted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735360" y="3276720"/>
            <a:ext cx="45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8688240" y="3200400"/>
            <a:ext cx="454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811680" y="5715000"/>
            <a:ext cx="45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8688240" y="5638680"/>
            <a:ext cx="454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28600" y="1447920"/>
            <a:ext cx="5302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419720" y="1447920"/>
            <a:ext cx="5302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28600" y="3886200"/>
            <a:ext cx="5302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495680" y="3963960"/>
            <a:ext cx="5302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96960" y="2513160"/>
            <a:ext cx="29606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28600" y="2209680"/>
            <a:ext cx="5302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419720" y="2209680"/>
            <a:ext cx="5302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888080" y="2513160"/>
            <a:ext cx="37224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96960" y="4951440"/>
            <a:ext cx="2808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964040" y="5018040"/>
            <a:ext cx="36464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28600" y="4648320"/>
            <a:ext cx="5302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495680" y="4714920"/>
            <a:ext cx="5302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990720" y="21319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295280" y="22845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28177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828800" y="21319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209680" y="25891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590920" y="19796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819520" y="30463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048120" y="22082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705720" y="20559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410080" y="22845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029200" y="20559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715000" y="26654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095880" y="28177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238880" y="18273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43800" y="20559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838080" y="41133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447920" y="44179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219320" y="41893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828800" y="46465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133720" y="49514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743200" y="54086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362320" y="51800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048120" y="55609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019920" y="54752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410080" y="45608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105520" y="48657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4800600" y="52466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715000" y="49417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248520" y="49417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553080" y="44085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858000" y="49417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7162920" y="53989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7391520" y="49417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620120" y="45608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8001000" y="48657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924680" y="22082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8229600" y="25131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8305920" y="53229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477120" y="27417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D0B5F-2AA1-47C6-8417-1C4086F223B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Measuring Error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8077320" cy="950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the model that gives the smallest measuring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066680" y="2743200"/>
            <a:ext cx="78487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 Absolute Deviation (M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sensitive to extre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80880" y="2590920"/>
            <a:ext cx="8229600" cy="0"/>
          </a:xfrm>
          <a:prstGeom prst="line">
            <a:avLst/>
          </a:prstGeom>
          <a:ln w="1908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2819520" y="3429000"/>
                <a:ext cx="2433600" cy="12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D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2B647-910F-4E07-A048-F29A0541CB3C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Principal of Parsimony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294920" y="1752480"/>
            <a:ext cx="71629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 two or more models provide a good fit for th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the simplest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st model typ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st-squares 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st-squares quadra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st order autoregress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complex typ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nd and 3rd order autoregress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st-squares expon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B7619-4A8E-416B-BE54-D568452CF1C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Index Number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x numbers allow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rela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parisons over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x numbers are reported relative to a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Base Period 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40000"/>
              </a:lnSpc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 period index = 100 by 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for an individual item or measu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0CA30-9EDF-4054-87C6-F5B228AA99F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Simple Price Index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7620120" cy="671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5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Price Inde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0" name=""/>
              <p:cNvSpPr txBox="1"/>
              <p:nvPr/>
            </p:nvSpPr>
            <p:spPr>
              <a:xfrm>
                <a:off x="2738520" y="2590920"/>
                <a:ext cx="3209760" cy="14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ase</m:t>
                            </m:r>
                          </m:sub>
                        </m:sSub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1" name=""/>
          <p:cNvSpPr/>
          <p:nvPr/>
        </p:nvSpPr>
        <p:spPr>
          <a:xfrm>
            <a:off x="1676520" y="4343400"/>
            <a:ext cx="67816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 fontScale="91000"/>
          </a:bodyPr>
          <a:p>
            <a:pPr marL="291600" indent="-291600">
              <a:spcBef>
                <a:spcPts val="119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119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index number for year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119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price for year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119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ba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price for the bas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B4F68-78EE-4F88-B5D3-B7922C52962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Index Numbers: Exampl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990720" y="1523880"/>
            <a:ext cx="7619760" cy="6098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rplane ticket prices from 1995 to 2003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4495680" y="2971800"/>
                <a:ext cx="430704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996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996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00</m:t>
                            </m:r>
                          </m:sub>
                        </m:sSub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8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0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85" name=""/>
          <p:cNvGraphicFramePr/>
          <p:nvPr/>
        </p:nvGraphicFramePr>
        <p:xfrm>
          <a:off x="380880" y="2106720"/>
          <a:ext cx="3657600" cy="4065480"/>
        </p:xfrm>
        <a:graphic>
          <a:graphicData uri="http://schemas.openxmlformats.org/drawingml/2006/table">
            <a:tbl>
              <a:tblPr/>
              <a:tblGrid>
                <a:gridCol w="998640"/>
                <a:gridCol w="1363680"/>
                <a:gridCol w="129528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dex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(base year = 200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7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8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</a:tr>
            </a:tbl>
          </a:graphicData>
        </a:graphic>
      </p:graphicFrame>
      <p:sp>
        <p:nvSpPr>
          <p:cNvPr id="486" name=""/>
          <p:cNvSpPr/>
          <p:nvPr/>
        </p:nvSpPr>
        <p:spPr>
          <a:xfrm>
            <a:off x="4038480" y="341316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4495680" y="4419720"/>
                <a:ext cx="445140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0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0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00</m:t>
                            </m:r>
                          </m:sub>
                        </m:sSub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0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4495680" y="5562720"/>
                <a:ext cx="445140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0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0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00</m:t>
                            </m:r>
                          </m:sub>
                        </m:sSub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8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0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9" name=""/>
          <p:cNvSpPr/>
          <p:nvPr/>
        </p:nvSpPr>
        <p:spPr>
          <a:xfrm>
            <a:off x="4038480" y="486108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038480" y="600408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0" y="4038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 Ye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C1557-9C99-4394-AF84-406BA43649D8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800600" y="190512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ces in 1996 were 90% of base year pr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ces in 2000 were 100% of base year prices (by definition, since 2000 is the base y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ces in 2003 were 120% of base year pr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Index Numbers: Interpretation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304920" y="1981080"/>
                <a:ext cx="4306680" cy="8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996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996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00</m:t>
                            </m:r>
                          </m:sub>
                        </m:sSub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8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0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304920" y="3352680"/>
                <a:ext cx="4451400" cy="8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0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0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00</m:t>
                            </m:r>
                          </m:sub>
                        </m:sSub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0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"/>
              <p:cNvSpPr txBox="1"/>
              <p:nvPr/>
            </p:nvSpPr>
            <p:spPr>
              <a:xfrm>
                <a:off x="304920" y="5276880"/>
                <a:ext cx="445140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0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0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00</m:t>
                            </m:r>
                          </m:sub>
                        </m:sSub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8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0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FB210-3983-403D-BA6E-6115A74EAE78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6324480" y="51055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Aggregate Price Indexe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238880" cy="9223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ggregate 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used to measure the rate of change from a base period for a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group of i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429000" y="2590920"/>
            <a:ext cx="2133720" cy="82548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gregate Price Inde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295280" y="3962520"/>
            <a:ext cx="1828800" cy="119124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Unweight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gregate price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257800" y="3962520"/>
            <a:ext cx="2057400" cy="119124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Weight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gregate price inde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894120" y="5638680"/>
            <a:ext cx="2195280" cy="45972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aasc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484680" y="5638680"/>
            <a:ext cx="2416320" cy="45972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Laspey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209680" y="3733920"/>
            <a:ext cx="4114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209680" y="3733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419720" y="34290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324480" y="3733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952880" y="5410080"/>
            <a:ext cx="2743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952880" y="54100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696080" y="54100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B7282-F3C0-4FC8-AE90-4E01A7385C38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Unweighted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Aggregate Price Index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143000" y="1600200"/>
            <a:ext cx="7620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weighted aggregate price index formul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4" name=""/>
              <p:cNvSpPr txBox="1"/>
              <p:nvPr/>
            </p:nvSpPr>
            <p:spPr>
              <a:xfrm>
                <a:off x="1905120" y="2286000"/>
                <a:ext cx="2743200" cy="19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U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</m:e>
                        </m:nary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5" name=""/>
          <p:cNvSpPr/>
          <p:nvPr/>
        </p:nvSpPr>
        <p:spPr>
          <a:xfrm>
            <a:off x="2057400" y="4397400"/>
            <a:ext cx="67057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 fontScale="99000"/>
          </a:bodyPr>
          <a:p>
            <a:pPr marL="317520" indent="-317520">
              <a:lnSpc>
                <a:spcPct val="180000"/>
              </a:lnSpc>
              <a:spcBef>
                <a:spcPts val="10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unweighted price index at time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lnSpc>
                <a:spcPct val="180000"/>
              </a:lnSpc>
              <a:spcBef>
                <a:spcPts val="10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sum of the prices for the group of items at time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lnSpc>
                <a:spcPct val="180000"/>
              </a:lnSpc>
              <a:spcBef>
                <a:spcPts val="10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sum of the prices for the group of items in time perio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6" name=""/>
              <p:cNvSpPr txBox="1"/>
              <p:nvPr/>
            </p:nvSpPr>
            <p:spPr>
              <a:xfrm>
                <a:off x="1371600" y="4549680"/>
                <a:ext cx="744480" cy="192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17" name=""/>
          <p:cNvSpPr/>
          <p:nvPr/>
        </p:nvSpPr>
        <p:spPr>
          <a:xfrm>
            <a:off x="5410080" y="2666880"/>
            <a:ext cx="28195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= i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 = time peri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 = total number of i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EAAE8-9D88-4C3D-ACD7-4ECEB7EF1140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3047760" y="5714640"/>
            <a:ext cx="5181480" cy="68580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txBody>
          <a:bodyPr lIns="85320" rIns="85320" tIns="42840" bIns="42840" anchor="t">
            <a:normAutofit fontScale="98000"/>
          </a:bodyPr>
          <a:p>
            <a:pPr marL="314280" indent="-3142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weighted total expenses were 18.8% higher in 2004 than in 2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9" name=""/>
          <p:cNvGraphicFramePr/>
          <p:nvPr/>
        </p:nvGraphicFramePr>
        <p:xfrm>
          <a:off x="457200" y="1600200"/>
          <a:ext cx="8305920" cy="2890800"/>
        </p:xfrm>
        <a:graphic>
          <a:graphicData uri="http://schemas.openxmlformats.org/drawingml/2006/table">
            <a:tbl>
              <a:tblPr/>
              <a:tblGrid>
                <a:gridCol w="934920"/>
                <a:gridCol w="1884600"/>
                <a:gridCol w="1143000"/>
                <a:gridCol w="1371600"/>
                <a:gridCol w="1131840"/>
                <a:gridCol w="1839960"/>
              </a:tblGrid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tomobile Expense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hly Amounts ($)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</a:tr>
              <a:tr h="734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ase pay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pa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Index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2001=1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7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8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</a:tbl>
          </a:graphicData>
        </a:graphic>
      </p:graphicFrame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Unweighted Aggregate Price Index: Exampl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2727360" y="4572000"/>
                <a:ext cx="572940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0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004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001</m:t>
                                </m:r>
                              </m:sub>
                            </m:sSub>
                          </m:e>
                        </m:nary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45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 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152280" y="5167440"/>
            <a:ext cx="2059200" cy="81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E98AC-CC6F-4565-AD9B-7BD7B0B58666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ime Series Plo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3048120"/>
            <a:ext cx="3657600" cy="3200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ertical axis measures the variable of intere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orizontal axis corresponds to the time peri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579840" y="3051000"/>
          <a:ext cx="5294160" cy="3397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9840" y="3051000"/>
                    <a:ext cx="5294160" cy="33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1371600" y="1600200"/>
            <a:ext cx="7238880" cy="106884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time-series pl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two-dimensional plot of time series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BB3C8-8C3D-4349-A48E-C2ABF962380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Weighted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Aggregate Price Indexe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876920" y="1676520"/>
            <a:ext cx="3276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5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asche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4800600" y="2301840"/>
                <a:ext cx="3833640" cy="23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  <m:sSubSup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  <m:sSubSup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</m:e>
                        </m:nary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6" name=""/>
          <p:cNvSpPr/>
          <p:nvPr/>
        </p:nvSpPr>
        <p:spPr>
          <a:xfrm>
            <a:off x="0" y="4800600"/>
            <a:ext cx="8839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0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weights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based 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: weights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based on cur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eriod 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ntities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              perio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quanti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 algn="ctr">
              <a:spcBef>
                <a:spcPts val="10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price in time period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 algn="ctr">
              <a:spcBef>
                <a:spcPts val="10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price in perio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457200" y="2295360"/>
                <a:ext cx="3886200" cy="23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  <m:sSubSup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  <m:sSubSup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</m:e>
                        </m:nary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8" name=""/>
          <p:cNvSpPr/>
          <p:nvPr/>
        </p:nvSpPr>
        <p:spPr>
          <a:xfrm>
            <a:off x="533520" y="167652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5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peyres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09480" y="4800600"/>
            <a:ext cx="350532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876920" y="4800600"/>
            <a:ext cx="35812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609480" y="4800600"/>
                <a:ext cx="5335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4898880" y="4800600"/>
                <a:ext cx="4874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2895480" y="5791320"/>
                <a:ext cx="42552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"/>
              <p:cNvSpPr txBox="1"/>
              <p:nvPr/>
            </p:nvSpPr>
            <p:spPr>
              <a:xfrm>
                <a:off x="2895480" y="6172200"/>
                <a:ext cx="47160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32561-5574-42A3-A1CA-555C2A10D2E9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ommon Price Indexe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752480" y="167652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20000"/>
              </a:lnSpc>
              <a:spcBef>
                <a:spcPts val="15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umer Price Index (CP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20000"/>
              </a:lnSpc>
              <a:spcBef>
                <a:spcPts val="15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r Price Index (PP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20000"/>
              </a:lnSpc>
              <a:spcBef>
                <a:spcPts val="15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ck Market Inde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11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 Jones Industrial A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11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&amp;P 500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11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SDAQ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1F935-F14B-4A43-938E-D413D8CBAF8A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150560" y="38088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Pitfalls in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ime-Series Analysi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ing the mechanism that governs the time series behavior in the past will still hold in the 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mechanical extrapolation of the trend to forecast the future without considering personal judgments, business experiences, changing technologies, and habit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648AD-1455-4BD0-8230-82F02D74E143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hapter Summary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cussed the importance of forecas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dressed component factors of the time-series mod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formed Exponential smoothing of a data se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cribed least square trend fitting and forecas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ar, quadratic and exponential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dressed autoregressive mode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cribed procedure for choosing appropriate mode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cussed pitfalls concerning time-series analy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uted and interpreted basic index numb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CDE08-1C05-41A9-B6BF-6D064F03951A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ime-Series Component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29000" y="1828800"/>
            <a:ext cx="2209680" cy="515520"/>
          </a:xfrm>
          <a:prstGeom prst="rect">
            <a:avLst/>
          </a:prstGeom>
          <a:solidFill>
            <a:srgbClr val="c7da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me-S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24280" y="2819520"/>
            <a:ext cx="1903680" cy="82044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clical 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934320" y="2819520"/>
            <a:ext cx="1904760" cy="82044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regular 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2819520"/>
            <a:ext cx="1904760" cy="82044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nd 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14600" y="2819520"/>
            <a:ext cx="1905120" cy="82044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sonal 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0" y="23623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295280" y="2590920"/>
            <a:ext cx="655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95280" y="259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429000" y="259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638680" y="259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848720" y="259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A3801-60CC-49D1-94B1-BF2B9788669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rot="20940000">
            <a:off x="6783120" y="3827520"/>
            <a:ext cx="1904760" cy="393840"/>
          </a:xfrm>
          <a:prstGeom prst="rect">
            <a:avLst/>
          </a:pr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pward tr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rend Componen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868040"/>
            <a:ext cx="7620120" cy="18464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-run increase or decrease over ti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overall upward or downward move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taken over a long period of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98760" y="4049640"/>
            <a:ext cx="0" cy="2351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00200" y="6402240"/>
            <a:ext cx="5475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3813120"/>
            <a:ext cx="1067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781680" y="6324480"/>
            <a:ext cx="990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600200" y="4262040"/>
            <a:ext cx="6000840" cy="14526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523880" y="4651200"/>
            <a:ext cx="1141560" cy="1446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828880" y="4737240"/>
            <a:ext cx="979560" cy="674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3886200" y="4346640"/>
            <a:ext cx="1141560" cy="1217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114880" y="4432320"/>
            <a:ext cx="979560" cy="97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6095880" y="3279600"/>
            <a:ext cx="1141560" cy="2208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446120" y="5945040"/>
            <a:ext cx="304920" cy="3049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89120" y="4497480"/>
            <a:ext cx="304920" cy="30456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732120" y="5411880"/>
            <a:ext cx="304920" cy="30456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875120" y="4192560"/>
            <a:ext cx="304920" cy="3049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18120" y="5335560"/>
            <a:ext cx="304920" cy="3049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085160" y="3125880"/>
            <a:ext cx="304560" cy="30456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C4EC0-F44A-4912-B11D-7F56B3E83DE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914400" y="5791320"/>
            <a:ext cx="2743200" cy="393840"/>
          </a:xfrm>
          <a:prstGeom prst="rect">
            <a:avLst/>
          </a:pr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wnward linear tr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rend Componen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7720" y="1752120"/>
            <a:ext cx="7620120" cy="13431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nd can be upward or down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nd can be linear or non-lin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14400" y="3581280"/>
            <a:ext cx="0" cy="198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14400" y="5562720"/>
            <a:ext cx="2819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" y="3200400"/>
            <a:ext cx="990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81280" y="5486400"/>
            <a:ext cx="990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14400" y="3962520"/>
            <a:ext cx="2209680" cy="1523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90720" y="3886200"/>
            <a:ext cx="304560" cy="3049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295280" y="4419720"/>
            <a:ext cx="304920" cy="30456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14600" y="5029200"/>
            <a:ext cx="304920" cy="3049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0" y="4495680"/>
            <a:ext cx="304920" cy="3049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648320"/>
            <a:ext cx="304920" cy="30456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971800" y="5181480"/>
            <a:ext cx="304920" cy="3049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5791320"/>
            <a:ext cx="2895840" cy="393840"/>
          </a:xfrm>
          <a:prstGeom prst="rect">
            <a:avLst/>
          </a:pr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ward nonlinear tr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3581280"/>
            <a:ext cx="0" cy="198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562720"/>
            <a:ext cx="2819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724280" y="3200400"/>
            <a:ext cx="990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848720" y="5486400"/>
            <a:ext cx="990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410080" y="5181480"/>
            <a:ext cx="304920" cy="3049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562720" y="4724280"/>
            <a:ext cx="304560" cy="3049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705720" y="4191120"/>
            <a:ext cx="304560" cy="30456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248520" y="3962520"/>
            <a:ext cx="304560" cy="30456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019920" y="4495680"/>
            <a:ext cx="304560" cy="3049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086600" y="3809880"/>
            <a:ext cx="304920" cy="3049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467480" y="4114800"/>
            <a:ext cx="304920" cy="3049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486400" y="4038480"/>
            <a:ext cx="2286000" cy="1371600"/>
          </a:xfrm>
          <a:custGeom>
            <a:avLst/>
            <a:gdLst/>
            <a:ahLst/>
            <a:rect l="l" t="t" r="r" b="b"/>
            <a:pathLst>
              <a:path w="1440" h="864">
                <a:moveTo>
                  <a:pt x="0" y="864"/>
                </a:moveTo>
                <a:cubicBezTo>
                  <a:pt x="216" y="576"/>
                  <a:pt x="432" y="288"/>
                  <a:pt x="672" y="144"/>
                </a:cubicBezTo>
                <a:cubicBezTo>
                  <a:pt x="912" y="0"/>
                  <a:pt x="1176" y="0"/>
                  <a:pt x="1440" y="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19040" y="122400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FB90D-6416-44F2-9831-2EC83BB7341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Seasonal Componen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8077320" cy="1595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hort-ter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gular wave-like patt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erved within 1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monthly or quart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905120" y="3592440"/>
            <a:ext cx="0" cy="2427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905120" y="6019920"/>
            <a:ext cx="5562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15840" y="3430440"/>
            <a:ext cx="1444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76720" y="6019920"/>
            <a:ext cx="4492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(Quarterly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1906560" y="4268520"/>
            <a:ext cx="1217520" cy="1369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1840" y="4268880"/>
            <a:ext cx="1065240" cy="912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272120" y="3962160"/>
            <a:ext cx="1060200" cy="1212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335560" y="3887640"/>
            <a:ext cx="1065240" cy="1141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6478560" y="2972880"/>
            <a:ext cx="1065240" cy="2055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52480" y="5562720"/>
            <a:ext cx="304920" cy="30456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971800" y="4114800"/>
            <a:ext cx="304920" cy="3049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038480" y="4952880"/>
            <a:ext cx="304920" cy="3049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181480" y="3809880"/>
            <a:ext cx="304920" cy="3049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324480" y="4876920"/>
            <a:ext cx="304920" cy="30456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391520" y="2895480"/>
            <a:ext cx="304560" cy="3049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5400000">
            <a:off x="4647960" y="1981080"/>
            <a:ext cx="304920" cy="3504960"/>
          </a:xfrm>
          <a:custGeom>
            <a:avLst/>
            <a:gdLst>
              <a:gd name="textAreaLeft" fmla="*/ 194760 w 304920"/>
              <a:gd name="textAreaRight" fmla="*/ 305280 w 304920"/>
              <a:gd name="textAreaTop" fmla="*/ 91080 h 3504960"/>
              <a:gd name="textAreaBottom" fmla="*/ 3413880 h 3504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7240" y="472428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810960" y="549756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800960" y="4419720"/>
            <a:ext cx="114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250680" y="541008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3124080" y="4495320"/>
            <a:ext cx="0" cy="304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4191120" y="5333760"/>
            <a:ext cx="0" cy="2286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5334120" y="4191120"/>
            <a:ext cx="0" cy="3045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477120" y="5257440"/>
            <a:ext cx="0" cy="2286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57B30-F359-4C39-87F7-736D1C23EEB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6T03:14:02Z</dcterms:created>
  <dc:creator>Dirk Yandell</dc:creator>
  <dc:description/>
  <dc:language>en-US</dc:language>
  <cp:lastModifiedBy>HP Pavilion</cp:lastModifiedBy>
  <cp:lastPrinted>1998-11-22T23:37:53Z</cp:lastPrinted>
  <dcterms:modified xsi:type="dcterms:W3CDTF">2004-11-05T18:08:09Z</dcterms:modified>
  <cp:revision>47</cp:revision>
  <dc:subject>Chapter 15</dc:subject>
  <dc:title>Statistics for Managers Using Microsoft Excel, 4/e</dc:title>
</cp:coreProperties>
</file>